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12.wmf" ContentType="image/x-wmf"/>
  <Override PartName="/ppt/media/image4.png" ContentType="image/png"/>
  <Override PartName="/ppt/media/image18.jpeg" ContentType="image/jpeg"/>
  <Override PartName="/ppt/media/image7.png" ContentType="image/png"/>
  <Override PartName="/ppt/media/image17.png" ContentType="image/png"/>
  <Override PartName="/ppt/media/image16.png" ContentType="image/png"/>
  <Override PartName="/ppt/media/image15.png" ContentType="image/png"/>
  <Override PartName="/ppt/media/image1.png" ContentType="image/png"/>
  <Override PartName="/ppt/media/image14.wmf" ContentType="image/x-wmf"/>
  <Override PartName="/ppt/media/image6.png" ContentType="image/png"/>
  <Override PartName="/ppt/media/image10.wmf" ContentType="image/x-wmf"/>
  <Override PartName="/ppt/media/image2.png" ContentType="image/png"/>
  <Override PartName="/ppt/media/image11.wmf" ContentType="image/x-wmf"/>
  <Override PartName="/ppt/media/image3.png" ContentType="image/png"/>
  <Override PartName="/ppt/media/image8.png" ContentType="image/png"/>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907588"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04611-D46B-465F-9123-37BC071194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57" name="PlaceHolder 2"/>
          <p:cNvSpPr>
            <a:spLocks noGrp="1"/>
          </p:cNvSpPr>
          <p:nvPr>
            <p:ph/>
          </p:nvPr>
        </p:nvSpPr>
        <p:spPr>
          <a:xfrm>
            <a:off x="1625400" y="1523520"/>
            <a:ext cx="82342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3"/>
          <p:cNvSpPr>
            <a:spLocks noGrp="1"/>
          </p:cNvSpPr>
          <p:nvPr>
            <p:ph/>
          </p:nvPr>
        </p:nvSpPr>
        <p:spPr>
          <a:xfrm>
            <a:off x="1625400" y="3986640"/>
            <a:ext cx="82342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3ACCA-671B-45A2-9AD6-00621A73B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60" name="PlaceHolder 2"/>
          <p:cNvSpPr>
            <a:spLocks noGrp="1"/>
          </p:cNvSpPr>
          <p:nvPr>
            <p:ph/>
          </p:nvPr>
        </p:nvSpPr>
        <p:spPr>
          <a:xfrm>
            <a:off x="1625400" y="1523520"/>
            <a:ext cx="401832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5844960" y="1523520"/>
            <a:ext cx="401832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1625400" y="3986640"/>
            <a:ext cx="401832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5"/>
          <p:cNvSpPr>
            <a:spLocks noGrp="1"/>
          </p:cNvSpPr>
          <p:nvPr>
            <p:ph/>
          </p:nvPr>
        </p:nvSpPr>
        <p:spPr>
          <a:xfrm>
            <a:off x="5844960" y="3986640"/>
            <a:ext cx="401832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30FCC-269D-4648-A4AF-099C7C68BA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65" name="PlaceHolder 2"/>
          <p:cNvSpPr>
            <a:spLocks noGrp="1"/>
          </p:cNvSpPr>
          <p:nvPr>
            <p:ph/>
          </p:nvPr>
        </p:nvSpPr>
        <p:spPr>
          <a:xfrm>
            <a:off x="1625400" y="1523520"/>
            <a:ext cx="265104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3"/>
          <p:cNvSpPr>
            <a:spLocks noGrp="1"/>
          </p:cNvSpPr>
          <p:nvPr>
            <p:ph/>
          </p:nvPr>
        </p:nvSpPr>
        <p:spPr>
          <a:xfrm>
            <a:off x="4409280" y="1523520"/>
            <a:ext cx="265104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4"/>
          <p:cNvSpPr>
            <a:spLocks noGrp="1"/>
          </p:cNvSpPr>
          <p:nvPr>
            <p:ph/>
          </p:nvPr>
        </p:nvSpPr>
        <p:spPr>
          <a:xfrm>
            <a:off x="7193520" y="1523520"/>
            <a:ext cx="265104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5"/>
          <p:cNvSpPr>
            <a:spLocks noGrp="1"/>
          </p:cNvSpPr>
          <p:nvPr>
            <p:ph/>
          </p:nvPr>
        </p:nvSpPr>
        <p:spPr>
          <a:xfrm>
            <a:off x="1625400" y="3986640"/>
            <a:ext cx="265104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6"/>
          <p:cNvSpPr>
            <a:spLocks noGrp="1"/>
          </p:cNvSpPr>
          <p:nvPr>
            <p:ph/>
          </p:nvPr>
        </p:nvSpPr>
        <p:spPr>
          <a:xfrm>
            <a:off x="4409280" y="3986640"/>
            <a:ext cx="265104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7"/>
          <p:cNvSpPr>
            <a:spLocks noGrp="1"/>
          </p:cNvSpPr>
          <p:nvPr>
            <p:ph/>
          </p:nvPr>
        </p:nvSpPr>
        <p:spPr>
          <a:xfrm>
            <a:off x="7193520" y="3986640"/>
            <a:ext cx="265104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FF3B53-BB05-4B4A-93A7-3EFD683DD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C6345C-91FF-4C69-BFFD-652D172C7A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140" name="PlaceHolder 2"/>
          <p:cNvSpPr>
            <a:spLocks noGrp="1"/>
          </p:cNvSpPr>
          <p:nvPr>
            <p:ph type="subTitle"/>
          </p:nvPr>
        </p:nvSpPr>
        <p:spPr>
          <a:xfrm>
            <a:off x="1625400" y="1523520"/>
            <a:ext cx="8234280" cy="47149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16CF6D-AA40-4F53-8AF4-6E53625E58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142" name="PlaceHolder 2"/>
          <p:cNvSpPr>
            <a:spLocks noGrp="1"/>
          </p:cNvSpPr>
          <p:nvPr>
            <p:ph/>
          </p:nvPr>
        </p:nvSpPr>
        <p:spPr>
          <a:xfrm>
            <a:off x="1625400" y="1523520"/>
            <a:ext cx="823428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C80D82-A857-4550-9AFA-F53275159D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144" name="PlaceHolder 2"/>
          <p:cNvSpPr>
            <a:spLocks noGrp="1"/>
          </p:cNvSpPr>
          <p:nvPr>
            <p:ph/>
          </p:nvPr>
        </p:nvSpPr>
        <p:spPr>
          <a:xfrm>
            <a:off x="1625400" y="1523520"/>
            <a:ext cx="401832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5" name="PlaceHolder 3"/>
          <p:cNvSpPr>
            <a:spLocks noGrp="1"/>
          </p:cNvSpPr>
          <p:nvPr>
            <p:ph/>
          </p:nvPr>
        </p:nvSpPr>
        <p:spPr>
          <a:xfrm>
            <a:off x="5844960" y="1523520"/>
            <a:ext cx="401832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B9022-D0A5-4CE6-A751-0EF37E6EE8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700831-B1D9-4036-94EE-D7B32F1E6C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625400" y="228240"/>
            <a:ext cx="8234280" cy="5299560"/>
          </a:xfrm>
          <a:prstGeom prst="rect">
            <a:avLst/>
          </a:prstGeom>
          <a:noFill/>
          <a:ln w="0">
            <a:noFill/>
          </a:ln>
        </p:spPr>
        <p:txBody>
          <a:bodyPr lIns="0" rIns="0" tIns="0" bIns="0" anchor="ctr">
            <a:noAutofit/>
          </a:bodyPr>
          <a:p>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F52C2-A0C0-420A-89CC-CB621F9DEA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149" name="PlaceHolder 2"/>
          <p:cNvSpPr>
            <a:spLocks noGrp="1"/>
          </p:cNvSpPr>
          <p:nvPr>
            <p:ph/>
          </p:nvPr>
        </p:nvSpPr>
        <p:spPr>
          <a:xfrm>
            <a:off x="1625400" y="1523520"/>
            <a:ext cx="401832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0" name="PlaceHolder 3"/>
          <p:cNvSpPr>
            <a:spLocks noGrp="1"/>
          </p:cNvSpPr>
          <p:nvPr>
            <p:ph/>
          </p:nvPr>
        </p:nvSpPr>
        <p:spPr>
          <a:xfrm>
            <a:off x="5844960" y="1523520"/>
            <a:ext cx="401832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1" name="PlaceHolder 4"/>
          <p:cNvSpPr>
            <a:spLocks noGrp="1"/>
          </p:cNvSpPr>
          <p:nvPr>
            <p:ph/>
          </p:nvPr>
        </p:nvSpPr>
        <p:spPr>
          <a:xfrm>
            <a:off x="1625400" y="3986640"/>
            <a:ext cx="401832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F6E9B-FB0D-4A99-9C5C-C1F05B774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36" name="PlaceHolder 2"/>
          <p:cNvSpPr>
            <a:spLocks noGrp="1"/>
          </p:cNvSpPr>
          <p:nvPr>
            <p:ph type="subTitle"/>
          </p:nvPr>
        </p:nvSpPr>
        <p:spPr>
          <a:xfrm>
            <a:off x="1625400" y="1523520"/>
            <a:ext cx="8234280" cy="47149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CB6C9-5B5F-4082-A6EF-D6450CB06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153" name="PlaceHolder 2"/>
          <p:cNvSpPr>
            <a:spLocks noGrp="1"/>
          </p:cNvSpPr>
          <p:nvPr>
            <p:ph/>
          </p:nvPr>
        </p:nvSpPr>
        <p:spPr>
          <a:xfrm>
            <a:off x="1625400" y="1523520"/>
            <a:ext cx="401832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4" name="PlaceHolder 3"/>
          <p:cNvSpPr>
            <a:spLocks noGrp="1"/>
          </p:cNvSpPr>
          <p:nvPr>
            <p:ph/>
          </p:nvPr>
        </p:nvSpPr>
        <p:spPr>
          <a:xfrm>
            <a:off x="5844960" y="1523520"/>
            <a:ext cx="401832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5" name="PlaceHolder 4"/>
          <p:cNvSpPr>
            <a:spLocks noGrp="1"/>
          </p:cNvSpPr>
          <p:nvPr>
            <p:ph/>
          </p:nvPr>
        </p:nvSpPr>
        <p:spPr>
          <a:xfrm>
            <a:off x="5844960" y="3986640"/>
            <a:ext cx="401832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D8C9E-2E88-4908-BD7B-3A26C25E7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157" name="PlaceHolder 2"/>
          <p:cNvSpPr>
            <a:spLocks noGrp="1"/>
          </p:cNvSpPr>
          <p:nvPr>
            <p:ph/>
          </p:nvPr>
        </p:nvSpPr>
        <p:spPr>
          <a:xfrm>
            <a:off x="1625400" y="1523520"/>
            <a:ext cx="401832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8" name="PlaceHolder 3"/>
          <p:cNvSpPr>
            <a:spLocks noGrp="1"/>
          </p:cNvSpPr>
          <p:nvPr>
            <p:ph/>
          </p:nvPr>
        </p:nvSpPr>
        <p:spPr>
          <a:xfrm>
            <a:off x="5844960" y="1523520"/>
            <a:ext cx="401832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9" name="PlaceHolder 4"/>
          <p:cNvSpPr>
            <a:spLocks noGrp="1"/>
          </p:cNvSpPr>
          <p:nvPr>
            <p:ph/>
          </p:nvPr>
        </p:nvSpPr>
        <p:spPr>
          <a:xfrm>
            <a:off x="1625400" y="3986640"/>
            <a:ext cx="82342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6FA34-53E6-469E-BEF4-5C9DEC22F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161" name="PlaceHolder 2"/>
          <p:cNvSpPr>
            <a:spLocks noGrp="1"/>
          </p:cNvSpPr>
          <p:nvPr>
            <p:ph/>
          </p:nvPr>
        </p:nvSpPr>
        <p:spPr>
          <a:xfrm>
            <a:off x="1625400" y="1523520"/>
            <a:ext cx="82342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2" name="PlaceHolder 3"/>
          <p:cNvSpPr>
            <a:spLocks noGrp="1"/>
          </p:cNvSpPr>
          <p:nvPr>
            <p:ph/>
          </p:nvPr>
        </p:nvSpPr>
        <p:spPr>
          <a:xfrm>
            <a:off x="1625400" y="3986640"/>
            <a:ext cx="82342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80ED62-E57B-459D-8703-417248B4C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164" name="PlaceHolder 2"/>
          <p:cNvSpPr>
            <a:spLocks noGrp="1"/>
          </p:cNvSpPr>
          <p:nvPr>
            <p:ph/>
          </p:nvPr>
        </p:nvSpPr>
        <p:spPr>
          <a:xfrm>
            <a:off x="1625400" y="1523520"/>
            <a:ext cx="401832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5" name="PlaceHolder 3"/>
          <p:cNvSpPr>
            <a:spLocks noGrp="1"/>
          </p:cNvSpPr>
          <p:nvPr>
            <p:ph/>
          </p:nvPr>
        </p:nvSpPr>
        <p:spPr>
          <a:xfrm>
            <a:off x="5844960" y="1523520"/>
            <a:ext cx="401832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6" name="PlaceHolder 4"/>
          <p:cNvSpPr>
            <a:spLocks noGrp="1"/>
          </p:cNvSpPr>
          <p:nvPr>
            <p:ph/>
          </p:nvPr>
        </p:nvSpPr>
        <p:spPr>
          <a:xfrm>
            <a:off x="1625400" y="3986640"/>
            <a:ext cx="401832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7" name="PlaceHolder 5"/>
          <p:cNvSpPr>
            <a:spLocks noGrp="1"/>
          </p:cNvSpPr>
          <p:nvPr>
            <p:ph/>
          </p:nvPr>
        </p:nvSpPr>
        <p:spPr>
          <a:xfrm>
            <a:off x="5844960" y="3986640"/>
            <a:ext cx="401832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AC905D-3051-4C33-A362-4F46C8EE57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169" name="PlaceHolder 2"/>
          <p:cNvSpPr>
            <a:spLocks noGrp="1"/>
          </p:cNvSpPr>
          <p:nvPr>
            <p:ph/>
          </p:nvPr>
        </p:nvSpPr>
        <p:spPr>
          <a:xfrm>
            <a:off x="1625400" y="1523520"/>
            <a:ext cx="265104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0" name="PlaceHolder 3"/>
          <p:cNvSpPr>
            <a:spLocks noGrp="1"/>
          </p:cNvSpPr>
          <p:nvPr>
            <p:ph/>
          </p:nvPr>
        </p:nvSpPr>
        <p:spPr>
          <a:xfrm>
            <a:off x="4409280" y="1523520"/>
            <a:ext cx="265104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1" name="PlaceHolder 4"/>
          <p:cNvSpPr>
            <a:spLocks noGrp="1"/>
          </p:cNvSpPr>
          <p:nvPr>
            <p:ph/>
          </p:nvPr>
        </p:nvSpPr>
        <p:spPr>
          <a:xfrm>
            <a:off x="7193520" y="1523520"/>
            <a:ext cx="265104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2" name="PlaceHolder 5"/>
          <p:cNvSpPr>
            <a:spLocks noGrp="1"/>
          </p:cNvSpPr>
          <p:nvPr>
            <p:ph/>
          </p:nvPr>
        </p:nvSpPr>
        <p:spPr>
          <a:xfrm>
            <a:off x="1625400" y="3986640"/>
            <a:ext cx="265104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3" name="PlaceHolder 6"/>
          <p:cNvSpPr>
            <a:spLocks noGrp="1"/>
          </p:cNvSpPr>
          <p:nvPr>
            <p:ph/>
          </p:nvPr>
        </p:nvSpPr>
        <p:spPr>
          <a:xfrm>
            <a:off x="4409280" y="3986640"/>
            <a:ext cx="265104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4" name="PlaceHolder 7"/>
          <p:cNvSpPr>
            <a:spLocks noGrp="1"/>
          </p:cNvSpPr>
          <p:nvPr>
            <p:ph/>
          </p:nvPr>
        </p:nvSpPr>
        <p:spPr>
          <a:xfrm>
            <a:off x="7193520" y="3986640"/>
            <a:ext cx="265104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2350D0-0AFA-425F-998E-2C60BD31A1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38" name="PlaceHolder 2"/>
          <p:cNvSpPr>
            <a:spLocks noGrp="1"/>
          </p:cNvSpPr>
          <p:nvPr>
            <p:ph/>
          </p:nvPr>
        </p:nvSpPr>
        <p:spPr>
          <a:xfrm>
            <a:off x="1625400" y="1523520"/>
            <a:ext cx="823428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D45E7-E7F9-404A-AF4F-303117E48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40" name="PlaceHolder 2"/>
          <p:cNvSpPr>
            <a:spLocks noGrp="1"/>
          </p:cNvSpPr>
          <p:nvPr>
            <p:ph/>
          </p:nvPr>
        </p:nvSpPr>
        <p:spPr>
          <a:xfrm>
            <a:off x="1625400" y="1523520"/>
            <a:ext cx="401832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3"/>
          <p:cNvSpPr>
            <a:spLocks noGrp="1"/>
          </p:cNvSpPr>
          <p:nvPr>
            <p:ph/>
          </p:nvPr>
        </p:nvSpPr>
        <p:spPr>
          <a:xfrm>
            <a:off x="5844960" y="1523520"/>
            <a:ext cx="401832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588DA-1D66-4B3E-8C12-11664A6C8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10553-C80B-4D4B-BF9D-24F75BAF3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25400" y="228240"/>
            <a:ext cx="8234280" cy="5299560"/>
          </a:xfrm>
          <a:prstGeom prst="rect">
            <a:avLst/>
          </a:prstGeom>
          <a:noFill/>
          <a:ln w="0">
            <a:noFill/>
          </a:ln>
        </p:spPr>
        <p:txBody>
          <a:bodyPr lIns="0" rIns="0" tIns="0" bIns="0" anchor="ctr">
            <a:noAutofit/>
          </a:bodyPr>
          <a:p>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9FA48-1D41-439C-AEF8-6767C3859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45" name="PlaceHolder 2"/>
          <p:cNvSpPr>
            <a:spLocks noGrp="1"/>
          </p:cNvSpPr>
          <p:nvPr>
            <p:ph/>
          </p:nvPr>
        </p:nvSpPr>
        <p:spPr>
          <a:xfrm>
            <a:off x="1625400" y="1523520"/>
            <a:ext cx="401832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 name="PlaceHolder 3"/>
          <p:cNvSpPr>
            <a:spLocks noGrp="1"/>
          </p:cNvSpPr>
          <p:nvPr>
            <p:ph/>
          </p:nvPr>
        </p:nvSpPr>
        <p:spPr>
          <a:xfrm>
            <a:off x="5844960" y="1523520"/>
            <a:ext cx="401832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4"/>
          <p:cNvSpPr>
            <a:spLocks noGrp="1"/>
          </p:cNvSpPr>
          <p:nvPr>
            <p:ph/>
          </p:nvPr>
        </p:nvSpPr>
        <p:spPr>
          <a:xfrm>
            <a:off x="1625400" y="3986640"/>
            <a:ext cx="401832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DB192-55E3-4EF0-BD18-87A35AB1D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49" name="PlaceHolder 2"/>
          <p:cNvSpPr>
            <a:spLocks noGrp="1"/>
          </p:cNvSpPr>
          <p:nvPr>
            <p:ph/>
          </p:nvPr>
        </p:nvSpPr>
        <p:spPr>
          <a:xfrm>
            <a:off x="1625400" y="1523520"/>
            <a:ext cx="401832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 name="PlaceHolder 3"/>
          <p:cNvSpPr>
            <a:spLocks noGrp="1"/>
          </p:cNvSpPr>
          <p:nvPr>
            <p:ph/>
          </p:nvPr>
        </p:nvSpPr>
        <p:spPr>
          <a:xfrm>
            <a:off x="5844960" y="1523520"/>
            <a:ext cx="401832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4"/>
          <p:cNvSpPr>
            <a:spLocks noGrp="1"/>
          </p:cNvSpPr>
          <p:nvPr>
            <p:ph/>
          </p:nvPr>
        </p:nvSpPr>
        <p:spPr>
          <a:xfrm>
            <a:off x="5844960" y="3986640"/>
            <a:ext cx="401832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A5614-0B16-4670-8366-F02ED9BD2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53" name="PlaceHolder 2"/>
          <p:cNvSpPr>
            <a:spLocks noGrp="1"/>
          </p:cNvSpPr>
          <p:nvPr>
            <p:ph/>
          </p:nvPr>
        </p:nvSpPr>
        <p:spPr>
          <a:xfrm>
            <a:off x="1625400" y="1523520"/>
            <a:ext cx="401832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 name="PlaceHolder 3"/>
          <p:cNvSpPr>
            <a:spLocks noGrp="1"/>
          </p:cNvSpPr>
          <p:nvPr>
            <p:ph/>
          </p:nvPr>
        </p:nvSpPr>
        <p:spPr>
          <a:xfrm>
            <a:off x="5844960" y="1523520"/>
            <a:ext cx="401832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 name="PlaceHolder 4"/>
          <p:cNvSpPr>
            <a:spLocks noGrp="1"/>
          </p:cNvSpPr>
          <p:nvPr>
            <p:ph/>
          </p:nvPr>
        </p:nvSpPr>
        <p:spPr>
          <a:xfrm>
            <a:off x="1625400" y="3986640"/>
            <a:ext cx="82342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8383C-54E3-4C31-B930-DAFDF8340F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9360"/>
            <a:ext cx="1687320" cy="6878520"/>
            <a:chOff x="0" y="-9360"/>
            <a:chExt cx="1687320" cy="6878520"/>
          </a:xfrm>
        </p:grpSpPr>
        <p:sp>
          <p:nvSpPr>
            <p:cNvPr id="1" name=""/>
            <p:cNvSpPr/>
            <p:nvPr/>
          </p:nvSpPr>
          <p:spPr>
            <a:xfrm>
              <a:off x="779400" y="3414600"/>
              <a:ext cx="19548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 name=""/>
            <p:cNvSpPr/>
            <p:nvPr/>
          </p:nvSpPr>
          <p:spPr>
            <a:xfrm>
              <a:off x="0" y="3414600"/>
              <a:ext cx="38016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 name=""/>
            <p:cNvSpPr/>
            <p:nvPr/>
          </p:nvSpPr>
          <p:spPr>
            <a:xfrm>
              <a:off x="381600" y="3414600"/>
              <a:ext cx="3974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 name=""/>
            <p:cNvSpPr/>
            <p:nvPr/>
          </p:nvSpPr>
          <p:spPr>
            <a:xfrm>
              <a:off x="975240" y="3429000"/>
              <a:ext cx="351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5" name=""/>
            <p:cNvSpPr/>
            <p:nvPr/>
          </p:nvSpPr>
          <p:spPr>
            <a:xfrm>
              <a:off x="381600" y="4184640"/>
              <a:ext cx="59148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381600" y="4616280"/>
              <a:ext cx="59148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 name=""/>
            <p:cNvSpPr/>
            <p:nvPr/>
          </p:nvSpPr>
          <p:spPr>
            <a:xfrm>
              <a:off x="381600" y="5024520"/>
              <a:ext cx="59148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381600" y="5429160"/>
              <a:ext cx="59148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 name=""/>
            <p:cNvSpPr/>
            <p:nvPr/>
          </p:nvSpPr>
          <p:spPr>
            <a:xfrm>
              <a:off x="381600" y="5837400"/>
              <a:ext cx="59148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517680" y="6242040"/>
              <a:ext cx="4557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381600" y="3755880"/>
              <a:ext cx="59148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381600" y="3414600"/>
              <a:ext cx="59508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779400" y="-4680"/>
              <a:ext cx="19548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0" y="-4680"/>
              <a:ext cx="38016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5" name=""/>
            <p:cNvSpPr/>
            <p:nvPr/>
          </p:nvSpPr>
          <p:spPr>
            <a:xfrm>
              <a:off x="381600" y="-4680"/>
              <a:ext cx="3974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975240" y="-4680"/>
              <a:ext cx="351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7" name=""/>
            <p:cNvSpPr/>
            <p:nvPr/>
          </p:nvSpPr>
          <p:spPr>
            <a:xfrm>
              <a:off x="381600" y="789120"/>
              <a:ext cx="59148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381600" y="1197000"/>
              <a:ext cx="59148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 name=""/>
            <p:cNvSpPr/>
            <p:nvPr/>
          </p:nvSpPr>
          <p:spPr>
            <a:xfrm>
              <a:off x="381600" y="1603440"/>
              <a:ext cx="59148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381600" y="2009880"/>
              <a:ext cx="59148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1" name=""/>
            <p:cNvSpPr/>
            <p:nvPr/>
          </p:nvSpPr>
          <p:spPr>
            <a:xfrm>
              <a:off x="381600" y="2416320"/>
              <a:ext cx="59148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376560" y="6632640"/>
              <a:ext cx="60012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381600" y="334800"/>
              <a:ext cx="59148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381600" y="-4680"/>
              <a:ext cx="59508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385200" y="-9360"/>
              <a:ext cx="26460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381600" y="2851200"/>
              <a:ext cx="59148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1326240" y="0"/>
              <a:ext cx="3610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3184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110916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0"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lick to edit the title text format</a:t>
            </a:r>
            <a:endParaRPr b="1" lang="en-US" sz="4400" spc="-1" strike="noStrike">
              <a:solidFill>
                <a:srgbClr val="3333cc"/>
              </a:solidFill>
              <a:latin typeface="Times New Roman"/>
            </a:endParaRPr>
          </a:p>
        </p:txBody>
      </p:sp>
      <p:sp>
        <p:nvSpPr>
          <p:cNvPr id="31" name="PlaceHolder 2"/>
          <p:cNvSpPr>
            <a:spLocks noGrp="1"/>
          </p:cNvSpPr>
          <p:nvPr>
            <p:ph type="body"/>
          </p:nvPr>
        </p:nvSpPr>
        <p:spPr>
          <a:xfrm>
            <a:off x="1625400" y="1523520"/>
            <a:ext cx="823428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2" name="PlaceHolder 3"/>
          <p:cNvSpPr>
            <a:spLocks noGrp="1"/>
          </p:cNvSpPr>
          <p:nvPr>
            <p:ph type="dt" idx="1"/>
          </p:nvPr>
        </p:nvSpPr>
        <p:spPr>
          <a:xfrm>
            <a:off x="1568520" y="6366960"/>
            <a:ext cx="1527120" cy="49068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2A872-A4AF-4484-AAE9-9BBA7FF965AE}" type="datetime">
              <a:rPr b="0" lang="en-US" sz="1400" spc="-1" strike="noStrike">
                <a:solidFill>
                  <a:srgbClr val="333300"/>
                </a:solidFill>
                <a:latin typeface="Times New Roman"/>
              </a:rPr>
              <a:t>07/30/26</a:t>
            </a:fld>
            <a:r>
              <a:rPr b="0" lang="en-US" sz="1400" spc="-1" strike="noStrike">
                <a:solidFill>
                  <a:srgbClr val="333300"/>
                </a:solidFill>
                <a:latin typeface="Times New Roman"/>
              </a:rPr>
              <a:t> </a:t>
            </a:r>
            <a:fld id="{C36B8CEB-060E-451F-8D16-5924F66E070E}" type="datetime12">
              <a:rPr b="0" lang="en-US" sz="1400" spc="-1" strike="noStrike">
                <a:solidFill>
                  <a:srgbClr val="333300"/>
                </a:solidFill>
                <a:latin typeface="Times New Roman"/>
              </a:rPr>
              <a:t>08:27 AM</a:t>
            </a:fld>
            <a:endParaRPr b="0" lang="en-US" sz="1400" spc="-1" strike="noStrike">
              <a:solidFill>
                <a:srgbClr val="000000"/>
              </a:solidFill>
              <a:latin typeface="Times New Roman"/>
            </a:endParaRPr>
          </a:p>
        </p:txBody>
      </p:sp>
      <p:sp>
        <p:nvSpPr>
          <p:cNvPr id="33" name="PlaceHolder 4"/>
          <p:cNvSpPr>
            <a:spLocks noGrp="1"/>
          </p:cNvSpPr>
          <p:nvPr>
            <p:ph type="ftr" idx="2"/>
          </p:nvPr>
        </p:nvSpPr>
        <p:spPr>
          <a:xfrm>
            <a:off x="4597560" y="6342120"/>
            <a:ext cx="2187360" cy="4903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4" name="PlaceHolder 5"/>
          <p:cNvSpPr>
            <a:spLocks noGrp="1"/>
          </p:cNvSpPr>
          <p:nvPr>
            <p:ph type="sldNum" idx="3"/>
          </p:nvPr>
        </p:nvSpPr>
        <p:spPr>
          <a:xfrm>
            <a:off x="8692920" y="6334200"/>
            <a:ext cx="1166760" cy="4982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2C9A7-AFB1-43C8-B976-2954C190C7F1}"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967120" y="1380600"/>
            <a:ext cx="6937200" cy="233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lick to edit the title text format</a:t>
            </a:r>
            <a:endParaRPr b="1" lang="en-US" sz="4400" spc="-1" strike="noStrike">
              <a:solidFill>
                <a:srgbClr val="3333cc"/>
              </a:solidFill>
              <a:latin typeface="Times New Roman"/>
            </a:endParaRPr>
          </a:p>
        </p:txBody>
      </p:sp>
      <p:sp>
        <p:nvSpPr>
          <p:cNvPr id="72" name="PlaceHolder 2"/>
          <p:cNvSpPr>
            <a:spLocks noGrp="1"/>
          </p:cNvSpPr>
          <p:nvPr>
            <p:ph type="dt" idx="4"/>
          </p:nvPr>
        </p:nvSpPr>
        <p:spPr>
          <a:xfrm>
            <a:off x="3053880" y="5410080"/>
            <a:ext cx="206388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B3B0F-24A0-4C0F-9A03-A0D894F4A371}" type="datetime">
              <a:rPr b="1" lang="en-US" sz="3200" spc="-1" strike="noStrike">
                <a:solidFill>
                  <a:srgbClr val="333300"/>
                </a:solidFill>
                <a:latin typeface="Arial"/>
              </a:rPr>
              <a:t>07/30/26</a:t>
            </a:fld>
            <a:r>
              <a:rPr b="1" lang="en-US" sz="3200" spc="-1" strike="noStrike">
                <a:solidFill>
                  <a:srgbClr val="333300"/>
                </a:solidFill>
                <a:latin typeface="Arial"/>
              </a:rPr>
              <a:t> </a:t>
            </a:r>
            <a:fld id="{70B76C7D-ABB6-4401-AC7A-C923137798AF}" type="datetime12">
              <a:rPr b="1" lang="en-US" sz="3200" spc="-1" strike="noStrike">
                <a:solidFill>
                  <a:srgbClr val="333300"/>
                </a:solidFill>
                <a:latin typeface="Arial"/>
              </a:rPr>
              <a:t>08:27 AM</a:t>
            </a:fld>
            <a:endParaRPr b="0" lang="en-US" sz="3200" spc="-1" strike="noStrike">
              <a:solidFill>
                <a:srgbClr val="000000"/>
              </a:solidFill>
              <a:latin typeface="Times New Roman"/>
            </a:endParaRPr>
          </a:p>
        </p:txBody>
      </p:sp>
      <p:sp>
        <p:nvSpPr>
          <p:cNvPr id="73" name="PlaceHolder 3"/>
          <p:cNvSpPr>
            <a:spLocks noGrp="1"/>
          </p:cNvSpPr>
          <p:nvPr>
            <p:ph type="ftr" idx="5"/>
          </p:nvPr>
        </p:nvSpPr>
        <p:spPr>
          <a:xfrm>
            <a:off x="4081320" y="6319800"/>
            <a:ext cx="31370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74" name="PlaceHolder 4"/>
          <p:cNvSpPr>
            <a:spLocks noGrp="1"/>
          </p:cNvSpPr>
          <p:nvPr>
            <p:ph type="sldNum" idx="6"/>
          </p:nvPr>
        </p:nvSpPr>
        <p:spPr>
          <a:xfrm>
            <a:off x="7795800" y="6319800"/>
            <a:ext cx="20638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C3EA2-AB97-4FA2-9AD7-88AAE5E0254B}"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75" name=""/>
          <p:cNvGrpSpPr/>
          <p:nvPr/>
        </p:nvGrpSpPr>
        <p:grpSpPr>
          <a:xfrm>
            <a:off x="0" y="0"/>
            <a:ext cx="1687320" cy="6878520"/>
            <a:chOff x="0" y="0"/>
            <a:chExt cx="1687320" cy="6878520"/>
          </a:xfrm>
        </p:grpSpPr>
        <p:sp>
          <p:nvSpPr>
            <p:cNvPr id="76" name=""/>
            <p:cNvSpPr/>
            <p:nvPr/>
          </p:nvSpPr>
          <p:spPr>
            <a:xfrm>
              <a:off x="779400" y="3423960"/>
              <a:ext cx="19548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7" name=""/>
            <p:cNvSpPr/>
            <p:nvPr/>
          </p:nvSpPr>
          <p:spPr>
            <a:xfrm>
              <a:off x="0" y="3423960"/>
              <a:ext cx="38016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8" name=""/>
            <p:cNvSpPr/>
            <p:nvPr/>
          </p:nvSpPr>
          <p:spPr>
            <a:xfrm>
              <a:off x="381600" y="3423960"/>
              <a:ext cx="3974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9" name=""/>
            <p:cNvSpPr/>
            <p:nvPr/>
          </p:nvSpPr>
          <p:spPr>
            <a:xfrm>
              <a:off x="975240" y="3438360"/>
              <a:ext cx="351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0" name=""/>
            <p:cNvSpPr/>
            <p:nvPr/>
          </p:nvSpPr>
          <p:spPr>
            <a:xfrm>
              <a:off x="381600" y="4194000"/>
              <a:ext cx="59148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1" name=""/>
            <p:cNvSpPr/>
            <p:nvPr/>
          </p:nvSpPr>
          <p:spPr>
            <a:xfrm>
              <a:off x="381600" y="4625640"/>
              <a:ext cx="59148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2" name=""/>
            <p:cNvSpPr/>
            <p:nvPr/>
          </p:nvSpPr>
          <p:spPr>
            <a:xfrm>
              <a:off x="381600" y="5033880"/>
              <a:ext cx="59148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3" name=""/>
            <p:cNvSpPr/>
            <p:nvPr/>
          </p:nvSpPr>
          <p:spPr>
            <a:xfrm>
              <a:off x="381600" y="5438520"/>
              <a:ext cx="59148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4" name=""/>
            <p:cNvSpPr/>
            <p:nvPr/>
          </p:nvSpPr>
          <p:spPr>
            <a:xfrm>
              <a:off x="381600" y="5846760"/>
              <a:ext cx="59148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5" name=""/>
            <p:cNvSpPr/>
            <p:nvPr/>
          </p:nvSpPr>
          <p:spPr>
            <a:xfrm>
              <a:off x="517680" y="6251400"/>
              <a:ext cx="4557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6" name=""/>
            <p:cNvSpPr/>
            <p:nvPr/>
          </p:nvSpPr>
          <p:spPr>
            <a:xfrm>
              <a:off x="381600" y="3765240"/>
              <a:ext cx="59148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381600" y="3423960"/>
              <a:ext cx="59508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8" name=""/>
            <p:cNvSpPr/>
            <p:nvPr/>
          </p:nvSpPr>
          <p:spPr>
            <a:xfrm>
              <a:off x="779400" y="4680"/>
              <a:ext cx="19548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0" y="4680"/>
              <a:ext cx="38016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81600" y="4680"/>
              <a:ext cx="3974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975240" y="4680"/>
              <a:ext cx="351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2" name=""/>
            <p:cNvSpPr/>
            <p:nvPr/>
          </p:nvSpPr>
          <p:spPr>
            <a:xfrm>
              <a:off x="381600" y="798480"/>
              <a:ext cx="59148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81600" y="1206360"/>
              <a:ext cx="59148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81600" y="1612800"/>
              <a:ext cx="59148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381600" y="2019240"/>
              <a:ext cx="59148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81600" y="2425680"/>
              <a:ext cx="59148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76560" y="6642000"/>
              <a:ext cx="60012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381600" y="344160"/>
              <a:ext cx="59148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381600" y="4680"/>
              <a:ext cx="59508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0" name=""/>
            <p:cNvSpPr/>
            <p:nvPr/>
          </p:nvSpPr>
          <p:spPr>
            <a:xfrm>
              <a:off x="385200" y="0"/>
              <a:ext cx="26460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381600" y="2860560"/>
              <a:ext cx="59148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2" name=""/>
            <p:cNvSpPr/>
            <p:nvPr/>
          </p:nvSpPr>
          <p:spPr>
            <a:xfrm>
              <a:off x="1326240" y="9360"/>
              <a:ext cx="3610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231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110916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05" name=""/>
          <p:cNvGrpSpPr/>
          <p:nvPr/>
        </p:nvGrpSpPr>
        <p:grpSpPr>
          <a:xfrm>
            <a:off x="569880" y="1428840"/>
            <a:ext cx="2269440" cy="2095560"/>
            <a:chOff x="569880" y="1428840"/>
            <a:chExt cx="2269440" cy="2095560"/>
          </a:xfrm>
        </p:grpSpPr>
        <p:sp>
          <p:nvSpPr>
            <p:cNvPr id="106" name=""/>
            <p:cNvSpPr/>
            <p:nvPr/>
          </p:nvSpPr>
          <p:spPr>
            <a:xfrm>
              <a:off x="1678680" y="1428840"/>
              <a:ext cx="116064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07" name=""/>
            <p:cNvGrpSpPr/>
            <p:nvPr/>
          </p:nvGrpSpPr>
          <p:grpSpPr>
            <a:xfrm>
              <a:off x="569880" y="1610640"/>
              <a:ext cx="1854000" cy="1683360"/>
              <a:chOff x="569880" y="1610640"/>
              <a:chExt cx="1854000" cy="1683360"/>
            </a:xfrm>
          </p:grpSpPr>
          <p:grpSp>
            <p:nvGrpSpPr>
              <p:cNvPr id="108" name=""/>
              <p:cNvGrpSpPr/>
              <p:nvPr/>
            </p:nvGrpSpPr>
            <p:grpSpPr>
              <a:xfrm>
                <a:off x="569880" y="1610640"/>
                <a:ext cx="1854000" cy="1683360"/>
                <a:chOff x="569880" y="1610640"/>
                <a:chExt cx="1854000" cy="1683360"/>
              </a:xfrm>
            </p:grpSpPr>
            <p:grpSp>
              <p:nvGrpSpPr>
                <p:cNvPr id="109" name=""/>
                <p:cNvGrpSpPr/>
                <p:nvPr/>
              </p:nvGrpSpPr>
              <p:grpSpPr>
                <a:xfrm>
                  <a:off x="569880" y="1610640"/>
                  <a:ext cx="1854000" cy="1683360"/>
                  <a:chOff x="569880" y="1610640"/>
                  <a:chExt cx="1854000" cy="1683360"/>
                </a:xfrm>
              </p:grpSpPr>
              <p:sp>
                <p:nvSpPr>
                  <p:cNvPr id="110" name=""/>
                  <p:cNvSpPr/>
                  <p:nvPr/>
                </p:nvSpPr>
                <p:spPr>
                  <a:xfrm>
                    <a:off x="574920" y="3032280"/>
                    <a:ext cx="184608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574920" y="1611360"/>
                    <a:ext cx="184608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flipV="1" rot="5400000">
                    <a:off x="-86400" y="2282400"/>
                    <a:ext cx="1631880" cy="319320"/>
                  </a:xfrm>
                  <a:custGeom>
                    <a:avLst/>
                    <a:gdLst>
                      <a:gd name="textAreaLeft" fmla="*/ 243000 w 1631880"/>
                      <a:gd name="textAreaRight" fmla="*/ 1388880 w 1631880"/>
                      <a:gd name="textAreaTop" fmla="*/ 47520 h 319320"/>
                      <a:gd name="textAreaBottom" fmla="*/ 271800 h 31932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flipH="1" flipV="1" rot="16200000">
                    <a:off x="1447920" y="2266560"/>
                    <a:ext cx="1631880" cy="319320"/>
                  </a:xfrm>
                  <a:custGeom>
                    <a:avLst/>
                    <a:gdLst>
                      <a:gd name="textAreaLeft" fmla="*/ 243000 w 1631880"/>
                      <a:gd name="textAreaRight" fmla="*/ 1388880 w 1631880"/>
                      <a:gd name="textAreaTop" fmla="*/ 47520 h 319320"/>
                      <a:gd name="textAreaBottom" fmla="*/ 271800 h 31932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14" name=""/>
                <p:cNvSpPr/>
                <p:nvPr/>
              </p:nvSpPr>
              <p:spPr>
                <a:xfrm>
                  <a:off x="746640" y="1763640"/>
                  <a:ext cx="150264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5" name=""/>
                <p:cNvSpPr/>
                <p:nvPr/>
              </p:nvSpPr>
              <p:spPr>
                <a:xfrm>
                  <a:off x="834480" y="1857240"/>
                  <a:ext cx="132732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16" name=""/>
                <p:cNvSpPr/>
                <p:nvPr/>
              </p:nvSpPr>
              <p:spPr>
                <a:xfrm>
                  <a:off x="963360" y="1969920"/>
                  <a:ext cx="106920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17" name=""/>
                <p:cNvSpPr/>
                <p:nvPr/>
              </p:nvSpPr>
              <p:spPr>
                <a:xfrm>
                  <a:off x="1075320" y="2068560"/>
                  <a:ext cx="8456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18" name=""/>
              <p:cNvGrpSpPr/>
              <p:nvPr/>
            </p:nvGrpSpPr>
            <p:grpSpPr>
              <a:xfrm>
                <a:off x="1092600" y="2135160"/>
                <a:ext cx="768240" cy="638280"/>
                <a:chOff x="1092600" y="2135160"/>
                <a:chExt cx="768240" cy="638280"/>
              </a:xfrm>
            </p:grpSpPr>
            <p:sp>
              <p:nvSpPr>
                <p:cNvPr id="119" name=""/>
                <p:cNvSpPr/>
                <p:nvPr/>
              </p:nvSpPr>
              <p:spPr>
                <a:xfrm>
                  <a:off x="1416240" y="2236680"/>
                  <a:ext cx="11592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0" name=""/>
                <p:cNvSpPr/>
                <p:nvPr/>
              </p:nvSpPr>
              <p:spPr>
                <a:xfrm>
                  <a:off x="1424160" y="2236680"/>
                  <a:ext cx="11628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1374480" y="2689200"/>
                  <a:ext cx="20952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22" name=""/>
                <p:cNvSpPr/>
                <p:nvPr/>
              </p:nvSpPr>
              <p:spPr>
                <a:xfrm>
                  <a:off x="1092600" y="2328840"/>
                  <a:ext cx="37980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a:off x="1479240" y="2328840"/>
                  <a:ext cx="38160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4" name=""/>
                <p:cNvSpPr/>
                <p:nvPr/>
              </p:nvSpPr>
              <p:spPr>
                <a:xfrm>
                  <a:off x="1427760" y="2135160"/>
                  <a:ext cx="961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25" name=""/>
          <p:cNvGrpSpPr/>
          <p:nvPr/>
        </p:nvGrpSpPr>
        <p:grpSpPr>
          <a:xfrm>
            <a:off x="156240" y="4327920"/>
            <a:ext cx="2739240" cy="1539000"/>
            <a:chOff x="156240" y="4327920"/>
            <a:chExt cx="2739240" cy="1539000"/>
          </a:xfrm>
        </p:grpSpPr>
        <p:grpSp>
          <p:nvGrpSpPr>
            <p:cNvPr id="126" name=""/>
            <p:cNvGrpSpPr/>
            <p:nvPr/>
          </p:nvGrpSpPr>
          <p:grpSpPr>
            <a:xfrm>
              <a:off x="156240" y="4327920"/>
              <a:ext cx="2739240" cy="1215000"/>
              <a:chOff x="156240" y="4327920"/>
              <a:chExt cx="2739240" cy="1215000"/>
            </a:xfrm>
          </p:grpSpPr>
          <p:grpSp>
            <p:nvGrpSpPr>
              <p:cNvPr id="127" name=""/>
              <p:cNvGrpSpPr/>
              <p:nvPr/>
            </p:nvGrpSpPr>
            <p:grpSpPr>
              <a:xfrm>
                <a:off x="156240" y="4327920"/>
                <a:ext cx="2739240" cy="1215000"/>
                <a:chOff x="156240" y="4327920"/>
                <a:chExt cx="2739240" cy="1215000"/>
              </a:xfrm>
            </p:grpSpPr>
            <p:grpSp>
              <p:nvGrpSpPr>
                <p:cNvPr id="128" name=""/>
                <p:cNvGrpSpPr/>
                <p:nvPr/>
              </p:nvGrpSpPr>
              <p:grpSpPr>
                <a:xfrm>
                  <a:off x="156240" y="4327920"/>
                  <a:ext cx="1292400" cy="1215000"/>
                  <a:chOff x="156240" y="4327920"/>
                  <a:chExt cx="1292400" cy="1215000"/>
                </a:xfrm>
              </p:grpSpPr>
              <p:sp>
                <p:nvSpPr>
                  <p:cNvPr id="129" name=""/>
                  <p:cNvSpPr/>
                  <p:nvPr/>
                </p:nvSpPr>
                <p:spPr>
                  <a:xfrm rot="180000">
                    <a:off x="372600" y="4419720"/>
                    <a:ext cx="819720" cy="227520"/>
                  </a:xfrm>
                  <a:custGeom>
                    <a:avLst/>
                    <a:gdLst/>
                    <a:ahLst/>
                    <a:rect l="l" t="t" r="r" b="b"/>
                    <a:pathLst>
                      <a:path w="2858" h="746">
                        <a:moveTo>
                          <a:pt x="2858" y="0"/>
                        </a:moveTo>
                        <a:lnTo>
                          <a:pt x="2804" y="305"/>
                        </a:lnTo>
                        <a:lnTo>
                          <a:pt x="2635" y="296"/>
                        </a:lnTo>
                        <a:lnTo>
                          <a:pt x="2460" y="296"/>
                        </a:lnTo>
                        <a:lnTo>
                          <a:pt x="2281" y="296"/>
                        </a:lnTo>
                        <a:lnTo>
                          <a:pt x="2102" y="300"/>
                        </a:lnTo>
                        <a:lnTo>
                          <a:pt x="1918" y="315"/>
                        </a:lnTo>
                        <a:lnTo>
                          <a:pt x="1734" y="330"/>
                        </a:lnTo>
                        <a:lnTo>
                          <a:pt x="1550" y="349"/>
                        </a:lnTo>
                        <a:lnTo>
                          <a:pt x="1366" y="373"/>
                        </a:lnTo>
                        <a:lnTo>
                          <a:pt x="1182" y="407"/>
                        </a:lnTo>
                        <a:lnTo>
                          <a:pt x="1003" y="441"/>
                        </a:lnTo>
                        <a:lnTo>
                          <a:pt x="824" y="480"/>
                        </a:lnTo>
                        <a:lnTo>
                          <a:pt x="649" y="523"/>
                        </a:lnTo>
                        <a:lnTo>
                          <a:pt x="480" y="572"/>
                        </a:lnTo>
                        <a:lnTo>
                          <a:pt x="315" y="625"/>
                        </a:lnTo>
                        <a:lnTo>
                          <a:pt x="155" y="683"/>
                        </a:lnTo>
                        <a:lnTo>
                          <a:pt x="0" y="746"/>
                        </a:lnTo>
                        <a:lnTo>
                          <a:pt x="53" y="707"/>
                        </a:lnTo>
                        <a:lnTo>
                          <a:pt x="107" y="669"/>
                        </a:lnTo>
                        <a:lnTo>
                          <a:pt x="165" y="630"/>
                        </a:lnTo>
                        <a:lnTo>
                          <a:pt x="228" y="591"/>
                        </a:lnTo>
                        <a:lnTo>
                          <a:pt x="296" y="552"/>
                        </a:lnTo>
                        <a:lnTo>
                          <a:pt x="368" y="518"/>
                        </a:lnTo>
                        <a:lnTo>
                          <a:pt x="446" y="484"/>
                        </a:lnTo>
                        <a:lnTo>
                          <a:pt x="528" y="451"/>
                        </a:lnTo>
                        <a:lnTo>
                          <a:pt x="698" y="383"/>
                        </a:lnTo>
                        <a:lnTo>
                          <a:pt x="882" y="320"/>
                        </a:lnTo>
                        <a:lnTo>
                          <a:pt x="1075" y="262"/>
                        </a:lnTo>
                        <a:lnTo>
                          <a:pt x="1274" y="208"/>
                        </a:lnTo>
                        <a:lnTo>
                          <a:pt x="1477" y="160"/>
                        </a:lnTo>
                        <a:lnTo>
                          <a:pt x="1681" y="116"/>
                        </a:lnTo>
                        <a:lnTo>
                          <a:pt x="1889" y="83"/>
                        </a:lnTo>
                        <a:lnTo>
                          <a:pt x="2097" y="49"/>
                        </a:lnTo>
                        <a:lnTo>
                          <a:pt x="2296" y="24"/>
                        </a:lnTo>
                        <a:lnTo>
                          <a:pt x="2494" y="10"/>
                        </a:lnTo>
                        <a:lnTo>
                          <a:pt x="2678" y="0"/>
                        </a:lnTo>
                        <a:lnTo>
                          <a:pt x="2858"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rot="180000">
                    <a:off x="492120" y="5266800"/>
                    <a:ext cx="818640" cy="227160"/>
                  </a:xfrm>
                  <a:custGeom>
                    <a:avLst/>
                    <a:gdLst/>
                    <a:ahLst/>
                    <a:rect l="l" t="t" r="r" b="b"/>
                    <a:pathLst>
                      <a:path w="2857" h="746">
                        <a:moveTo>
                          <a:pt x="0" y="746"/>
                        </a:moveTo>
                        <a:lnTo>
                          <a:pt x="58" y="441"/>
                        </a:lnTo>
                        <a:lnTo>
                          <a:pt x="228" y="446"/>
                        </a:lnTo>
                        <a:lnTo>
                          <a:pt x="402" y="450"/>
                        </a:lnTo>
                        <a:lnTo>
                          <a:pt x="581" y="450"/>
                        </a:lnTo>
                        <a:lnTo>
                          <a:pt x="760" y="441"/>
                        </a:lnTo>
                        <a:lnTo>
                          <a:pt x="944" y="431"/>
                        </a:lnTo>
                        <a:lnTo>
                          <a:pt x="1128" y="416"/>
                        </a:lnTo>
                        <a:lnTo>
                          <a:pt x="1312" y="392"/>
                        </a:lnTo>
                        <a:lnTo>
                          <a:pt x="1496" y="368"/>
                        </a:lnTo>
                        <a:lnTo>
                          <a:pt x="1676" y="339"/>
                        </a:lnTo>
                        <a:lnTo>
                          <a:pt x="1860" y="305"/>
                        </a:lnTo>
                        <a:lnTo>
                          <a:pt x="2034" y="266"/>
                        </a:lnTo>
                        <a:lnTo>
                          <a:pt x="2208" y="223"/>
                        </a:lnTo>
                        <a:lnTo>
                          <a:pt x="2378" y="170"/>
                        </a:lnTo>
                        <a:lnTo>
                          <a:pt x="2547" y="121"/>
                        </a:lnTo>
                        <a:lnTo>
                          <a:pt x="2702" y="63"/>
                        </a:lnTo>
                        <a:lnTo>
                          <a:pt x="2857" y="0"/>
                        </a:lnTo>
                        <a:lnTo>
                          <a:pt x="2809" y="39"/>
                        </a:lnTo>
                        <a:lnTo>
                          <a:pt x="2756" y="77"/>
                        </a:lnTo>
                        <a:lnTo>
                          <a:pt x="2693" y="116"/>
                        </a:lnTo>
                        <a:lnTo>
                          <a:pt x="2630" y="155"/>
                        </a:lnTo>
                        <a:lnTo>
                          <a:pt x="2562" y="189"/>
                        </a:lnTo>
                        <a:lnTo>
                          <a:pt x="2489" y="228"/>
                        </a:lnTo>
                        <a:lnTo>
                          <a:pt x="2412" y="262"/>
                        </a:lnTo>
                        <a:lnTo>
                          <a:pt x="2329" y="295"/>
                        </a:lnTo>
                        <a:lnTo>
                          <a:pt x="2160" y="363"/>
                        </a:lnTo>
                        <a:lnTo>
                          <a:pt x="1976" y="426"/>
                        </a:lnTo>
                        <a:lnTo>
                          <a:pt x="1787" y="484"/>
                        </a:lnTo>
                        <a:lnTo>
                          <a:pt x="1588" y="538"/>
                        </a:lnTo>
                        <a:lnTo>
                          <a:pt x="1385" y="586"/>
                        </a:lnTo>
                        <a:lnTo>
                          <a:pt x="1177" y="625"/>
                        </a:lnTo>
                        <a:lnTo>
                          <a:pt x="969" y="663"/>
                        </a:lnTo>
                        <a:lnTo>
                          <a:pt x="765" y="693"/>
                        </a:lnTo>
                        <a:lnTo>
                          <a:pt x="562" y="717"/>
                        </a:lnTo>
                        <a:lnTo>
                          <a:pt x="368" y="736"/>
                        </a:lnTo>
                        <a:lnTo>
                          <a:pt x="179" y="746"/>
                        </a:lnTo>
                        <a:lnTo>
                          <a:pt x="0" y="746"/>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rot="180000">
                    <a:off x="1198440" y="4449600"/>
                    <a:ext cx="229680" cy="786600"/>
                  </a:xfrm>
                  <a:custGeom>
                    <a:avLst/>
                    <a:gdLst/>
                    <a:ahLst/>
                    <a:rect l="l" t="t" r="r" b="b"/>
                    <a:pathLst>
                      <a:path w="799" h="2577">
                        <a:moveTo>
                          <a:pt x="799" y="2330"/>
                        </a:moveTo>
                        <a:lnTo>
                          <a:pt x="470" y="2577"/>
                        </a:lnTo>
                        <a:lnTo>
                          <a:pt x="475" y="2407"/>
                        </a:lnTo>
                        <a:lnTo>
                          <a:pt x="480" y="2238"/>
                        </a:lnTo>
                        <a:lnTo>
                          <a:pt x="475" y="2073"/>
                        </a:lnTo>
                        <a:lnTo>
                          <a:pt x="470" y="1908"/>
                        </a:lnTo>
                        <a:lnTo>
                          <a:pt x="455" y="1739"/>
                        </a:lnTo>
                        <a:lnTo>
                          <a:pt x="436" y="1574"/>
                        </a:lnTo>
                        <a:lnTo>
                          <a:pt x="412" y="1410"/>
                        </a:lnTo>
                        <a:lnTo>
                          <a:pt x="383" y="1250"/>
                        </a:lnTo>
                        <a:lnTo>
                          <a:pt x="349" y="1090"/>
                        </a:lnTo>
                        <a:lnTo>
                          <a:pt x="315" y="925"/>
                        </a:lnTo>
                        <a:lnTo>
                          <a:pt x="271" y="770"/>
                        </a:lnTo>
                        <a:lnTo>
                          <a:pt x="228" y="611"/>
                        </a:lnTo>
                        <a:lnTo>
                          <a:pt x="175" y="456"/>
                        </a:lnTo>
                        <a:lnTo>
                          <a:pt x="121" y="301"/>
                        </a:lnTo>
                        <a:lnTo>
                          <a:pt x="63" y="151"/>
                        </a:lnTo>
                        <a:lnTo>
                          <a:pt x="0" y="0"/>
                        </a:lnTo>
                        <a:lnTo>
                          <a:pt x="92" y="102"/>
                        </a:lnTo>
                        <a:lnTo>
                          <a:pt x="175" y="213"/>
                        </a:lnTo>
                        <a:lnTo>
                          <a:pt x="257" y="330"/>
                        </a:lnTo>
                        <a:lnTo>
                          <a:pt x="334" y="456"/>
                        </a:lnTo>
                        <a:lnTo>
                          <a:pt x="407" y="586"/>
                        </a:lnTo>
                        <a:lnTo>
                          <a:pt x="470" y="727"/>
                        </a:lnTo>
                        <a:lnTo>
                          <a:pt x="533" y="872"/>
                        </a:lnTo>
                        <a:lnTo>
                          <a:pt x="586" y="1017"/>
                        </a:lnTo>
                        <a:lnTo>
                          <a:pt x="639" y="1172"/>
                        </a:lnTo>
                        <a:lnTo>
                          <a:pt x="683" y="1332"/>
                        </a:lnTo>
                        <a:lnTo>
                          <a:pt x="717" y="1492"/>
                        </a:lnTo>
                        <a:lnTo>
                          <a:pt x="746" y="1657"/>
                        </a:lnTo>
                        <a:lnTo>
                          <a:pt x="770" y="1821"/>
                        </a:lnTo>
                        <a:lnTo>
                          <a:pt x="790" y="1991"/>
                        </a:lnTo>
                        <a:lnTo>
                          <a:pt x="799" y="2160"/>
                        </a:lnTo>
                        <a:lnTo>
                          <a:pt x="799" y="233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2" name=""/>
                  <p:cNvSpPr/>
                  <p:nvPr/>
                </p:nvSpPr>
                <p:spPr>
                  <a:xfrm rot="636600">
                    <a:off x="240840" y="4421520"/>
                    <a:ext cx="1114200" cy="1027440"/>
                  </a:xfrm>
                  <a:custGeom>
                    <a:avLst/>
                    <a:gdLst/>
                    <a:ahLst/>
                    <a:rect l="l" t="t" r="r" b="b"/>
                    <a:pathLst>
                      <a:path w="3884" h="3366">
                        <a:moveTo>
                          <a:pt x="0" y="1366"/>
                        </a:moveTo>
                        <a:lnTo>
                          <a:pt x="145" y="1235"/>
                        </a:lnTo>
                        <a:lnTo>
                          <a:pt x="295" y="1114"/>
                        </a:lnTo>
                        <a:lnTo>
                          <a:pt x="450" y="998"/>
                        </a:lnTo>
                        <a:lnTo>
                          <a:pt x="615" y="887"/>
                        </a:lnTo>
                        <a:lnTo>
                          <a:pt x="779" y="780"/>
                        </a:lnTo>
                        <a:lnTo>
                          <a:pt x="954" y="678"/>
                        </a:lnTo>
                        <a:lnTo>
                          <a:pt x="1128" y="586"/>
                        </a:lnTo>
                        <a:lnTo>
                          <a:pt x="1312" y="499"/>
                        </a:lnTo>
                        <a:lnTo>
                          <a:pt x="1501" y="412"/>
                        </a:lnTo>
                        <a:lnTo>
                          <a:pt x="1695" y="339"/>
                        </a:lnTo>
                        <a:lnTo>
                          <a:pt x="1893" y="267"/>
                        </a:lnTo>
                        <a:lnTo>
                          <a:pt x="2097" y="204"/>
                        </a:lnTo>
                        <a:lnTo>
                          <a:pt x="2305" y="141"/>
                        </a:lnTo>
                        <a:lnTo>
                          <a:pt x="2518" y="88"/>
                        </a:lnTo>
                        <a:lnTo>
                          <a:pt x="2736" y="44"/>
                        </a:lnTo>
                        <a:lnTo>
                          <a:pt x="2959" y="0"/>
                        </a:lnTo>
                        <a:lnTo>
                          <a:pt x="3046" y="117"/>
                        </a:lnTo>
                        <a:lnTo>
                          <a:pt x="3123" y="238"/>
                        </a:lnTo>
                        <a:lnTo>
                          <a:pt x="3201" y="354"/>
                        </a:lnTo>
                        <a:lnTo>
                          <a:pt x="3274" y="475"/>
                        </a:lnTo>
                        <a:lnTo>
                          <a:pt x="3341" y="596"/>
                        </a:lnTo>
                        <a:lnTo>
                          <a:pt x="3409" y="717"/>
                        </a:lnTo>
                        <a:lnTo>
                          <a:pt x="3472" y="838"/>
                        </a:lnTo>
                        <a:lnTo>
                          <a:pt x="3530" y="964"/>
                        </a:lnTo>
                        <a:lnTo>
                          <a:pt x="3588" y="1090"/>
                        </a:lnTo>
                        <a:lnTo>
                          <a:pt x="3642" y="1216"/>
                        </a:lnTo>
                        <a:lnTo>
                          <a:pt x="3690" y="1347"/>
                        </a:lnTo>
                        <a:lnTo>
                          <a:pt x="3739" y="1473"/>
                        </a:lnTo>
                        <a:lnTo>
                          <a:pt x="3777" y="1603"/>
                        </a:lnTo>
                        <a:lnTo>
                          <a:pt x="3816" y="1739"/>
                        </a:lnTo>
                        <a:lnTo>
                          <a:pt x="3850" y="1870"/>
                        </a:lnTo>
                        <a:lnTo>
                          <a:pt x="3884" y="2005"/>
                        </a:lnTo>
                        <a:lnTo>
                          <a:pt x="3743" y="2131"/>
                        </a:lnTo>
                        <a:lnTo>
                          <a:pt x="3593" y="2252"/>
                        </a:lnTo>
                        <a:lnTo>
                          <a:pt x="3443" y="2368"/>
                        </a:lnTo>
                        <a:lnTo>
                          <a:pt x="3283" y="2480"/>
                        </a:lnTo>
                        <a:lnTo>
                          <a:pt x="3119" y="2582"/>
                        </a:lnTo>
                        <a:lnTo>
                          <a:pt x="2949" y="2683"/>
                        </a:lnTo>
                        <a:lnTo>
                          <a:pt x="2775" y="2775"/>
                        </a:lnTo>
                        <a:lnTo>
                          <a:pt x="2591" y="2862"/>
                        </a:lnTo>
                        <a:lnTo>
                          <a:pt x="2402" y="2945"/>
                        </a:lnTo>
                        <a:lnTo>
                          <a:pt x="2208" y="3022"/>
                        </a:lnTo>
                        <a:lnTo>
                          <a:pt x="2010" y="3095"/>
                        </a:lnTo>
                        <a:lnTo>
                          <a:pt x="1801" y="3158"/>
                        </a:lnTo>
                        <a:lnTo>
                          <a:pt x="1593" y="3221"/>
                        </a:lnTo>
                        <a:lnTo>
                          <a:pt x="1375" y="3274"/>
                        </a:lnTo>
                        <a:lnTo>
                          <a:pt x="1152" y="3322"/>
                        </a:lnTo>
                        <a:lnTo>
                          <a:pt x="925" y="3366"/>
                        </a:lnTo>
                        <a:lnTo>
                          <a:pt x="842" y="3255"/>
                        </a:lnTo>
                        <a:lnTo>
                          <a:pt x="760" y="3143"/>
                        </a:lnTo>
                        <a:lnTo>
                          <a:pt x="687" y="3027"/>
                        </a:lnTo>
                        <a:lnTo>
                          <a:pt x="615" y="2911"/>
                        </a:lnTo>
                        <a:lnTo>
                          <a:pt x="547" y="2795"/>
                        </a:lnTo>
                        <a:lnTo>
                          <a:pt x="484" y="2674"/>
                        </a:lnTo>
                        <a:lnTo>
                          <a:pt x="421" y="2548"/>
                        </a:lnTo>
                        <a:lnTo>
                          <a:pt x="363" y="2427"/>
                        </a:lnTo>
                        <a:lnTo>
                          <a:pt x="305" y="2301"/>
                        </a:lnTo>
                        <a:lnTo>
                          <a:pt x="256" y="2170"/>
                        </a:lnTo>
                        <a:lnTo>
                          <a:pt x="203" y="2039"/>
                        </a:lnTo>
                        <a:lnTo>
                          <a:pt x="160" y="1908"/>
                        </a:lnTo>
                        <a:lnTo>
                          <a:pt x="116" y="1773"/>
                        </a:lnTo>
                        <a:lnTo>
                          <a:pt x="72" y="1642"/>
                        </a:lnTo>
                        <a:lnTo>
                          <a:pt x="38" y="1502"/>
                        </a:lnTo>
                        <a:lnTo>
                          <a:pt x="0" y="1366"/>
                        </a:lnTo>
                        <a:close/>
                      </a:path>
                    </a:pathLst>
                  </a:custGeom>
                  <a:gradFill rotWithShape="0">
                    <a:gsLst>
                      <a:gs pos="0">
                        <a:srgbClr val="33cccc"/>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rot="180000">
                    <a:off x="252000" y="4644000"/>
                    <a:ext cx="230040" cy="785520"/>
                  </a:xfrm>
                  <a:custGeom>
                    <a:avLst/>
                    <a:gdLst/>
                    <a:ahLst/>
                    <a:rect l="l" t="t" r="r" b="b"/>
                    <a:pathLst>
                      <a:path w="799" h="2576">
                        <a:moveTo>
                          <a:pt x="0" y="242"/>
                        </a:moveTo>
                        <a:lnTo>
                          <a:pt x="329" y="0"/>
                        </a:lnTo>
                        <a:lnTo>
                          <a:pt x="324" y="170"/>
                        </a:lnTo>
                        <a:lnTo>
                          <a:pt x="320" y="334"/>
                        </a:lnTo>
                        <a:lnTo>
                          <a:pt x="324" y="504"/>
                        </a:lnTo>
                        <a:lnTo>
                          <a:pt x="334" y="668"/>
                        </a:lnTo>
                        <a:lnTo>
                          <a:pt x="344" y="833"/>
                        </a:lnTo>
                        <a:lnTo>
                          <a:pt x="363" y="998"/>
                        </a:lnTo>
                        <a:lnTo>
                          <a:pt x="387" y="1162"/>
                        </a:lnTo>
                        <a:lnTo>
                          <a:pt x="416" y="1327"/>
                        </a:lnTo>
                        <a:lnTo>
                          <a:pt x="450" y="1487"/>
                        </a:lnTo>
                        <a:lnTo>
                          <a:pt x="484" y="1647"/>
                        </a:lnTo>
                        <a:lnTo>
                          <a:pt x="528" y="1806"/>
                        </a:lnTo>
                        <a:lnTo>
                          <a:pt x="576" y="1966"/>
                        </a:lnTo>
                        <a:lnTo>
                          <a:pt x="625" y="2121"/>
                        </a:lnTo>
                        <a:lnTo>
                          <a:pt x="678" y="2276"/>
                        </a:lnTo>
                        <a:lnTo>
                          <a:pt x="736" y="2426"/>
                        </a:lnTo>
                        <a:lnTo>
                          <a:pt x="799" y="2576"/>
                        </a:lnTo>
                        <a:lnTo>
                          <a:pt x="712" y="2475"/>
                        </a:lnTo>
                        <a:lnTo>
                          <a:pt x="625" y="2363"/>
                        </a:lnTo>
                        <a:lnTo>
                          <a:pt x="542" y="2247"/>
                        </a:lnTo>
                        <a:lnTo>
                          <a:pt x="465" y="2121"/>
                        </a:lnTo>
                        <a:lnTo>
                          <a:pt x="392" y="1986"/>
                        </a:lnTo>
                        <a:lnTo>
                          <a:pt x="329" y="1850"/>
                        </a:lnTo>
                        <a:lnTo>
                          <a:pt x="266" y="1705"/>
                        </a:lnTo>
                        <a:lnTo>
                          <a:pt x="213" y="1555"/>
                        </a:lnTo>
                        <a:lnTo>
                          <a:pt x="160" y="1404"/>
                        </a:lnTo>
                        <a:lnTo>
                          <a:pt x="121" y="1245"/>
                        </a:lnTo>
                        <a:lnTo>
                          <a:pt x="82" y="1085"/>
                        </a:lnTo>
                        <a:lnTo>
                          <a:pt x="53" y="920"/>
                        </a:lnTo>
                        <a:lnTo>
                          <a:pt x="29" y="756"/>
                        </a:lnTo>
                        <a:lnTo>
                          <a:pt x="10" y="586"/>
                        </a:lnTo>
                        <a:lnTo>
                          <a:pt x="5" y="417"/>
                        </a:lnTo>
                        <a:lnTo>
                          <a:pt x="0" y="242"/>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34" name=""/>
                <p:cNvSpPr/>
                <p:nvPr/>
              </p:nvSpPr>
              <p:spPr>
                <a:xfrm>
                  <a:off x="1772640" y="4709520"/>
                  <a:ext cx="1122840" cy="144720"/>
                </a:xfrm>
                <a:custGeom>
                  <a:avLst/>
                  <a:gdLst/>
                  <a:ahLst/>
                  <a:rect l="l" t="t" r="r" b="b"/>
                  <a:pathLst>
                    <a:path w="4529" h="286">
                      <a:moveTo>
                        <a:pt x="213" y="54"/>
                      </a:moveTo>
                      <a:lnTo>
                        <a:pt x="63" y="54"/>
                      </a:lnTo>
                      <a:lnTo>
                        <a:pt x="63" y="126"/>
                      </a:lnTo>
                      <a:lnTo>
                        <a:pt x="213" y="126"/>
                      </a:lnTo>
                      <a:lnTo>
                        <a:pt x="218" y="126"/>
                      </a:lnTo>
                      <a:lnTo>
                        <a:pt x="218" y="126"/>
                      </a:lnTo>
                      <a:lnTo>
                        <a:pt x="223" y="126"/>
                      </a:lnTo>
                      <a:lnTo>
                        <a:pt x="228" y="126"/>
                      </a:lnTo>
                      <a:lnTo>
                        <a:pt x="228" y="126"/>
                      </a:lnTo>
                      <a:lnTo>
                        <a:pt x="233" y="126"/>
                      </a:lnTo>
                      <a:lnTo>
                        <a:pt x="233" y="121"/>
                      </a:lnTo>
                      <a:lnTo>
                        <a:pt x="238" y="121"/>
                      </a:lnTo>
                      <a:lnTo>
                        <a:pt x="238" y="121"/>
                      </a:lnTo>
                      <a:lnTo>
                        <a:pt x="238" y="117"/>
                      </a:lnTo>
                      <a:lnTo>
                        <a:pt x="238" y="117"/>
                      </a:lnTo>
                      <a:lnTo>
                        <a:pt x="242" y="117"/>
                      </a:lnTo>
                      <a:lnTo>
                        <a:pt x="242" y="112"/>
                      </a:lnTo>
                      <a:lnTo>
                        <a:pt x="242" y="112"/>
                      </a:lnTo>
                      <a:lnTo>
                        <a:pt x="242" y="107"/>
                      </a:lnTo>
                      <a:lnTo>
                        <a:pt x="242" y="102"/>
                      </a:lnTo>
                      <a:lnTo>
                        <a:pt x="242" y="73"/>
                      </a:lnTo>
                      <a:lnTo>
                        <a:pt x="242" y="73"/>
                      </a:lnTo>
                      <a:lnTo>
                        <a:pt x="242" y="68"/>
                      </a:lnTo>
                      <a:lnTo>
                        <a:pt x="242" y="63"/>
                      </a:lnTo>
                      <a:lnTo>
                        <a:pt x="242" y="63"/>
                      </a:lnTo>
                      <a:lnTo>
                        <a:pt x="238" y="63"/>
                      </a:lnTo>
                      <a:lnTo>
                        <a:pt x="238" y="58"/>
                      </a:lnTo>
                      <a:lnTo>
                        <a:pt x="238" y="58"/>
                      </a:lnTo>
                      <a:lnTo>
                        <a:pt x="238" y="58"/>
                      </a:lnTo>
                      <a:lnTo>
                        <a:pt x="233" y="54"/>
                      </a:lnTo>
                      <a:lnTo>
                        <a:pt x="233" y="54"/>
                      </a:lnTo>
                      <a:lnTo>
                        <a:pt x="228" y="54"/>
                      </a:lnTo>
                      <a:lnTo>
                        <a:pt x="228" y="54"/>
                      </a:lnTo>
                      <a:lnTo>
                        <a:pt x="223" y="54"/>
                      </a:lnTo>
                      <a:lnTo>
                        <a:pt x="218" y="54"/>
                      </a:lnTo>
                      <a:lnTo>
                        <a:pt x="218" y="54"/>
                      </a:lnTo>
                      <a:lnTo>
                        <a:pt x="213" y="54"/>
                      </a:lnTo>
                      <a:close/>
                      <a:moveTo>
                        <a:pt x="0" y="286"/>
                      </a:moveTo>
                      <a:lnTo>
                        <a:pt x="0" y="0"/>
                      </a:lnTo>
                      <a:lnTo>
                        <a:pt x="242" y="0"/>
                      </a:lnTo>
                      <a:lnTo>
                        <a:pt x="247" y="0"/>
                      </a:lnTo>
                      <a:lnTo>
                        <a:pt x="257" y="5"/>
                      </a:lnTo>
                      <a:lnTo>
                        <a:pt x="262" y="5"/>
                      </a:lnTo>
                      <a:lnTo>
                        <a:pt x="272" y="5"/>
                      </a:lnTo>
                      <a:lnTo>
                        <a:pt x="276" y="5"/>
                      </a:lnTo>
                      <a:lnTo>
                        <a:pt x="281" y="10"/>
                      </a:lnTo>
                      <a:lnTo>
                        <a:pt x="286" y="10"/>
                      </a:lnTo>
                      <a:lnTo>
                        <a:pt x="291" y="15"/>
                      </a:lnTo>
                      <a:lnTo>
                        <a:pt x="296" y="20"/>
                      </a:lnTo>
                      <a:lnTo>
                        <a:pt x="296" y="25"/>
                      </a:lnTo>
                      <a:lnTo>
                        <a:pt x="301" y="29"/>
                      </a:lnTo>
                      <a:lnTo>
                        <a:pt x="301" y="34"/>
                      </a:lnTo>
                      <a:lnTo>
                        <a:pt x="305" y="39"/>
                      </a:lnTo>
                      <a:lnTo>
                        <a:pt x="305" y="44"/>
                      </a:lnTo>
                      <a:lnTo>
                        <a:pt x="305" y="49"/>
                      </a:lnTo>
                      <a:lnTo>
                        <a:pt x="305" y="58"/>
                      </a:lnTo>
                      <a:lnTo>
                        <a:pt x="305" y="121"/>
                      </a:lnTo>
                      <a:lnTo>
                        <a:pt x="305" y="126"/>
                      </a:lnTo>
                      <a:lnTo>
                        <a:pt x="305" y="136"/>
                      </a:lnTo>
                      <a:lnTo>
                        <a:pt x="305" y="141"/>
                      </a:lnTo>
                      <a:lnTo>
                        <a:pt x="301" y="146"/>
                      </a:lnTo>
                      <a:lnTo>
                        <a:pt x="301" y="151"/>
                      </a:lnTo>
                      <a:lnTo>
                        <a:pt x="296" y="155"/>
                      </a:lnTo>
                      <a:lnTo>
                        <a:pt x="296" y="160"/>
                      </a:lnTo>
                      <a:lnTo>
                        <a:pt x="291" y="165"/>
                      </a:lnTo>
                      <a:lnTo>
                        <a:pt x="286" y="165"/>
                      </a:lnTo>
                      <a:lnTo>
                        <a:pt x="281" y="170"/>
                      </a:lnTo>
                      <a:lnTo>
                        <a:pt x="276" y="170"/>
                      </a:lnTo>
                      <a:lnTo>
                        <a:pt x="272" y="175"/>
                      </a:lnTo>
                      <a:lnTo>
                        <a:pt x="262" y="175"/>
                      </a:lnTo>
                      <a:lnTo>
                        <a:pt x="257" y="175"/>
                      </a:lnTo>
                      <a:lnTo>
                        <a:pt x="247" y="175"/>
                      </a:lnTo>
                      <a:lnTo>
                        <a:pt x="242" y="175"/>
                      </a:lnTo>
                      <a:lnTo>
                        <a:pt x="63" y="175"/>
                      </a:lnTo>
                      <a:lnTo>
                        <a:pt x="63" y="286"/>
                      </a:lnTo>
                      <a:lnTo>
                        <a:pt x="0" y="286"/>
                      </a:lnTo>
                      <a:close/>
                      <a:moveTo>
                        <a:pt x="644" y="0"/>
                      </a:moveTo>
                      <a:lnTo>
                        <a:pt x="644" y="233"/>
                      </a:lnTo>
                      <a:lnTo>
                        <a:pt x="833" y="233"/>
                      </a:lnTo>
                      <a:lnTo>
                        <a:pt x="833" y="0"/>
                      </a:lnTo>
                      <a:lnTo>
                        <a:pt x="901" y="0"/>
                      </a:lnTo>
                      <a:lnTo>
                        <a:pt x="901" y="218"/>
                      </a:lnTo>
                      <a:lnTo>
                        <a:pt x="901" y="228"/>
                      </a:lnTo>
                      <a:lnTo>
                        <a:pt x="896" y="238"/>
                      </a:lnTo>
                      <a:lnTo>
                        <a:pt x="896" y="247"/>
                      </a:lnTo>
                      <a:lnTo>
                        <a:pt x="896" y="252"/>
                      </a:lnTo>
                      <a:lnTo>
                        <a:pt x="891" y="257"/>
                      </a:lnTo>
                      <a:lnTo>
                        <a:pt x="891" y="262"/>
                      </a:lnTo>
                      <a:lnTo>
                        <a:pt x="887" y="267"/>
                      </a:lnTo>
                      <a:lnTo>
                        <a:pt x="887" y="272"/>
                      </a:lnTo>
                      <a:lnTo>
                        <a:pt x="882" y="276"/>
                      </a:lnTo>
                      <a:lnTo>
                        <a:pt x="877" y="276"/>
                      </a:lnTo>
                      <a:lnTo>
                        <a:pt x="872" y="281"/>
                      </a:lnTo>
                      <a:lnTo>
                        <a:pt x="862" y="281"/>
                      </a:lnTo>
                      <a:lnTo>
                        <a:pt x="858" y="286"/>
                      </a:lnTo>
                      <a:lnTo>
                        <a:pt x="848" y="286"/>
                      </a:lnTo>
                      <a:lnTo>
                        <a:pt x="838" y="286"/>
                      </a:lnTo>
                      <a:lnTo>
                        <a:pt x="828" y="286"/>
                      </a:lnTo>
                      <a:lnTo>
                        <a:pt x="649" y="286"/>
                      </a:lnTo>
                      <a:lnTo>
                        <a:pt x="640" y="286"/>
                      </a:lnTo>
                      <a:lnTo>
                        <a:pt x="630" y="286"/>
                      </a:lnTo>
                      <a:lnTo>
                        <a:pt x="620" y="286"/>
                      </a:lnTo>
                      <a:lnTo>
                        <a:pt x="615" y="281"/>
                      </a:lnTo>
                      <a:lnTo>
                        <a:pt x="606" y="281"/>
                      </a:lnTo>
                      <a:lnTo>
                        <a:pt x="601" y="276"/>
                      </a:lnTo>
                      <a:lnTo>
                        <a:pt x="596" y="276"/>
                      </a:lnTo>
                      <a:lnTo>
                        <a:pt x="591" y="272"/>
                      </a:lnTo>
                      <a:lnTo>
                        <a:pt x="591" y="267"/>
                      </a:lnTo>
                      <a:lnTo>
                        <a:pt x="586" y="262"/>
                      </a:lnTo>
                      <a:lnTo>
                        <a:pt x="586" y="257"/>
                      </a:lnTo>
                      <a:lnTo>
                        <a:pt x="581" y="252"/>
                      </a:lnTo>
                      <a:lnTo>
                        <a:pt x="581" y="247"/>
                      </a:lnTo>
                      <a:lnTo>
                        <a:pt x="581" y="238"/>
                      </a:lnTo>
                      <a:lnTo>
                        <a:pt x="577" y="228"/>
                      </a:lnTo>
                      <a:lnTo>
                        <a:pt x="577" y="218"/>
                      </a:lnTo>
                      <a:lnTo>
                        <a:pt x="577" y="0"/>
                      </a:lnTo>
                      <a:lnTo>
                        <a:pt x="644" y="0"/>
                      </a:lnTo>
                      <a:close/>
                      <a:moveTo>
                        <a:pt x="1463" y="54"/>
                      </a:moveTo>
                      <a:lnTo>
                        <a:pt x="1284" y="54"/>
                      </a:lnTo>
                      <a:lnTo>
                        <a:pt x="1284" y="233"/>
                      </a:lnTo>
                      <a:lnTo>
                        <a:pt x="1463" y="233"/>
                      </a:lnTo>
                      <a:lnTo>
                        <a:pt x="1463" y="170"/>
                      </a:lnTo>
                      <a:lnTo>
                        <a:pt x="1531" y="184"/>
                      </a:lnTo>
                      <a:lnTo>
                        <a:pt x="1531" y="218"/>
                      </a:lnTo>
                      <a:lnTo>
                        <a:pt x="1531" y="228"/>
                      </a:lnTo>
                      <a:lnTo>
                        <a:pt x="1531" y="238"/>
                      </a:lnTo>
                      <a:lnTo>
                        <a:pt x="1526" y="247"/>
                      </a:lnTo>
                      <a:lnTo>
                        <a:pt x="1526" y="252"/>
                      </a:lnTo>
                      <a:lnTo>
                        <a:pt x="1526" y="257"/>
                      </a:lnTo>
                      <a:lnTo>
                        <a:pt x="1521" y="262"/>
                      </a:lnTo>
                      <a:lnTo>
                        <a:pt x="1521" y="267"/>
                      </a:lnTo>
                      <a:lnTo>
                        <a:pt x="1516" y="272"/>
                      </a:lnTo>
                      <a:lnTo>
                        <a:pt x="1511" y="276"/>
                      </a:lnTo>
                      <a:lnTo>
                        <a:pt x="1506" y="276"/>
                      </a:lnTo>
                      <a:lnTo>
                        <a:pt x="1502" y="281"/>
                      </a:lnTo>
                      <a:lnTo>
                        <a:pt x="1497" y="281"/>
                      </a:lnTo>
                      <a:lnTo>
                        <a:pt x="1487" y="286"/>
                      </a:lnTo>
                      <a:lnTo>
                        <a:pt x="1477" y="286"/>
                      </a:lnTo>
                      <a:lnTo>
                        <a:pt x="1468" y="286"/>
                      </a:lnTo>
                      <a:lnTo>
                        <a:pt x="1458" y="286"/>
                      </a:lnTo>
                      <a:lnTo>
                        <a:pt x="1289" y="286"/>
                      </a:lnTo>
                      <a:lnTo>
                        <a:pt x="1279" y="286"/>
                      </a:lnTo>
                      <a:lnTo>
                        <a:pt x="1269" y="286"/>
                      </a:lnTo>
                      <a:lnTo>
                        <a:pt x="1264" y="286"/>
                      </a:lnTo>
                      <a:lnTo>
                        <a:pt x="1255" y="281"/>
                      </a:lnTo>
                      <a:lnTo>
                        <a:pt x="1250" y="281"/>
                      </a:lnTo>
                      <a:lnTo>
                        <a:pt x="1245" y="276"/>
                      </a:lnTo>
                      <a:lnTo>
                        <a:pt x="1240" y="276"/>
                      </a:lnTo>
                      <a:lnTo>
                        <a:pt x="1235" y="272"/>
                      </a:lnTo>
                      <a:lnTo>
                        <a:pt x="1230" y="267"/>
                      </a:lnTo>
                      <a:lnTo>
                        <a:pt x="1226" y="262"/>
                      </a:lnTo>
                      <a:lnTo>
                        <a:pt x="1226" y="257"/>
                      </a:lnTo>
                      <a:lnTo>
                        <a:pt x="1226" y="252"/>
                      </a:lnTo>
                      <a:lnTo>
                        <a:pt x="1221" y="247"/>
                      </a:lnTo>
                      <a:lnTo>
                        <a:pt x="1221" y="238"/>
                      </a:lnTo>
                      <a:lnTo>
                        <a:pt x="1221" y="228"/>
                      </a:lnTo>
                      <a:lnTo>
                        <a:pt x="1221" y="218"/>
                      </a:lnTo>
                      <a:lnTo>
                        <a:pt x="1221" y="68"/>
                      </a:lnTo>
                      <a:lnTo>
                        <a:pt x="1221" y="58"/>
                      </a:lnTo>
                      <a:lnTo>
                        <a:pt x="1221" y="54"/>
                      </a:lnTo>
                      <a:lnTo>
                        <a:pt x="1221" y="44"/>
                      </a:lnTo>
                      <a:lnTo>
                        <a:pt x="1226" y="39"/>
                      </a:lnTo>
                      <a:lnTo>
                        <a:pt x="1226" y="29"/>
                      </a:lnTo>
                      <a:lnTo>
                        <a:pt x="1226" y="25"/>
                      </a:lnTo>
                      <a:lnTo>
                        <a:pt x="1230" y="20"/>
                      </a:lnTo>
                      <a:lnTo>
                        <a:pt x="1235" y="15"/>
                      </a:lnTo>
                      <a:lnTo>
                        <a:pt x="1240" y="15"/>
                      </a:lnTo>
                      <a:lnTo>
                        <a:pt x="1245" y="10"/>
                      </a:lnTo>
                      <a:lnTo>
                        <a:pt x="1250" y="10"/>
                      </a:lnTo>
                      <a:lnTo>
                        <a:pt x="1255" y="5"/>
                      </a:lnTo>
                      <a:lnTo>
                        <a:pt x="1264" y="5"/>
                      </a:lnTo>
                      <a:lnTo>
                        <a:pt x="1269" y="5"/>
                      </a:lnTo>
                      <a:lnTo>
                        <a:pt x="1279" y="0"/>
                      </a:lnTo>
                      <a:lnTo>
                        <a:pt x="1289" y="0"/>
                      </a:lnTo>
                      <a:lnTo>
                        <a:pt x="1458" y="0"/>
                      </a:lnTo>
                      <a:lnTo>
                        <a:pt x="1468" y="0"/>
                      </a:lnTo>
                      <a:lnTo>
                        <a:pt x="1477" y="5"/>
                      </a:lnTo>
                      <a:lnTo>
                        <a:pt x="1487" y="5"/>
                      </a:lnTo>
                      <a:lnTo>
                        <a:pt x="1497" y="5"/>
                      </a:lnTo>
                      <a:lnTo>
                        <a:pt x="1502" y="10"/>
                      </a:lnTo>
                      <a:lnTo>
                        <a:pt x="1506" y="10"/>
                      </a:lnTo>
                      <a:lnTo>
                        <a:pt x="1511" y="15"/>
                      </a:lnTo>
                      <a:lnTo>
                        <a:pt x="1516" y="15"/>
                      </a:lnTo>
                      <a:lnTo>
                        <a:pt x="1521" y="20"/>
                      </a:lnTo>
                      <a:lnTo>
                        <a:pt x="1521" y="25"/>
                      </a:lnTo>
                      <a:lnTo>
                        <a:pt x="1526" y="29"/>
                      </a:lnTo>
                      <a:lnTo>
                        <a:pt x="1526" y="39"/>
                      </a:lnTo>
                      <a:lnTo>
                        <a:pt x="1526" y="44"/>
                      </a:lnTo>
                      <a:lnTo>
                        <a:pt x="1531" y="54"/>
                      </a:lnTo>
                      <a:lnTo>
                        <a:pt x="1531" y="58"/>
                      </a:lnTo>
                      <a:lnTo>
                        <a:pt x="1531" y="68"/>
                      </a:lnTo>
                      <a:lnTo>
                        <a:pt x="1531" y="97"/>
                      </a:lnTo>
                      <a:lnTo>
                        <a:pt x="1463" y="107"/>
                      </a:lnTo>
                      <a:lnTo>
                        <a:pt x="1463" y="54"/>
                      </a:lnTo>
                      <a:close/>
                      <a:moveTo>
                        <a:pt x="1879" y="286"/>
                      </a:moveTo>
                      <a:lnTo>
                        <a:pt x="1879" y="0"/>
                      </a:lnTo>
                      <a:lnTo>
                        <a:pt x="1933" y="0"/>
                      </a:lnTo>
                      <a:lnTo>
                        <a:pt x="2068" y="175"/>
                      </a:lnTo>
                      <a:lnTo>
                        <a:pt x="2199" y="0"/>
                      </a:lnTo>
                      <a:lnTo>
                        <a:pt x="2252" y="0"/>
                      </a:lnTo>
                      <a:lnTo>
                        <a:pt x="2252" y="286"/>
                      </a:lnTo>
                      <a:lnTo>
                        <a:pt x="2189" y="286"/>
                      </a:lnTo>
                      <a:lnTo>
                        <a:pt x="2189" y="112"/>
                      </a:lnTo>
                      <a:lnTo>
                        <a:pt x="2189" y="112"/>
                      </a:lnTo>
                      <a:lnTo>
                        <a:pt x="2189" y="107"/>
                      </a:lnTo>
                      <a:lnTo>
                        <a:pt x="2189" y="107"/>
                      </a:lnTo>
                      <a:lnTo>
                        <a:pt x="2189" y="107"/>
                      </a:lnTo>
                      <a:lnTo>
                        <a:pt x="2189" y="102"/>
                      </a:lnTo>
                      <a:lnTo>
                        <a:pt x="2189" y="102"/>
                      </a:lnTo>
                      <a:lnTo>
                        <a:pt x="2189" y="102"/>
                      </a:lnTo>
                      <a:lnTo>
                        <a:pt x="2189" y="97"/>
                      </a:lnTo>
                      <a:lnTo>
                        <a:pt x="2189" y="97"/>
                      </a:lnTo>
                      <a:lnTo>
                        <a:pt x="2189" y="92"/>
                      </a:lnTo>
                      <a:lnTo>
                        <a:pt x="2189" y="92"/>
                      </a:lnTo>
                      <a:lnTo>
                        <a:pt x="2189" y="88"/>
                      </a:lnTo>
                      <a:lnTo>
                        <a:pt x="2189" y="88"/>
                      </a:lnTo>
                      <a:lnTo>
                        <a:pt x="2189" y="88"/>
                      </a:lnTo>
                      <a:lnTo>
                        <a:pt x="2189" y="83"/>
                      </a:lnTo>
                      <a:lnTo>
                        <a:pt x="2194" y="83"/>
                      </a:lnTo>
                      <a:lnTo>
                        <a:pt x="2189" y="83"/>
                      </a:lnTo>
                      <a:lnTo>
                        <a:pt x="2189" y="88"/>
                      </a:lnTo>
                      <a:lnTo>
                        <a:pt x="2189" y="88"/>
                      </a:lnTo>
                      <a:lnTo>
                        <a:pt x="2189" y="92"/>
                      </a:lnTo>
                      <a:lnTo>
                        <a:pt x="2185" y="92"/>
                      </a:lnTo>
                      <a:lnTo>
                        <a:pt x="2185" y="97"/>
                      </a:lnTo>
                      <a:lnTo>
                        <a:pt x="2185" y="97"/>
                      </a:lnTo>
                      <a:lnTo>
                        <a:pt x="2185" y="97"/>
                      </a:lnTo>
                      <a:lnTo>
                        <a:pt x="2180" y="102"/>
                      </a:lnTo>
                      <a:lnTo>
                        <a:pt x="2180" y="102"/>
                      </a:lnTo>
                      <a:lnTo>
                        <a:pt x="2180" y="102"/>
                      </a:lnTo>
                      <a:lnTo>
                        <a:pt x="2180" y="107"/>
                      </a:lnTo>
                      <a:lnTo>
                        <a:pt x="2180" y="107"/>
                      </a:lnTo>
                      <a:lnTo>
                        <a:pt x="2175" y="107"/>
                      </a:lnTo>
                      <a:lnTo>
                        <a:pt x="2175" y="107"/>
                      </a:lnTo>
                      <a:lnTo>
                        <a:pt x="2175" y="112"/>
                      </a:lnTo>
                      <a:lnTo>
                        <a:pt x="2068" y="252"/>
                      </a:lnTo>
                      <a:lnTo>
                        <a:pt x="2054" y="252"/>
                      </a:lnTo>
                      <a:lnTo>
                        <a:pt x="1947" y="112"/>
                      </a:lnTo>
                      <a:lnTo>
                        <a:pt x="1947" y="107"/>
                      </a:lnTo>
                      <a:lnTo>
                        <a:pt x="1947" y="107"/>
                      </a:lnTo>
                      <a:lnTo>
                        <a:pt x="1942" y="102"/>
                      </a:lnTo>
                      <a:lnTo>
                        <a:pt x="1942" y="102"/>
                      </a:lnTo>
                      <a:lnTo>
                        <a:pt x="1942" y="102"/>
                      </a:lnTo>
                      <a:lnTo>
                        <a:pt x="1942" y="97"/>
                      </a:lnTo>
                      <a:lnTo>
                        <a:pt x="1938" y="97"/>
                      </a:lnTo>
                      <a:lnTo>
                        <a:pt x="1938" y="92"/>
                      </a:lnTo>
                      <a:lnTo>
                        <a:pt x="1938" y="92"/>
                      </a:lnTo>
                      <a:lnTo>
                        <a:pt x="1938" y="92"/>
                      </a:lnTo>
                      <a:lnTo>
                        <a:pt x="1938" y="88"/>
                      </a:lnTo>
                      <a:lnTo>
                        <a:pt x="1933" y="88"/>
                      </a:lnTo>
                      <a:lnTo>
                        <a:pt x="1933" y="88"/>
                      </a:lnTo>
                      <a:lnTo>
                        <a:pt x="1933" y="83"/>
                      </a:lnTo>
                      <a:lnTo>
                        <a:pt x="1933" y="83"/>
                      </a:lnTo>
                      <a:lnTo>
                        <a:pt x="1933" y="83"/>
                      </a:lnTo>
                      <a:lnTo>
                        <a:pt x="1933" y="83"/>
                      </a:lnTo>
                      <a:lnTo>
                        <a:pt x="1933" y="88"/>
                      </a:lnTo>
                      <a:lnTo>
                        <a:pt x="1933" y="88"/>
                      </a:lnTo>
                      <a:lnTo>
                        <a:pt x="1933" y="88"/>
                      </a:lnTo>
                      <a:lnTo>
                        <a:pt x="1933" y="92"/>
                      </a:lnTo>
                      <a:lnTo>
                        <a:pt x="1933" y="92"/>
                      </a:lnTo>
                      <a:lnTo>
                        <a:pt x="1933" y="97"/>
                      </a:lnTo>
                      <a:lnTo>
                        <a:pt x="1933" y="97"/>
                      </a:lnTo>
                      <a:lnTo>
                        <a:pt x="1933" y="97"/>
                      </a:lnTo>
                      <a:lnTo>
                        <a:pt x="1933" y="102"/>
                      </a:lnTo>
                      <a:lnTo>
                        <a:pt x="1933" y="102"/>
                      </a:lnTo>
                      <a:lnTo>
                        <a:pt x="1933" y="102"/>
                      </a:lnTo>
                      <a:lnTo>
                        <a:pt x="1933" y="107"/>
                      </a:lnTo>
                      <a:lnTo>
                        <a:pt x="1933" y="107"/>
                      </a:lnTo>
                      <a:lnTo>
                        <a:pt x="1933" y="107"/>
                      </a:lnTo>
                      <a:lnTo>
                        <a:pt x="1933" y="112"/>
                      </a:lnTo>
                      <a:lnTo>
                        <a:pt x="1933" y="286"/>
                      </a:lnTo>
                      <a:lnTo>
                        <a:pt x="1879" y="286"/>
                      </a:lnTo>
                      <a:close/>
                      <a:moveTo>
                        <a:pt x="2572" y="286"/>
                      </a:moveTo>
                      <a:lnTo>
                        <a:pt x="2572" y="0"/>
                      </a:lnTo>
                      <a:lnTo>
                        <a:pt x="2635" y="0"/>
                      </a:lnTo>
                      <a:lnTo>
                        <a:pt x="2635" y="286"/>
                      </a:lnTo>
                      <a:lnTo>
                        <a:pt x="2572" y="286"/>
                      </a:lnTo>
                      <a:close/>
                      <a:moveTo>
                        <a:pt x="2964" y="286"/>
                      </a:moveTo>
                      <a:lnTo>
                        <a:pt x="2964" y="0"/>
                      </a:lnTo>
                      <a:lnTo>
                        <a:pt x="3008" y="0"/>
                      </a:lnTo>
                      <a:lnTo>
                        <a:pt x="3206" y="170"/>
                      </a:lnTo>
                      <a:lnTo>
                        <a:pt x="3211" y="170"/>
                      </a:lnTo>
                      <a:lnTo>
                        <a:pt x="3211" y="175"/>
                      </a:lnTo>
                      <a:lnTo>
                        <a:pt x="3216" y="175"/>
                      </a:lnTo>
                      <a:lnTo>
                        <a:pt x="3216" y="180"/>
                      </a:lnTo>
                      <a:lnTo>
                        <a:pt x="3221" y="180"/>
                      </a:lnTo>
                      <a:lnTo>
                        <a:pt x="3221" y="180"/>
                      </a:lnTo>
                      <a:lnTo>
                        <a:pt x="3226" y="184"/>
                      </a:lnTo>
                      <a:lnTo>
                        <a:pt x="3226" y="184"/>
                      </a:lnTo>
                      <a:lnTo>
                        <a:pt x="3226" y="189"/>
                      </a:lnTo>
                      <a:lnTo>
                        <a:pt x="3231" y="189"/>
                      </a:lnTo>
                      <a:lnTo>
                        <a:pt x="3231" y="189"/>
                      </a:lnTo>
                      <a:lnTo>
                        <a:pt x="3235" y="194"/>
                      </a:lnTo>
                      <a:lnTo>
                        <a:pt x="3235" y="194"/>
                      </a:lnTo>
                      <a:lnTo>
                        <a:pt x="3235" y="199"/>
                      </a:lnTo>
                      <a:lnTo>
                        <a:pt x="3240" y="199"/>
                      </a:lnTo>
                      <a:lnTo>
                        <a:pt x="3240" y="199"/>
                      </a:lnTo>
                      <a:lnTo>
                        <a:pt x="3240" y="194"/>
                      </a:lnTo>
                      <a:lnTo>
                        <a:pt x="3240" y="189"/>
                      </a:lnTo>
                      <a:lnTo>
                        <a:pt x="3240" y="184"/>
                      </a:lnTo>
                      <a:lnTo>
                        <a:pt x="3240" y="180"/>
                      </a:lnTo>
                      <a:lnTo>
                        <a:pt x="3240" y="175"/>
                      </a:lnTo>
                      <a:lnTo>
                        <a:pt x="3240" y="175"/>
                      </a:lnTo>
                      <a:lnTo>
                        <a:pt x="3235" y="170"/>
                      </a:lnTo>
                      <a:lnTo>
                        <a:pt x="3235" y="165"/>
                      </a:lnTo>
                      <a:lnTo>
                        <a:pt x="3235" y="165"/>
                      </a:lnTo>
                      <a:lnTo>
                        <a:pt x="3235" y="160"/>
                      </a:lnTo>
                      <a:lnTo>
                        <a:pt x="3235" y="160"/>
                      </a:lnTo>
                      <a:lnTo>
                        <a:pt x="3235" y="160"/>
                      </a:lnTo>
                      <a:lnTo>
                        <a:pt x="3235" y="155"/>
                      </a:lnTo>
                      <a:lnTo>
                        <a:pt x="3235" y="155"/>
                      </a:lnTo>
                      <a:lnTo>
                        <a:pt x="3235" y="155"/>
                      </a:lnTo>
                      <a:lnTo>
                        <a:pt x="3235" y="151"/>
                      </a:lnTo>
                      <a:lnTo>
                        <a:pt x="3235" y="0"/>
                      </a:lnTo>
                      <a:lnTo>
                        <a:pt x="3298" y="0"/>
                      </a:lnTo>
                      <a:lnTo>
                        <a:pt x="3298" y="286"/>
                      </a:lnTo>
                      <a:lnTo>
                        <a:pt x="3250" y="286"/>
                      </a:lnTo>
                      <a:lnTo>
                        <a:pt x="3042" y="112"/>
                      </a:lnTo>
                      <a:lnTo>
                        <a:pt x="3042" y="107"/>
                      </a:lnTo>
                      <a:lnTo>
                        <a:pt x="3037" y="107"/>
                      </a:lnTo>
                      <a:lnTo>
                        <a:pt x="3037" y="107"/>
                      </a:lnTo>
                      <a:lnTo>
                        <a:pt x="3037" y="107"/>
                      </a:lnTo>
                      <a:lnTo>
                        <a:pt x="3032" y="102"/>
                      </a:lnTo>
                      <a:lnTo>
                        <a:pt x="3032" y="102"/>
                      </a:lnTo>
                      <a:lnTo>
                        <a:pt x="3032" y="102"/>
                      </a:lnTo>
                      <a:lnTo>
                        <a:pt x="3027" y="97"/>
                      </a:lnTo>
                      <a:lnTo>
                        <a:pt x="3027" y="97"/>
                      </a:lnTo>
                      <a:lnTo>
                        <a:pt x="3027" y="97"/>
                      </a:lnTo>
                      <a:lnTo>
                        <a:pt x="3027" y="97"/>
                      </a:lnTo>
                      <a:lnTo>
                        <a:pt x="3022" y="92"/>
                      </a:lnTo>
                      <a:lnTo>
                        <a:pt x="3022" y="92"/>
                      </a:lnTo>
                      <a:lnTo>
                        <a:pt x="3022" y="92"/>
                      </a:lnTo>
                      <a:lnTo>
                        <a:pt x="3022" y="88"/>
                      </a:lnTo>
                      <a:lnTo>
                        <a:pt x="3018" y="88"/>
                      </a:lnTo>
                      <a:lnTo>
                        <a:pt x="3018" y="92"/>
                      </a:lnTo>
                      <a:lnTo>
                        <a:pt x="3018" y="92"/>
                      </a:lnTo>
                      <a:lnTo>
                        <a:pt x="3018" y="97"/>
                      </a:lnTo>
                      <a:lnTo>
                        <a:pt x="3022" y="102"/>
                      </a:lnTo>
                      <a:lnTo>
                        <a:pt x="3022" y="102"/>
                      </a:lnTo>
                      <a:lnTo>
                        <a:pt x="3022" y="107"/>
                      </a:lnTo>
                      <a:lnTo>
                        <a:pt x="3022" y="112"/>
                      </a:lnTo>
                      <a:lnTo>
                        <a:pt x="3022" y="112"/>
                      </a:lnTo>
                      <a:lnTo>
                        <a:pt x="3022" y="117"/>
                      </a:lnTo>
                      <a:lnTo>
                        <a:pt x="3022" y="117"/>
                      </a:lnTo>
                      <a:lnTo>
                        <a:pt x="3022" y="121"/>
                      </a:lnTo>
                      <a:lnTo>
                        <a:pt x="3022" y="121"/>
                      </a:lnTo>
                      <a:lnTo>
                        <a:pt x="3022" y="126"/>
                      </a:lnTo>
                      <a:lnTo>
                        <a:pt x="3022" y="126"/>
                      </a:lnTo>
                      <a:lnTo>
                        <a:pt x="3022" y="131"/>
                      </a:lnTo>
                      <a:lnTo>
                        <a:pt x="3022" y="131"/>
                      </a:lnTo>
                      <a:lnTo>
                        <a:pt x="3022" y="286"/>
                      </a:lnTo>
                      <a:lnTo>
                        <a:pt x="2964" y="286"/>
                      </a:lnTo>
                      <a:close/>
                      <a:moveTo>
                        <a:pt x="3696" y="175"/>
                      </a:moveTo>
                      <a:lnTo>
                        <a:pt x="3821" y="175"/>
                      </a:lnTo>
                      <a:lnTo>
                        <a:pt x="3758" y="58"/>
                      </a:lnTo>
                      <a:lnTo>
                        <a:pt x="3696" y="175"/>
                      </a:lnTo>
                      <a:close/>
                      <a:moveTo>
                        <a:pt x="3570" y="286"/>
                      </a:moveTo>
                      <a:lnTo>
                        <a:pt x="3729" y="0"/>
                      </a:lnTo>
                      <a:lnTo>
                        <a:pt x="3792" y="0"/>
                      </a:lnTo>
                      <a:lnTo>
                        <a:pt x="3957" y="286"/>
                      </a:lnTo>
                      <a:lnTo>
                        <a:pt x="3880" y="286"/>
                      </a:lnTo>
                      <a:lnTo>
                        <a:pt x="3846" y="223"/>
                      </a:lnTo>
                      <a:lnTo>
                        <a:pt x="3666" y="223"/>
                      </a:lnTo>
                      <a:lnTo>
                        <a:pt x="3633" y="286"/>
                      </a:lnTo>
                      <a:lnTo>
                        <a:pt x="3570" y="286"/>
                      </a:lnTo>
                      <a:close/>
                      <a:moveTo>
                        <a:pt x="4466" y="54"/>
                      </a:moveTo>
                      <a:lnTo>
                        <a:pt x="4277" y="54"/>
                      </a:lnTo>
                      <a:lnTo>
                        <a:pt x="4277" y="112"/>
                      </a:lnTo>
                      <a:lnTo>
                        <a:pt x="4456" y="112"/>
                      </a:lnTo>
                      <a:lnTo>
                        <a:pt x="4466" y="112"/>
                      </a:lnTo>
                      <a:lnTo>
                        <a:pt x="4475" y="112"/>
                      </a:lnTo>
                      <a:lnTo>
                        <a:pt x="4485" y="117"/>
                      </a:lnTo>
                      <a:lnTo>
                        <a:pt x="4490" y="117"/>
                      </a:lnTo>
                      <a:lnTo>
                        <a:pt x="4495" y="117"/>
                      </a:lnTo>
                      <a:lnTo>
                        <a:pt x="4504" y="121"/>
                      </a:lnTo>
                      <a:lnTo>
                        <a:pt x="4509" y="126"/>
                      </a:lnTo>
                      <a:lnTo>
                        <a:pt x="4514" y="126"/>
                      </a:lnTo>
                      <a:lnTo>
                        <a:pt x="4514" y="131"/>
                      </a:lnTo>
                      <a:lnTo>
                        <a:pt x="4519" y="136"/>
                      </a:lnTo>
                      <a:lnTo>
                        <a:pt x="4519" y="141"/>
                      </a:lnTo>
                      <a:lnTo>
                        <a:pt x="4524" y="146"/>
                      </a:lnTo>
                      <a:lnTo>
                        <a:pt x="4524" y="155"/>
                      </a:lnTo>
                      <a:lnTo>
                        <a:pt x="4524" y="160"/>
                      </a:lnTo>
                      <a:lnTo>
                        <a:pt x="4529" y="170"/>
                      </a:lnTo>
                      <a:lnTo>
                        <a:pt x="4529" y="180"/>
                      </a:lnTo>
                      <a:lnTo>
                        <a:pt x="4529" y="218"/>
                      </a:lnTo>
                      <a:lnTo>
                        <a:pt x="4529" y="228"/>
                      </a:lnTo>
                      <a:lnTo>
                        <a:pt x="4524" y="238"/>
                      </a:lnTo>
                      <a:lnTo>
                        <a:pt x="4524" y="247"/>
                      </a:lnTo>
                      <a:lnTo>
                        <a:pt x="4524" y="252"/>
                      </a:lnTo>
                      <a:lnTo>
                        <a:pt x="4519" y="257"/>
                      </a:lnTo>
                      <a:lnTo>
                        <a:pt x="4519" y="262"/>
                      </a:lnTo>
                      <a:lnTo>
                        <a:pt x="4514" y="267"/>
                      </a:lnTo>
                      <a:lnTo>
                        <a:pt x="4514" y="272"/>
                      </a:lnTo>
                      <a:lnTo>
                        <a:pt x="4509" y="276"/>
                      </a:lnTo>
                      <a:lnTo>
                        <a:pt x="4504" y="276"/>
                      </a:lnTo>
                      <a:lnTo>
                        <a:pt x="4495" y="281"/>
                      </a:lnTo>
                      <a:lnTo>
                        <a:pt x="4490" y="281"/>
                      </a:lnTo>
                      <a:lnTo>
                        <a:pt x="4485" y="286"/>
                      </a:lnTo>
                      <a:lnTo>
                        <a:pt x="4475" y="286"/>
                      </a:lnTo>
                      <a:lnTo>
                        <a:pt x="4466" y="286"/>
                      </a:lnTo>
                      <a:lnTo>
                        <a:pt x="4456" y="286"/>
                      </a:lnTo>
                      <a:lnTo>
                        <a:pt x="4282" y="286"/>
                      </a:lnTo>
                      <a:lnTo>
                        <a:pt x="4272" y="286"/>
                      </a:lnTo>
                      <a:lnTo>
                        <a:pt x="4262" y="286"/>
                      </a:lnTo>
                      <a:lnTo>
                        <a:pt x="4252" y="286"/>
                      </a:lnTo>
                      <a:lnTo>
                        <a:pt x="4243" y="281"/>
                      </a:lnTo>
                      <a:lnTo>
                        <a:pt x="4238" y="281"/>
                      </a:lnTo>
                      <a:lnTo>
                        <a:pt x="4233" y="276"/>
                      </a:lnTo>
                      <a:lnTo>
                        <a:pt x="4228" y="276"/>
                      </a:lnTo>
                      <a:lnTo>
                        <a:pt x="4223" y="272"/>
                      </a:lnTo>
                      <a:lnTo>
                        <a:pt x="4219" y="267"/>
                      </a:lnTo>
                      <a:lnTo>
                        <a:pt x="4219" y="262"/>
                      </a:lnTo>
                      <a:lnTo>
                        <a:pt x="4214" y="257"/>
                      </a:lnTo>
                      <a:lnTo>
                        <a:pt x="4214" y="252"/>
                      </a:lnTo>
                      <a:lnTo>
                        <a:pt x="4209" y="247"/>
                      </a:lnTo>
                      <a:lnTo>
                        <a:pt x="4209" y="238"/>
                      </a:lnTo>
                      <a:lnTo>
                        <a:pt x="4209" y="228"/>
                      </a:lnTo>
                      <a:lnTo>
                        <a:pt x="4209" y="218"/>
                      </a:lnTo>
                      <a:lnTo>
                        <a:pt x="4209" y="213"/>
                      </a:lnTo>
                      <a:lnTo>
                        <a:pt x="4267" y="199"/>
                      </a:lnTo>
                      <a:lnTo>
                        <a:pt x="4267" y="233"/>
                      </a:lnTo>
                      <a:lnTo>
                        <a:pt x="4470" y="233"/>
                      </a:lnTo>
                      <a:lnTo>
                        <a:pt x="4470" y="170"/>
                      </a:lnTo>
                      <a:lnTo>
                        <a:pt x="4291" y="170"/>
                      </a:lnTo>
                      <a:lnTo>
                        <a:pt x="4282" y="170"/>
                      </a:lnTo>
                      <a:lnTo>
                        <a:pt x="4272" y="165"/>
                      </a:lnTo>
                      <a:lnTo>
                        <a:pt x="4262" y="165"/>
                      </a:lnTo>
                      <a:lnTo>
                        <a:pt x="4257" y="165"/>
                      </a:lnTo>
                      <a:lnTo>
                        <a:pt x="4248" y="165"/>
                      </a:lnTo>
                      <a:lnTo>
                        <a:pt x="4243" y="160"/>
                      </a:lnTo>
                      <a:lnTo>
                        <a:pt x="4238" y="155"/>
                      </a:lnTo>
                      <a:lnTo>
                        <a:pt x="4233" y="155"/>
                      </a:lnTo>
                      <a:lnTo>
                        <a:pt x="4233" y="151"/>
                      </a:lnTo>
                      <a:lnTo>
                        <a:pt x="4228" y="146"/>
                      </a:lnTo>
                      <a:lnTo>
                        <a:pt x="4228" y="141"/>
                      </a:lnTo>
                      <a:lnTo>
                        <a:pt x="4223" y="136"/>
                      </a:lnTo>
                      <a:lnTo>
                        <a:pt x="4223" y="126"/>
                      </a:lnTo>
                      <a:lnTo>
                        <a:pt x="4223" y="117"/>
                      </a:lnTo>
                      <a:lnTo>
                        <a:pt x="4219" y="112"/>
                      </a:lnTo>
                      <a:lnTo>
                        <a:pt x="4219" y="102"/>
                      </a:lnTo>
                      <a:lnTo>
                        <a:pt x="4219" y="68"/>
                      </a:lnTo>
                      <a:lnTo>
                        <a:pt x="4219" y="58"/>
                      </a:lnTo>
                      <a:lnTo>
                        <a:pt x="4223" y="54"/>
                      </a:lnTo>
                      <a:lnTo>
                        <a:pt x="4223" y="44"/>
                      </a:lnTo>
                      <a:lnTo>
                        <a:pt x="4223" y="39"/>
                      </a:lnTo>
                      <a:lnTo>
                        <a:pt x="4228" y="29"/>
                      </a:lnTo>
                      <a:lnTo>
                        <a:pt x="4228" y="25"/>
                      </a:lnTo>
                      <a:lnTo>
                        <a:pt x="4233" y="20"/>
                      </a:lnTo>
                      <a:lnTo>
                        <a:pt x="4233" y="15"/>
                      </a:lnTo>
                      <a:lnTo>
                        <a:pt x="4238" y="15"/>
                      </a:lnTo>
                      <a:lnTo>
                        <a:pt x="4243" y="10"/>
                      </a:lnTo>
                      <a:lnTo>
                        <a:pt x="4248" y="10"/>
                      </a:lnTo>
                      <a:lnTo>
                        <a:pt x="4257" y="5"/>
                      </a:lnTo>
                      <a:lnTo>
                        <a:pt x="4262" y="5"/>
                      </a:lnTo>
                      <a:lnTo>
                        <a:pt x="4272" y="5"/>
                      </a:lnTo>
                      <a:lnTo>
                        <a:pt x="4282" y="0"/>
                      </a:lnTo>
                      <a:lnTo>
                        <a:pt x="4291" y="0"/>
                      </a:lnTo>
                      <a:lnTo>
                        <a:pt x="4451" y="0"/>
                      </a:lnTo>
                      <a:lnTo>
                        <a:pt x="4461" y="0"/>
                      </a:lnTo>
                      <a:lnTo>
                        <a:pt x="4470" y="5"/>
                      </a:lnTo>
                      <a:lnTo>
                        <a:pt x="4480" y="5"/>
                      </a:lnTo>
                      <a:lnTo>
                        <a:pt x="4485" y="5"/>
                      </a:lnTo>
                      <a:lnTo>
                        <a:pt x="4495" y="10"/>
                      </a:lnTo>
                      <a:lnTo>
                        <a:pt x="4499" y="10"/>
                      </a:lnTo>
                      <a:lnTo>
                        <a:pt x="4504" y="15"/>
                      </a:lnTo>
                      <a:lnTo>
                        <a:pt x="4509" y="15"/>
                      </a:lnTo>
                      <a:lnTo>
                        <a:pt x="4509" y="20"/>
                      </a:lnTo>
                      <a:lnTo>
                        <a:pt x="4514" y="25"/>
                      </a:lnTo>
                      <a:lnTo>
                        <a:pt x="4519" y="29"/>
                      </a:lnTo>
                      <a:lnTo>
                        <a:pt x="4519" y="34"/>
                      </a:lnTo>
                      <a:lnTo>
                        <a:pt x="4519" y="39"/>
                      </a:lnTo>
                      <a:lnTo>
                        <a:pt x="4524" y="49"/>
                      </a:lnTo>
                      <a:lnTo>
                        <a:pt x="4524" y="58"/>
                      </a:lnTo>
                      <a:lnTo>
                        <a:pt x="4524" y="63"/>
                      </a:lnTo>
                      <a:lnTo>
                        <a:pt x="4524" y="73"/>
                      </a:lnTo>
                      <a:lnTo>
                        <a:pt x="4466" y="83"/>
                      </a:lnTo>
                      <a:lnTo>
                        <a:pt x="4466" y="5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5" name=""/>
                <p:cNvSpPr/>
                <p:nvPr/>
              </p:nvSpPr>
              <p:spPr>
                <a:xfrm>
                  <a:off x="241200" y="5173920"/>
                  <a:ext cx="2632680" cy="267840"/>
                </a:xfrm>
                <a:custGeom>
                  <a:avLst/>
                  <a:gdLst/>
                  <a:ahLst/>
                  <a:rect l="l" t="t" r="r" b="b"/>
                  <a:pathLst>
                    <a:path w="9173" h="881">
                      <a:moveTo>
                        <a:pt x="0" y="881"/>
                      </a:moveTo>
                      <a:lnTo>
                        <a:pt x="0" y="266"/>
                      </a:lnTo>
                      <a:lnTo>
                        <a:pt x="141" y="266"/>
                      </a:lnTo>
                      <a:lnTo>
                        <a:pt x="141" y="881"/>
                      </a:lnTo>
                      <a:lnTo>
                        <a:pt x="0" y="881"/>
                      </a:lnTo>
                      <a:close/>
                      <a:moveTo>
                        <a:pt x="455" y="881"/>
                      </a:moveTo>
                      <a:lnTo>
                        <a:pt x="455" y="266"/>
                      </a:lnTo>
                      <a:lnTo>
                        <a:pt x="552" y="266"/>
                      </a:lnTo>
                      <a:lnTo>
                        <a:pt x="983" y="630"/>
                      </a:lnTo>
                      <a:lnTo>
                        <a:pt x="993" y="634"/>
                      </a:lnTo>
                      <a:lnTo>
                        <a:pt x="998" y="634"/>
                      </a:lnTo>
                      <a:lnTo>
                        <a:pt x="1003" y="639"/>
                      </a:lnTo>
                      <a:lnTo>
                        <a:pt x="1008" y="644"/>
                      </a:lnTo>
                      <a:lnTo>
                        <a:pt x="1012" y="649"/>
                      </a:lnTo>
                      <a:lnTo>
                        <a:pt x="1017" y="654"/>
                      </a:lnTo>
                      <a:lnTo>
                        <a:pt x="1022" y="659"/>
                      </a:lnTo>
                      <a:lnTo>
                        <a:pt x="1027" y="663"/>
                      </a:lnTo>
                      <a:lnTo>
                        <a:pt x="1027" y="668"/>
                      </a:lnTo>
                      <a:lnTo>
                        <a:pt x="1032" y="668"/>
                      </a:lnTo>
                      <a:lnTo>
                        <a:pt x="1037" y="673"/>
                      </a:lnTo>
                      <a:lnTo>
                        <a:pt x="1041" y="678"/>
                      </a:lnTo>
                      <a:lnTo>
                        <a:pt x="1046" y="683"/>
                      </a:lnTo>
                      <a:lnTo>
                        <a:pt x="1046" y="688"/>
                      </a:lnTo>
                      <a:lnTo>
                        <a:pt x="1051" y="692"/>
                      </a:lnTo>
                      <a:lnTo>
                        <a:pt x="1056" y="692"/>
                      </a:lnTo>
                      <a:lnTo>
                        <a:pt x="1056" y="683"/>
                      </a:lnTo>
                      <a:lnTo>
                        <a:pt x="1056" y="673"/>
                      </a:lnTo>
                      <a:lnTo>
                        <a:pt x="1051" y="659"/>
                      </a:lnTo>
                      <a:lnTo>
                        <a:pt x="1051" y="649"/>
                      </a:lnTo>
                      <a:lnTo>
                        <a:pt x="1051" y="644"/>
                      </a:lnTo>
                      <a:lnTo>
                        <a:pt x="1051" y="634"/>
                      </a:lnTo>
                      <a:lnTo>
                        <a:pt x="1051" y="630"/>
                      </a:lnTo>
                      <a:lnTo>
                        <a:pt x="1051" y="620"/>
                      </a:lnTo>
                      <a:lnTo>
                        <a:pt x="1051" y="615"/>
                      </a:lnTo>
                      <a:lnTo>
                        <a:pt x="1051" y="610"/>
                      </a:lnTo>
                      <a:lnTo>
                        <a:pt x="1051" y="605"/>
                      </a:lnTo>
                      <a:lnTo>
                        <a:pt x="1051" y="600"/>
                      </a:lnTo>
                      <a:lnTo>
                        <a:pt x="1051" y="600"/>
                      </a:lnTo>
                      <a:lnTo>
                        <a:pt x="1051" y="596"/>
                      </a:lnTo>
                      <a:lnTo>
                        <a:pt x="1051" y="591"/>
                      </a:lnTo>
                      <a:lnTo>
                        <a:pt x="1051" y="586"/>
                      </a:lnTo>
                      <a:lnTo>
                        <a:pt x="1051" y="266"/>
                      </a:lnTo>
                      <a:lnTo>
                        <a:pt x="1177" y="266"/>
                      </a:lnTo>
                      <a:lnTo>
                        <a:pt x="1177" y="881"/>
                      </a:lnTo>
                      <a:lnTo>
                        <a:pt x="1080" y="881"/>
                      </a:lnTo>
                      <a:lnTo>
                        <a:pt x="630" y="499"/>
                      </a:lnTo>
                      <a:lnTo>
                        <a:pt x="625" y="499"/>
                      </a:lnTo>
                      <a:lnTo>
                        <a:pt x="620" y="494"/>
                      </a:lnTo>
                      <a:lnTo>
                        <a:pt x="615" y="489"/>
                      </a:lnTo>
                      <a:lnTo>
                        <a:pt x="615" y="484"/>
                      </a:lnTo>
                      <a:lnTo>
                        <a:pt x="610" y="484"/>
                      </a:lnTo>
                      <a:lnTo>
                        <a:pt x="606" y="479"/>
                      </a:lnTo>
                      <a:lnTo>
                        <a:pt x="606" y="479"/>
                      </a:lnTo>
                      <a:lnTo>
                        <a:pt x="601" y="475"/>
                      </a:lnTo>
                      <a:lnTo>
                        <a:pt x="596" y="470"/>
                      </a:lnTo>
                      <a:lnTo>
                        <a:pt x="596" y="470"/>
                      </a:lnTo>
                      <a:lnTo>
                        <a:pt x="591" y="465"/>
                      </a:lnTo>
                      <a:lnTo>
                        <a:pt x="591" y="460"/>
                      </a:lnTo>
                      <a:lnTo>
                        <a:pt x="586" y="460"/>
                      </a:lnTo>
                      <a:lnTo>
                        <a:pt x="581" y="455"/>
                      </a:lnTo>
                      <a:lnTo>
                        <a:pt x="581" y="455"/>
                      </a:lnTo>
                      <a:lnTo>
                        <a:pt x="577" y="450"/>
                      </a:lnTo>
                      <a:lnTo>
                        <a:pt x="577" y="455"/>
                      </a:lnTo>
                      <a:lnTo>
                        <a:pt x="581" y="465"/>
                      </a:lnTo>
                      <a:lnTo>
                        <a:pt x="581" y="470"/>
                      </a:lnTo>
                      <a:lnTo>
                        <a:pt x="581" y="479"/>
                      </a:lnTo>
                      <a:lnTo>
                        <a:pt x="581" y="484"/>
                      </a:lnTo>
                      <a:lnTo>
                        <a:pt x="581" y="489"/>
                      </a:lnTo>
                      <a:lnTo>
                        <a:pt x="581" y="499"/>
                      </a:lnTo>
                      <a:lnTo>
                        <a:pt x="581" y="504"/>
                      </a:lnTo>
                      <a:lnTo>
                        <a:pt x="581" y="508"/>
                      </a:lnTo>
                      <a:lnTo>
                        <a:pt x="581" y="518"/>
                      </a:lnTo>
                      <a:lnTo>
                        <a:pt x="581" y="523"/>
                      </a:lnTo>
                      <a:lnTo>
                        <a:pt x="581" y="528"/>
                      </a:lnTo>
                      <a:lnTo>
                        <a:pt x="581" y="533"/>
                      </a:lnTo>
                      <a:lnTo>
                        <a:pt x="581" y="538"/>
                      </a:lnTo>
                      <a:lnTo>
                        <a:pt x="581" y="542"/>
                      </a:lnTo>
                      <a:lnTo>
                        <a:pt x="581" y="547"/>
                      </a:lnTo>
                      <a:lnTo>
                        <a:pt x="581" y="881"/>
                      </a:lnTo>
                      <a:lnTo>
                        <a:pt x="455" y="881"/>
                      </a:lnTo>
                      <a:close/>
                      <a:moveTo>
                        <a:pt x="1492" y="881"/>
                      </a:moveTo>
                      <a:lnTo>
                        <a:pt x="1492" y="266"/>
                      </a:lnTo>
                      <a:lnTo>
                        <a:pt x="2112" y="266"/>
                      </a:lnTo>
                      <a:lnTo>
                        <a:pt x="2112" y="373"/>
                      </a:lnTo>
                      <a:lnTo>
                        <a:pt x="1637" y="373"/>
                      </a:lnTo>
                      <a:lnTo>
                        <a:pt x="1637" y="533"/>
                      </a:lnTo>
                      <a:lnTo>
                        <a:pt x="1894" y="533"/>
                      </a:lnTo>
                      <a:lnTo>
                        <a:pt x="1894" y="649"/>
                      </a:lnTo>
                      <a:lnTo>
                        <a:pt x="1637" y="649"/>
                      </a:lnTo>
                      <a:lnTo>
                        <a:pt x="1637" y="881"/>
                      </a:lnTo>
                      <a:lnTo>
                        <a:pt x="1492" y="881"/>
                      </a:lnTo>
                      <a:close/>
                      <a:moveTo>
                        <a:pt x="2276" y="412"/>
                      </a:moveTo>
                      <a:lnTo>
                        <a:pt x="2281" y="392"/>
                      </a:lnTo>
                      <a:lnTo>
                        <a:pt x="2281" y="373"/>
                      </a:lnTo>
                      <a:lnTo>
                        <a:pt x="2281" y="353"/>
                      </a:lnTo>
                      <a:lnTo>
                        <a:pt x="2286" y="339"/>
                      </a:lnTo>
                      <a:lnTo>
                        <a:pt x="2291" y="324"/>
                      </a:lnTo>
                      <a:lnTo>
                        <a:pt x="2296" y="315"/>
                      </a:lnTo>
                      <a:lnTo>
                        <a:pt x="2301" y="305"/>
                      </a:lnTo>
                      <a:lnTo>
                        <a:pt x="2310" y="295"/>
                      </a:lnTo>
                      <a:lnTo>
                        <a:pt x="2320" y="291"/>
                      </a:lnTo>
                      <a:lnTo>
                        <a:pt x="2330" y="281"/>
                      </a:lnTo>
                      <a:lnTo>
                        <a:pt x="2339" y="276"/>
                      </a:lnTo>
                      <a:lnTo>
                        <a:pt x="2354" y="271"/>
                      </a:lnTo>
                      <a:lnTo>
                        <a:pt x="2373" y="271"/>
                      </a:lnTo>
                      <a:lnTo>
                        <a:pt x="2388" y="266"/>
                      </a:lnTo>
                      <a:lnTo>
                        <a:pt x="2407" y="266"/>
                      </a:lnTo>
                      <a:lnTo>
                        <a:pt x="2431" y="266"/>
                      </a:lnTo>
                      <a:lnTo>
                        <a:pt x="2882" y="266"/>
                      </a:lnTo>
                      <a:lnTo>
                        <a:pt x="2906" y="266"/>
                      </a:lnTo>
                      <a:lnTo>
                        <a:pt x="2925" y="266"/>
                      </a:lnTo>
                      <a:lnTo>
                        <a:pt x="2945" y="271"/>
                      </a:lnTo>
                      <a:lnTo>
                        <a:pt x="2959" y="271"/>
                      </a:lnTo>
                      <a:lnTo>
                        <a:pt x="2974" y="276"/>
                      </a:lnTo>
                      <a:lnTo>
                        <a:pt x="2983" y="281"/>
                      </a:lnTo>
                      <a:lnTo>
                        <a:pt x="2998" y="291"/>
                      </a:lnTo>
                      <a:lnTo>
                        <a:pt x="3003" y="295"/>
                      </a:lnTo>
                      <a:lnTo>
                        <a:pt x="3013" y="305"/>
                      </a:lnTo>
                      <a:lnTo>
                        <a:pt x="3017" y="315"/>
                      </a:lnTo>
                      <a:lnTo>
                        <a:pt x="3022" y="324"/>
                      </a:lnTo>
                      <a:lnTo>
                        <a:pt x="3027" y="339"/>
                      </a:lnTo>
                      <a:lnTo>
                        <a:pt x="3032" y="353"/>
                      </a:lnTo>
                      <a:lnTo>
                        <a:pt x="3032" y="373"/>
                      </a:lnTo>
                      <a:lnTo>
                        <a:pt x="3037" y="392"/>
                      </a:lnTo>
                      <a:lnTo>
                        <a:pt x="3037" y="412"/>
                      </a:lnTo>
                      <a:lnTo>
                        <a:pt x="3037" y="736"/>
                      </a:lnTo>
                      <a:lnTo>
                        <a:pt x="3037" y="755"/>
                      </a:lnTo>
                      <a:lnTo>
                        <a:pt x="3032" y="775"/>
                      </a:lnTo>
                      <a:lnTo>
                        <a:pt x="3032" y="789"/>
                      </a:lnTo>
                      <a:lnTo>
                        <a:pt x="3027" y="804"/>
                      </a:lnTo>
                      <a:lnTo>
                        <a:pt x="3022" y="818"/>
                      </a:lnTo>
                      <a:lnTo>
                        <a:pt x="3017" y="833"/>
                      </a:lnTo>
                      <a:lnTo>
                        <a:pt x="3013" y="843"/>
                      </a:lnTo>
                      <a:lnTo>
                        <a:pt x="3003" y="847"/>
                      </a:lnTo>
                      <a:lnTo>
                        <a:pt x="2998" y="857"/>
                      </a:lnTo>
                      <a:lnTo>
                        <a:pt x="2983" y="862"/>
                      </a:lnTo>
                      <a:lnTo>
                        <a:pt x="2974" y="867"/>
                      </a:lnTo>
                      <a:lnTo>
                        <a:pt x="2959" y="872"/>
                      </a:lnTo>
                      <a:lnTo>
                        <a:pt x="2945" y="877"/>
                      </a:lnTo>
                      <a:lnTo>
                        <a:pt x="2925" y="877"/>
                      </a:lnTo>
                      <a:lnTo>
                        <a:pt x="2906" y="881"/>
                      </a:lnTo>
                      <a:lnTo>
                        <a:pt x="2882" y="881"/>
                      </a:lnTo>
                      <a:lnTo>
                        <a:pt x="2431" y="881"/>
                      </a:lnTo>
                      <a:lnTo>
                        <a:pt x="2407" y="881"/>
                      </a:lnTo>
                      <a:lnTo>
                        <a:pt x="2388" y="877"/>
                      </a:lnTo>
                      <a:lnTo>
                        <a:pt x="2373" y="877"/>
                      </a:lnTo>
                      <a:lnTo>
                        <a:pt x="2354" y="872"/>
                      </a:lnTo>
                      <a:lnTo>
                        <a:pt x="2339" y="867"/>
                      </a:lnTo>
                      <a:lnTo>
                        <a:pt x="2330" y="862"/>
                      </a:lnTo>
                      <a:lnTo>
                        <a:pt x="2320" y="857"/>
                      </a:lnTo>
                      <a:lnTo>
                        <a:pt x="2310" y="847"/>
                      </a:lnTo>
                      <a:lnTo>
                        <a:pt x="2301" y="843"/>
                      </a:lnTo>
                      <a:lnTo>
                        <a:pt x="2296" y="833"/>
                      </a:lnTo>
                      <a:lnTo>
                        <a:pt x="2291" y="818"/>
                      </a:lnTo>
                      <a:lnTo>
                        <a:pt x="2286" y="804"/>
                      </a:lnTo>
                      <a:lnTo>
                        <a:pt x="2281" y="789"/>
                      </a:lnTo>
                      <a:lnTo>
                        <a:pt x="2281" y="775"/>
                      </a:lnTo>
                      <a:lnTo>
                        <a:pt x="2281" y="755"/>
                      </a:lnTo>
                      <a:lnTo>
                        <a:pt x="2276" y="736"/>
                      </a:lnTo>
                      <a:lnTo>
                        <a:pt x="2276" y="412"/>
                      </a:lnTo>
                      <a:close/>
                      <a:moveTo>
                        <a:pt x="2422" y="765"/>
                      </a:moveTo>
                      <a:lnTo>
                        <a:pt x="2891" y="765"/>
                      </a:lnTo>
                      <a:lnTo>
                        <a:pt x="2891" y="373"/>
                      </a:lnTo>
                      <a:lnTo>
                        <a:pt x="2422" y="373"/>
                      </a:lnTo>
                      <a:lnTo>
                        <a:pt x="2422" y="765"/>
                      </a:lnTo>
                      <a:close/>
                      <a:moveTo>
                        <a:pt x="3802" y="373"/>
                      </a:moveTo>
                      <a:lnTo>
                        <a:pt x="3477" y="373"/>
                      </a:lnTo>
                      <a:lnTo>
                        <a:pt x="3477" y="542"/>
                      </a:lnTo>
                      <a:lnTo>
                        <a:pt x="3802" y="542"/>
                      </a:lnTo>
                      <a:lnTo>
                        <a:pt x="3807" y="542"/>
                      </a:lnTo>
                      <a:lnTo>
                        <a:pt x="3816" y="542"/>
                      </a:lnTo>
                      <a:lnTo>
                        <a:pt x="3826" y="542"/>
                      </a:lnTo>
                      <a:lnTo>
                        <a:pt x="3831" y="542"/>
                      </a:lnTo>
                      <a:lnTo>
                        <a:pt x="3836" y="538"/>
                      </a:lnTo>
                      <a:lnTo>
                        <a:pt x="3841" y="538"/>
                      </a:lnTo>
                      <a:lnTo>
                        <a:pt x="3846" y="533"/>
                      </a:lnTo>
                      <a:lnTo>
                        <a:pt x="3850" y="533"/>
                      </a:lnTo>
                      <a:lnTo>
                        <a:pt x="3855" y="528"/>
                      </a:lnTo>
                      <a:lnTo>
                        <a:pt x="3855" y="528"/>
                      </a:lnTo>
                      <a:lnTo>
                        <a:pt x="3860" y="523"/>
                      </a:lnTo>
                      <a:lnTo>
                        <a:pt x="3860" y="518"/>
                      </a:lnTo>
                      <a:lnTo>
                        <a:pt x="3865" y="513"/>
                      </a:lnTo>
                      <a:lnTo>
                        <a:pt x="3865" y="508"/>
                      </a:lnTo>
                      <a:lnTo>
                        <a:pt x="3865" y="499"/>
                      </a:lnTo>
                      <a:lnTo>
                        <a:pt x="3865" y="494"/>
                      </a:lnTo>
                      <a:lnTo>
                        <a:pt x="3865" y="421"/>
                      </a:lnTo>
                      <a:lnTo>
                        <a:pt x="3865" y="412"/>
                      </a:lnTo>
                      <a:lnTo>
                        <a:pt x="3865" y="407"/>
                      </a:lnTo>
                      <a:lnTo>
                        <a:pt x="3865" y="402"/>
                      </a:lnTo>
                      <a:lnTo>
                        <a:pt x="3860" y="397"/>
                      </a:lnTo>
                      <a:lnTo>
                        <a:pt x="3860" y="392"/>
                      </a:lnTo>
                      <a:lnTo>
                        <a:pt x="3855" y="387"/>
                      </a:lnTo>
                      <a:lnTo>
                        <a:pt x="3855" y="387"/>
                      </a:lnTo>
                      <a:lnTo>
                        <a:pt x="3850" y="383"/>
                      </a:lnTo>
                      <a:lnTo>
                        <a:pt x="3846" y="378"/>
                      </a:lnTo>
                      <a:lnTo>
                        <a:pt x="3841" y="378"/>
                      </a:lnTo>
                      <a:lnTo>
                        <a:pt x="3836" y="378"/>
                      </a:lnTo>
                      <a:lnTo>
                        <a:pt x="3831" y="373"/>
                      </a:lnTo>
                      <a:lnTo>
                        <a:pt x="3826" y="373"/>
                      </a:lnTo>
                      <a:lnTo>
                        <a:pt x="3816" y="373"/>
                      </a:lnTo>
                      <a:lnTo>
                        <a:pt x="3807" y="373"/>
                      </a:lnTo>
                      <a:lnTo>
                        <a:pt x="3802" y="373"/>
                      </a:lnTo>
                      <a:close/>
                      <a:moveTo>
                        <a:pt x="3337" y="881"/>
                      </a:moveTo>
                      <a:lnTo>
                        <a:pt x="3337" y="266"/>
                      </a:lnTo>
                      <a:lnTo>
                        <a:pt x="3865" y="266"/>
                      </a:lnTo>
                      <a:lnTo>
                        <a:pt x="3879" y="266"/>
                      </a:lnTo>
                      <a:lnTo>
                        <a:pt x="3899" y="266"/>
                      </a:lnTo>
                      <a:lnTo>
                        <a:pt x="3913" y="271"/>
                      </a:lnTo>
                      <a:lnTo>
                        <a:pt x="3928" y="271"/>
                      </a:lnTo>
                      <a:lnTo>
                        <a:pt x="3938" y="276"/>
                      </a:lnTo>
                      <a:lnTo>
                        <a:pt x="3952" y="281"/>
                      </a:lnTo>
                      <a:lnTo>
                        <a:pt x="3962" y="286"/>
                      </a:lnTo>
                      <a:lnTo>
                        <a:pt x="3971" y="295"/>
                      </a:lnTo>
                      <a:lnTo>
                        <a:pt x="3976" y="300"/>
                      </a:lnTo>
                      <a:lnTo>
                        <a:pt x="3986" y="310"/>
                      </a:lnTo>
                      <a:lnTo>
                        <a:pt x="3991" y="320"/>
                      </a:lnTo>
                      <a:lnTo>
                        <a:pt x="3996" y="329"/>
                      </a:lnTo>
                      <a:lnTo>
                        <a:pt x="3996" y="344"/>
                      </a:lnTo>
                      <a:lnTo>
                        <a:pt x="4001" y="353"/>
                      </a:lnTo>
                      <a:lnTo>
                        <a:pt x="4001" y="368"/>
                      </a:lnTo>
                      <a:lnTo>
                        <a:pt x="4001" y="383"/>
                      </a:lnTo>
                      <a:lnTo>
                        <a:pt x="4001" y="528"/>
                      </a:lnTo>
                      <a:lnTo>
                        <a:pt x="4001" y="542"/>
                      </a:lnTo>
                      <a:lnTo>
                        <a:pt x="4001" y="557"/>
                      </a:lnTo>
                      <a:lnTo>
                        <a:pt x="3996" y="571"/>
                      </a:lnTo>
                      <a:lnTo>
                        <a:pt x="3996" y="581"/>
                      </a:lnTo>
                      <a:lnTo>
                        <a:pt x="3991" y="596"/>
                      </a:lnTo>
                      <a:lnTo>
                        <a:pt x="3986" y="605"/>
                      </a:lnTo>
                      <a:lnTo>
                        <a:pt x="3976" y="610"/>
                      </a:lnTo>
                      <a:lnTo>
                        <a:pt x="3971" y="620"/>
                      </a:lnTo>
                      <a:lnTo>
                        <a:pt x="3962" y="625"/>
                      </a:lnTo>
                      <a:lnTo>
                        <a:pt x="3952" y="634"/>
                      </a:lnTo>
                      <a:lnTo>
                        <a:pt x="3938" y="639"/>
                      </a:lnTo>
                      <a:lnTo>
                        <a:pt x="3928" y="639"/>
                      </a:lnTo>
                      <a:lnTo>
                        <a:pt x="3913" y="644"/>
                      </a:lnTo>
                      <a:lnTo>
                        <a:pt x="3899" y="644"/>
                      </a:lnTo>
                      <a:lnTo>
                        <a:pt x="3879" y="649"/>
                      </a:lnTo>
                      <a:lnTo>
                        <a:pt x="3865" y="649"/>
                      </a:lnTo>
                      <a:lnTo>
                        <a:pt x="3783" y="649"/>
                      </a:lnTo>
                      <a:lnTo>
                        <a:pt x="4068" y="881"/>
                      </a:lnTo>
                      <a:lnTo>
                        <a:pt x="3860" y="881"/>
                      </a:lnTo>
                      <a:lnTo>
                        <a:pt x="3613" y="649"/>
                      </a:lnTo>
                      <a:lnTo>
                        <a:pt x="3477" y="649"/>
                      </a:lnTo>
                      <a:lnTo>
                        <a:pt x="3477" y="881"/>
                      </a:lnTo>
                      <a:lnTo>
                        <a:pt x="3337" y="881"/>
                      </a:lnTo>
                      <a:close/>
                      <a:moveTo>
                        <a:pt x="4291" y="881"/>
                      </a:moveTo>
                      <a:lnTo>
                        <a:pt x="4291" y="266"/>
                      </a:lnTo>
                      <a:lnTo>
                        <a:pt x="4407" y="266"/>
                      </a:lnTo>
                      <a:lnTo>
                        <a:pt x="4698" y="639"/>
                      </a:lnTo>
                      <a:lnTo>
                        <a:pt x="4979" y="266"/>
                      </a:lnTo>
                      <a:lnTo>
                        <a:pt x="5095" y="266"/>
                      </a:lnTo>
                      <a:lnTo>
                        <a:pt x="5095" y="881"/>
                      </a:lnTo>
                      <a:lnTo>
                        <a:pt x="4964" y="881"/>
                      </a:lnTo>
                      <a:lnTo>
                        <a:pt x="4964" y="499"/>
                      </a:lnTo>
                      <a:lnTo>
                        <a:pt x="4964" y="499"/>
                      </a:lnTo>
                      <a:lnTo>
                        <a:pt x="4964" y="494"/>
                      </a:lnTo>
                      <a:lnTo>
                        <a:pt x="4964" y="489"/>
                      </a:lnTo>
                      <a:lnTo>
                        <a:pt x="4964" y="489"/>
                      </a:lnTo>
                      <a:lnTo>
                        <a:pt x="4964" y="484"/>
                      </a:lnTo>
                      <a:lnTo>
                        <a:pt x="4964" y="479"/>
                      </a:lnTo>
                      <a:lnTo>
                        <a:pt x="4964" y="475"/>
                      </a:lnTo>
                      <a:lnTo>
                        <a:pt x="4964" y="475"/>
                      </a:lnTo>
                      <a:lnTo>
                        <a:pt x="4964" y="470"/>
                      </a:lnTo>
                      <a:lnTo>
                        <a:pt x="4964" y="465"/>
                      </a:lnTo>
                      <a:lnTo>
                        <a:pt x="4964" y="460"/>
                      </a:lnTo>
                      <a:lnTo>
                        <a:pt x="4964" y="455"/>
                      </a:lnTo>
                      <a:lnTo>
                        <a:pt x="4964" y="450"/>
                      </a:lnTo>
                      <a:lnTo>
                        <a:pt x="4969" y="446"/>
                      </a:lnTo>
                      <a:lnTo>
                        <a:pt x="4969" y="441"/>
                      </a:lnTo>
                      <a:lnTo>
                        <a:pt x="4969" y="436"/>
                      </a:lnTo>
                      <a:lnTo>
                        <a:pt x="4964" y="441"/>
                      </a:lnTo>
                      <a:lnTo>
                        <a:pt x="4964" y="446"/>
                      </a:lnTo>
                      <a:lnTo>
                        <a:pt x="4959" y="450"/>
                      </a:lnTo>
                      <a:lnTo>
                        <a:pt x="4955" y="455"/>
                      </a:lnTo>
                      <a:lnTo>
                        <a:pt x="4955" y="460"/>
                      </a:lnTo>
                      <a:lnTo>
                        <a:pt x="4950" y="465"/>
                      </a:lnTo>
                      <a:lnTo>
                        <a:pt x="4950" y="470"/>
                      </a:lnTo>
                      <a:lnTo>
                        <a:pt x="4950" y="475"/>
                      </a:lnTo>
                      <a:lnTo>
                        <a:pt x="4945" y="479"/>
                      </a:lnTo>
                      <a:lnTo>
                        <a:pt x="4945" y="479"/>
                      </a:lnTo>
                      <a:lnTo>
                        <a:pt x="4940" y="484"/>
                      </a:lnTo>
                      <a:lnTo>
                        <a:pt x="4940" y="489"/>
                      </a:lnTo>
                      <a:lnTo>
                        <a:pt x="4935" y="489"/>
                      </a:lnTo>
                      <a:lnTo>
                        <a:pt x="4935" y="494"/>
                      </a:lnTo>
                      <a:lnTo>
                        <a:pt x="4935" y="499"/>
                      </a:lnTo>
                      <a:lnTo>
                        <a:pt x="4930" y="499"/>
                      </a:lnTo>
                      <a:lnTo>
                        <a:pt x="4703" y="809"/>
                      </a:lnTo>
                      <a:lnTo>
                        <a:pt x="4674" y="809"/>
                      </a:lnTo>
                      <a:lnTo>
                        <a:pt x="4441" y="499"/>
                      </a:lnTo>
                      <a:lnTo>
                        <a:pt x="4436" y="494"/>
                      </a:lnTo>
                      <a:lnTo>
                        <a:pt x="4436" y="489"/>
                      </a:lnTo>
                      <a:lnTo>
                        <a:pt x="4432" y="484"/>
                      </a:lnTo>
                      <a:lnTo>
                        <a:pt x="4427" y="479"/>
                      </a:lnTo>
                      <a:lnTo>
                        <a:pt x="4427" y="479"/>
                      </a:lnTo>
                      <a:lnTo>
                        <a:pt x="4422" y="475"/>
                      </a:lnTo>
                      <a:lnTo>
                        <a:pt x="4422" y="470"/>
                      </a:lnTo>
                      <a:lnTo>
                        <a:pt x="4417" y="465"/>
                      </a:lnTo>
                      <a:lnTo>
                        <a:pt x="4417" y="460"/>
                      </a:lnTo>
                      <a:lnTo>
                        <a:pt x="4412" y="455"/>
                      </a:lnTo>
                      <a:lnTo>
                        <a:pt x="4412" y="455"/>
                      </a:lnTo>
                      <a:lnTo>
                        <a:pt x="4412" y="450"/>
                      </a:lnTo>
                      <a:lnTo>
                        <a:pt x="4407" y="446"/>
                      </a:lnTo>
                      <a:lnTo>
                        <a:pt x="4407" y="441"/>
                      </a:lnTo>
                      <a:lnTo>
                        <a:pt x="4407" y="441"/>
                      </a:lnTo>
                      <a:lnTo>
                        <a:pt x="4402" y="436"/>
                      </a:lnTo>
                      <a:lnTo>
                        <a:pt x="4402" y="441"/>
                      </a:lnTo>
                      <a:lnTo>
                        <a:pt x="4402" y="446"/>
                      </a:lnTo>
                      <a:lnTo>
                        <a:pt x="4407" y="450"/>
                      </a:lnTo>
                      <a:lnTo>
                        <a:pt x="4407" y="455"/>
                      </a:lnTo>
                      <a:lnTo>
                        <a:pt x="4407" y="460"/>
                      </a:lnTo>
                      <a:lnTo>
                        <a:pt x="4407" y="460"/>
                      </a:lnTo>
                      <a:lnTo>
                        <a:pt x="4407" y="465"/>
                      </a:lnTo>
                      <a:lnTo>
                        <a:pt x="4407" y="470"/>
                      </a:lnTo>
                      <a:lnTo>
                        <a:pt x="4407" y="475"/>
                      </a:lnTo>
                      <a:lnTo>
                        <a:pt x="4407" y="479"/>
                      </a:lnTo>
                      <a:lnTo>
                        <a:pt x="4407" y="479"/>
                      </a:lnTo>
                      <a:lnTo>
                        <a:pt x="4407" y="484"/>
                      </a:lnTo>
                      <a:lnTo>
                        <a:pt x="4407" y="489"/>
                      </a:lnTo>
                      <a:lnTo>
                        <a:pt x="4407" y="494"/>
                      </a:lnTo>
                      <a:lnTo>
                        <a:pt x="4407" y="499"/>
                      </a:lnTo>
                      <a:lnTo>
                        <a:pt x="4407" y="499"/>
                      </a:lnTo>
                      <a:lnTo>
                        <a:pt x="4407" y="881"/>
                      </a:lnTo>
                      <a:lnTo>
                        <a:pt x="4291" y="881"/>
                      </a:lnTo>
                      <a:close/>
                      <a:moveTo>
                        <a:pt x="5555" y="634"/>
                      </a:moveTo>
                      <a:lnTo>
                        <a:pt x="5821" y="634"/>
                      </a:lnTo>
                      <a:lnTo>
                        <a:pt x="5691" y="383"/>
                      </a:lnTo>
                      <a:lnTo>
                        <a:pt x="5555" y="634"/>
                      </a:lnTo>
                      <a:close/>
                      <a:moveTo>
                        <a:pt x="5279" y="881"/>
                      </a:moveTo>
                      <a:lnTo>
                        <a:pt x="5628" y="266"/>
                      </a:lnTo>
                      <a:lnTo>
                        <a:pt x="5763" y="266"/>
                      </a:lnTo>
                      <a:lnTo>
                        <a:pt x="6117" y="881"/>
                      </a:lnTo>
                      <a:lnTo>
                        <a:pt x="5957" y="881"/>
                      </a:lnTo>
                      <a:lnTo>
                        <a:pt x="5884" y="746"/>
                      </a:lnTo>
                      <a:lnTo>
                        <a:pt x="5492" y="746"/>
                      </a:lnTo>
                      <a:lnTo>
                        <a:pt x="5420" y="881"/>
                      </a:lnTo>
                      <a:lnTo>
                        <a:pt x="5279" y="881"/>
                      </a:lnTo>
                      <a:close/>
                      <a:moveTo>
                        <a:pt x="5613" y="199"/>
                      </a:moveTo>
                      <a:lnTo>
                        <a:pt x="5734" y="0"/>
                      </a:lnTo>
                      <a:lnTo>
                        <a:pt x="5860" y="0"/>
                      </a:lnTo>
                      <a:lnTo>
                        <a:pt x="5691" y="199"/>
                      </a:lnTo>
                      <a:lnTo>
                        <a:pt x="5613" y="199"/>
                      </a:lnTo>
                      <a:close/>
                      <a:moveTo>
                        <a:pt x="6601" y="373"/>
                      </a:moveTo>
                      <a:lnTo>
                        <a:pt x="6601" y="881"/>
                      </a:lnTo>
                      <a:lnTo>
                        <a:pt x="6456" y="881"/>
                      </a:lnTo>
                      <a:lnTo>
                        <a:pt x="6456" y="373"/>
                      </a:lnTo>
                      <a:lnTo>
                        <a:pt x="6175" y="373"/>
                      </a:lnTo>
                      <a:lnTo>
                        <a:pt x="6175" y="266"/>
                      </a:lnTo>
                      <a:lnTo>
                        <a:pt x="6882" y="266"/>
                      </a:lnTo>
                      <a:lnTo>
                        <a:pt x="6882" y="373"/>
                      </a:lnTo>
                      <a:lnTo>
                        <a:pt x="6601" y="373"/>
                      </a:lnTo>
                      <a:close/>
                      <a:moveTo>
                        <a:pt x="7061" y="881"/>
                      </a:moveTo>
                      <a:lnTo>
                        <a:pt x="7061" y="266"/>
                      </a:lnTo>
                      <a:lnTo>
                        <a:pt x="7202" y="266"/>
                      </a:lnTo>
                      <a:lnTo>
                        <a:pt x="7202" y="881"/>
                      </a:lnTo>
                      <a:lnTo>
                        <a:pt x="7061" y="881"/>
                      </a:lnTo>
                      <a:close/>
                      <a:moveTo>
                        <a:pt x="8035" y="373"/>
                      </a:moveTo>
                      <a:lnTo>
                        <a:pt x="7647" y="373"/>
                      </a:lnTo>
                      <a:lnTo>
                        <a:pt x="7647" y="765"/>
                      </a:lnTo>
                      <a:lnTo>
                        <a:pt x="8035" y="765"/>
                      </a:lnTo>
                      <a:lnTo>
                        <a:pt x="8035" y="634"/>
                      </a:lnTo>
                      <a:lnTo>
                        <a:pt x="8175" y="663"/>
                      </a:lnTo>
                      <a:lnTo>
                        <a:pt x="8175" y="736"/>
                      </a:lnTo>
                      <a:lnTo>
                        <a:pt x="8175" y="755"/>
                      </a:lnTo>
                      <a:lnTo>
                        <a:pt x="8175" y="775"/>
                      </a:lnTo>
                      <a:lnTo>
                        <a:pt x="8170" y="789"/>
                      </a:lnTo>
                      <a:lnTo>
                        <a:pt x="8170" y="804"/>
                      </a:lnTo>
                      <a:lnTo>
                        <a:pt x="8165" y="818"/>
                      </a:lnTo>
                      <a:lnTo>
                        <a:pt x="8156" y="833"/>
                      </a:lnTo>
                      <a:lnTo>
                        <a:pt x="8151" y="843"/>
                      </a:lnTo>
                      <a:lnTo>
                        <a:pt x="8146" y="847"/>
                      </a:lnTo>
                      <a:lnTo>
                        <a:pt x="8136" y="857"/>
                      </a:lnTo>
                      <a:lnTo>
                        <a:pt x="8127" y="862"/>
                      </a:lnTo>
                      <a:lnTo>
                        <a:pt x="8112" y="867"/>
                      </a:lnTo>
                      <a:lnTo>
                        <a:pt x="8098" y="872"/>
                      </a:lnTo>
                      <a:lnTo>
                        <a:pt x="8083" y="877"/>
                      </a:lnTo>
                      <a:lnTo>
                        <a:pt x="8064" y="877"/>
                      </a:lnTo>
                      <a:lnTo>
                        <a:pt x="8044" y="881"/>
                      </a:lnTo>
                      <a:lnTo>
                        <a:pt x="8025" y="881"/>
                      </a:lnTo>
                      <a:lnTo>
                        <a:pt x="7657" y="881"/>
                      </a:lnTo>
                      <a:lnTo>
                        <a:pt x="7633" y="881"/>
                      </a:lnTo>
                      <a:lnTo>
                        <a:pt x="7613" y="877"/>
                      </a:lnTo>
                      <a:lnTo>
                        <a:pt x="7599" y="877"/>
                      </a:lnTo>
                      <a:lnTo>
                        <a:pt x="7579" y="872"/>
                      </a:lnTo>
                      <a:lnTo>
                        <a:pt x="7565" y="867"/>
                      </a:lnTo>
                      <a:lnTo>
                        <a:pt x="7555" y="862"/>
                      </a:lnTo>
                      <a:lnTo>
                        <a:pt x="7546" y="857"/>
                      </a:lnTo>
                      <a:lnTo>
                        <a:pt x="7536" y="847"/>
                      </a:lnTo>
                      <a:lnTo>
                        <a:pt x="7526" y="843"/>
                      </a:lnTo>
                      <a:lnTo>
                        <a:pt x="7521" y="833"/>
                      </a:lnTo>
                      <a:lnTo>
                        <a:pt x="7517" y="818"/>
                      </a:lnTo>
                      <a:lnTo>
                        <a:pt x="7512" y="804"/>
                      </a:lnTo>
                      <a:lnTo>
                        <a:pt x="7507" y="789"/>
                      </a:lnTo>
                      <a:lnTo>
                        <a:pt x="7507" y="775"/>
                      </a:lnTo>
                      <a:lnTo>
                        <a:pt x="7507" y="755"/>
                      </a:lnTo>
                      <a:lnTo>
                        <a:pt x="7502" y="736"/>
                      </a:lnTo>
                      <a:lnTo>
                        <a:pt x="7502" y="412"/>
                      </a:lnTo>
                      <a:lnTo>
                        <a:pt x="7507" y="392"/>
                      </a:lnTo>
                      <a:lnTo>
                        <a:pt x="7507" y="373"/>
                      </a:lnTo>
                      <a:lnTo>
                        <a:pt x="7507" y="353"/>
                      </a:lnTo>
                      <a:lnTo>
                        <a:pt x="7512" y="339"/>
                      </a:lnTo>
                      <a:lnTo>
                        <a:pt x="7517" y="324"/>
                      </a:lnTo>
                      <a:lnTo>
                        <a:pt x="7521" y="315"/>
                      </a:lnTo>
                      <a:lnTo>
                        <a:pt x="7526" y="305"/>
                      </a:lnTo>
                      <a:lnTo>
                        <a:pt x="7536" y="295"/>
                      </a:lnTo>
                      <a:lnTo>
                        <a:pt x="7546" y="291"/>
                      </a:lnTo>
                      <a:lnTo>
                        <a:pt x="7555" y="281"/>
                      </a:lnTo>
                      <a:lnTo>
                        <a:pt x="7565" y="276"/>
                      </a:lnTo>
                      <a:lnTo>
                        <a:pt x="7579" y="271"/>
                      </a:lnTo>
                      <a:lnTo>
                        <a:pt x="7599" y="271"/>
                      </a:lnTo>
                      <a:lnTo>
                        <a:pt x="7613" y="266"/>
                      </a:lnTo>
                      <a:lnTo>
                        <a:pt x="7633" y="266"/>
                      </a:lnTo>
                      <a:lnTo>
                        <a:pt x="7657" y="266"/>
                      </a:lnTo>
                      <a:lnTo>
                        <a:pt x="8025" y="266"/>
                      </a:lnTo>
                      <a:lnTo>
                        <a:pt x="8044" y="266"/>
                      </a:lnTo>
                      <a:lnTo>
                        <a:pt x="8064" y="266"/>
                      </a:lnTo>
                      <a:lnTo>
                        <a:pt x="8083" y="271"/>
                      </a:lnTo>
                      <a:lnTo>
                        <a:pt x="8098" y="271"/>
                      </a:lnTo>
                      <a:lnTo>
                        <a:pt x="8112" y="276"/>
                      </a:lnTo>
                      <a:lnTo>
                        <a:pt x="8127" y="281"/>
                      </a:lnTo>
                      <a:lnTo>
                        <a:pt x="8136" y="291"/>
                      </a:lnTo>
                      <a:lnTo>
                        <a:pt x="8146" y="295"/>
                      </a:lnTo>
                      <a:lnTo>
                        <a:pt x="8151" y="305"/>
                      </a:lnTo>
                      <a:lnTo>
                        <a:pt x="8156" y="315"/>
                      </a:lnTo>
                      <a:lnTo>
                        <a:pt x="8165" y="324"/>
                      </a:lnTo>
                      <a:lnTo>
                        <a:pt x="8170" y="339"/>
                      </a:lnTo>
                      <a:lnTo>
                        <a:pt x="8170" y="353"/>
                      </a:lnTo>
                      <a:lnTo>
                        <a:pt x="8175" y="373"/>
                      </a:lnTo>
                      <a:lnTo>
                        <a:pt x="8175" y="392"/>
                      </a:lnTo>
                      <a:lnTo>
                        <a:pt x="8175" y="412"/>
                      </a:lnTo>
                      <a:lnTo>
                        <a:pt x="8175" y="470"/>
                      </a:lnTo>
                      <a:lnTo>
                        <a:pt x="8035" y="494"/>
                      </a:lnTo>
                      <a:lnTo>
                        <a:pt x="8035" y="373"/>
                      </a:lnTo>
                      <a:close/>
                      <a:moveTo>
                        <a:pt x="8606" y="634"/>
                      </a:moveTo>
                      <a:lnTo>
                        <a:pt x="8877" y="634"/>
                      </a:lnTo>
                      <a:lnTo>
                        <a:pt x="8747" y="383"/>
                      </a:lnTo>
                      <a:lnTo>
                        <a:pt x="8606" y="634"/>
                      </a:lnTo>
                      <a:close/>
                      <a:moveTo>
                        <a:pt x="8330" y="881"/>
                      </a:moveTo>
                      <a:lnTo>
                        <a:pt x="8679" y="266"/>
                      </a:lnTo>
                      <a:lnTo>
                        <a:pt x="8819" y="266"/>
                      </a:lnTo>
                      <a:lnTo>
                        <a:pt x="9173" y="881"/>
                      </a:lnTo>
                      <a:lnTo>
                        <a:pt x="9008" y="881"/>
                      </a:lnTo>
                      <a:lnTo>
                        <a:pt x="8936" y="746"/>
                      </a:lnTo>
                      <a:lnTo>
                        <a:pt x="8548" y="746"/>
                      </a:lnTo>
                      <a:lnTo>
                        <a:pt x="8475" y="881"/>
                      </a:lnTo>
                      <a:lnTo>
                        <a:pt x="8330" y="88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36" name=""/>
              <p:cNvSpPr/>
              <p:nvPr/>
            </p:nvSpPr>
            <p:spPr>
              <a:xfrm>
                <a:off x="241200" y="5013720"/>
                <a:ext cx="2631960" cy="125640"/>
              </a:xfrm>
              <a:custGeom>
                <a:avLst/>
                <a:gdLst/>
                <a:ahLst/>
                <a:rect l="l" t="t" r="r" b="b"/>
                <a:pathLst>
                  <a:path w="9168" h="412">
                    <a:moveTo>
                      <a:pt x="0" y="412"/>
                    </a:moveTo>
                    <a:lnTo>
                      <a:pt x="0" y="0"/>
                    </a:lnTo>
                    <a:lnTo>
                      <a:pt x="92" y="0"/>
                    </a:lnTo>
                    <a:lnTo>
                      <a:pt x="92" y="412"/>
                    </a:lnTo>
                    <a:lnTo>
                      <a:pt x="0" y="412"/>
                    </a:lnTo>
                    <a:close/>
                    <a:moveTo>
                      <a:pt x="562" y="412"/>
                    </a:moveTo>
                    <a:lnTo>
                      <a:pt x="562" y="0"/>
                    </a:lnTo>
                    <a:lnTo>
                      <a:pt x="630" y="0"/>
                    </a:lnTo>
                    <a:lnTo>
                      <a:pt x="916" y="242"/>
                    </a:lnTo>
                    <a:lnTo>
                      <a:pt x="920" y="247"/>
                    </a:lnTo>
                    <a:lnTo>
                      <a:pt x="925" y="247"/>
                    </a:lnTo>
                    <a:lnTo>
                      <a:pt x="925" y="252"/>
                    </a:lnTo>
                    <a:lnTo>
                      <a:pt x="930" y="257"/>
                    </a:lnTo>
                    <a:lnTo>
                      <a:pt x="935" y="257"/>
                    </a:lnTo>
                    <a:lnTo>
                      <a:pt x="935" y="261"/>
                    </a:lnTo>
                    <a:lnTo>
                      <a:pt x="940" y="261"/>
                    </a:lnTo>
                    <a:lnTo>
                      <a:pt x="945" y="266"/>
                    </a:lnTo>
                    <a:lnTo>
                      <a:pt x="945" y="266"/>
                    </a:lnTo>
                    <a:lnTo>
                      <a:pt x="949" y="271"/>
                    </a:lnTo>
                    <a:lnTo>
                      <a:pt x="949" y="276"/>
                    </a:lnTo>
                    <a:lnTo>
                      <a:pt x="954" y="276"/>
                    </a:lnTo>
                    <a:lnTo>
                      <a:pt x="954" y="281"/>
                    </a:lnTo>
                    <a:lnTo>
                      <a:pt x="959" y="281"/>
                    </a:lnTo>
                    <a:lnTo>
                      <a:pt x="959" y="286"/>
                    </a:lnTo>
                    <a:lnTo>
                      <a:pt x="964" y="286"/>
                    </a:lnTo>
                    <a:lnTo>
                      <a:pt x="964" y="281"/>
                    </a:lnTo>
                    <a:lnTo>
                      <a:pt x="964" y="271"/>
                    </a:lnTo>
                    <a:lnTo>
                      <a:pt x="964" y="266"/>
                    </a:lnTo>
                    <a:lnTo>
                      <a:pt x="959" y="257"/>
                    </a:lnTo>
                    <a:lnTo>
                      <a:pt x="959" y="252"/>
                    </a:lnTo>
                    <a:lnTo>
                      <a:pt x="959" y="247"/>
                    </a:lnTo>
                    <a:lnTo>
                      <a:pt x="959" y="242"/>
                    </a:lnTo>
                    <a:lnTo>
                      <a:pt x="959" y="237"/>
                    </a:lnTo>
                    <a:lnTo>
                      <a:pt x="959" y="237"/>
                    </a:lnTo>
                    <a:lnTo>
                      <a:pt x="959" y="232"/>
                    </a:lnTo>
                    <a:lnTo>
                      <a:pt x="959" y="228"/>
                    </a:lnTo>
                    <a:lnTo>
                      <a:pt x="959" y="228"/>
                    </a:lnTo>
                    <a:lnTo>
                      <a:pt x="959" y="223"/>
                    </a:lnTo>
                    <a:lnTo>
                      <a:pt x="959" y="223"/>
                    </a:lnTo>
                    <a:lnTo>
                      <a:pt x="959" y="218"/>
                    </a:lnTo>
                    <a:lnTo>
                      <a:pt x="959" y="218"/>
                    </a:lnTo>
                    <a:lnTo>
                      <a:pt x="959" y="0"/>
                    </a:lnTo>
                    <a:lnTo>
                      <a:pt x="1046" y="0"/>
                    </a:lnTo>
                    <a:lnTo>
                      <a:pt x="1046" y="412"/>
                    </a:lnTo>
                    <a:lnTo>
                      <a:pt x="978" y="412"/>
                    </a:lnTo>
                    <a:lnTo>
                      <a:pt x="678" y="160"/>
                    </a:lnTo>
                    <a:lnTo>
                      <a:pt x="678" y="155"/>
                    </a:lnTo>
                    <a:lnTo>
                      <a:pt x="673" y="155"/>
                    </a:lnTo>
                    <a:lnTo>
                      <a:pt x="673" y="150"/>
                    </a:lnTo>
                    <a:lnTo>
                      <a:pt x="669" y="150"/>
                    </a:lnTo>
                    <a:lnTo>
                      <a:pt x="669" y="145"/>
                    </a:lnTo>
                    <a:lnTo>
                      <a:pt x="664" y="145"/>
                    </a:lnTo>
                    <a:lnTo>
                      <a:pt x="664" y="140"/>
                    </a:lnTo>
                    <a:lnTo>
                      <a:pt x="659" y="140"/>
                    </a:lnTo>
                    <a:lnTo>
                      <a:pt x="659" y="140"/>
                    </a:lnTo>
                    <a:lnTo>
                      <a:pt x="654" y="136"/>
                    </a:lnTo>
                    <a:lnTo>
                      <a:pt x="654" y="136"/>
                    </a:lnTo>
                    <a:lnTo>
                      <a:pt x="654" y="131"/>
                    </a:lnTo>
                    <a:lnTo>
                      <a:pt x="649" y="131"/>
                    </a:lnTo>
                    <a:lnTo>
                      <a:pt x="649" y="131"/>
                    </a:lnTo>
                    <a:lnTo>
                      <a:pt x="644" y="126"/>
                    </a:lnTo>
                    <a:lnTo>
                      <a:pt x="644" y="126"/>
                    </a:lnTo>
                    <a:lnTo>
                      <a:pt x="644" y="131"/>
                    </a:lnTo>
                    <a:lnTo>
                      <a:pt x="644" y="136"/>
                    </a:lnTo>
                    <a:lnTo>
                      <a:pt x="644" y="140"/>
                    </a:lnTo>
                    <a:lnTo>
                      <a:pt x="644" y="145"/>
                    </a:lnTo>
                    <a:lnTo>
                      <a:pt x="644" y="145"/>
                    </a:lnTo>
                    <a:lnTo>
                      <a:pt x="649" y="150"/>
                    </a:lnTo>
                    <a:lnTo>
                      <a:pt x="649" y="155"/>
                    </a:lnTo>
                    <a:lnTo>
                      <a:pt x="649" y="160"/>
                    </a:lnTo>
                    <a:lnTo>
                      <a:pt x="649" y="165"/>
                    </a:lnTo>
                    <a:lnTo>
                      <a:pt x="649" y="169"/>
                    </a:lnTo>
                    <a:lnTo>
                      <a:pt x="649" y="174"/>
                    </a:lnTo>
                    <a:lnTo>
                      <a:pt x="649" y="174"/>
                    </a:lnTo>
                    <a:lnTo>
                      <a:pt x="649" y="179"/>
                    </a:lnTo>
                    <a:lnTo>
                      <a:pt x="649" y="184"/>
                    </a:lnTo>
                    <a:lnTo>
                      <a:pt x="649" y="189"/>
                    </a:lnTo>
                    <a:lnTo>
                      <a:pt x="649" y="189"/>
                    </a:lnTo>
                    <a:lnTo>
                      <a:pt x="649" y="412"/>
                    </a:lnTo>
                    <a:lnTo>
                      <a:pt x="562" y="412"/>
                    </a:lnTo>
                    <a:close/>
                    <a:moveTo>
                      <a:pt x="1870" y="73"/>
                    </a:moveTo>
                    <a:lnTo>
                      <a:pt x="1603" y="73"/>
                    </a:lnTo>
                    <a:lnTo>
                      <a:pt x="1603" y="160"/>
                    </a:lnTo>
                    <a:lnTo>
                      <a:pt x="1860" y="160"/>
                    </a:lnTo>
                    <a:lnTo>
                      <a:pt x="1874" y="160"/>
                    </a:lnTo>
                    <a:lnTo>
                      <a:pt x="1884" y="165"/>
                    </a:lnTo>
                    <a:lnTo>
                      <a:pt x="1899" y="165"/>
                    </a:lnTo>
                    <a:lnTo>
                      <a:pt x="1908" y="165"/>
                    </a:lnTo>
                    <a:lnTo>
                      <a:pt x="1918" y="169"/>
                    </a:lnTo>
                    <a:lnTo>
                      <a:pt x="1928" y="174"/>
                    </a:lnTo>
                    <a:lnTo>
                      <a:pt x="1933" y="179"/>
                    </a:lnTo>
                    <a:lnTo>
                      <a:pt x="1937" y="184"/>
                    </a:lnTo>
                    <a:lnTo>
                      <a:pt x="1942" y="189"/>
                    </a:lnTo>
                    <a:lnTo>
                      <a:pt x="1947" y="194"/>
                    </a:lnTo>
                    <a:lnTo>
                      <a:pt x="1952" y="203"/>
                    </a:lnTo>
                    <a:lnTo>
                      <a:pt x="1957" y="213"/>
                    </a:lnTo>
                    <a:lnTo>
                      <a:pt x="1957" y="223"/>
                    </a:lnTo>
                    <a:lnTo>
                      <a:pt x="1957" y="232"/>
                    </a:lnTo>
                    <a:lnTo>
                      <a:pt x="1962" y="247"/>
                    </a:lnTo>
                    <a:lnTo>
                      <a:pt x="1962" y="257"/>
                    </a:lnTo>
                    <a:lnTo>
                      <a:pt x="1962" y="315"/>
                    </a:lnTo>
                    <a:lnTo>
                      <a:pt x="1962" y="329"/>
                    </a:lnTo>
                    <a:lnTo>
                      <a:pt x="1957" y="339"/>
                    </a:lnTo>
                    <a:lnTo>
                      <a:pt x="1957" y="353"/>
                    </a:lnTo>
                    <a:lnTo>
                      <a:pt x="1957" y="363"/>
                    </a:lnTo>
                    <a:lnTo>
                      <a:pt x="1952" y="368"/>
                    </a:lnTo>
                    <a:lnTo>
                      <a:pt x="1947" y="378"/>
                    </a:lnTo>
                    <a:lnTo>
                      <a:pt x="1942" y="387"/>
                    </a:lnTo>
                    <a:lnTo>
                      <a:pt x="1937" y="392"/>
                    </a:lnTo>
                    <a:lnTo>
                      <a:pt x="1933" y="397"/>
                    </a:lnTo>
                    <a:lnTo>
                      <a:pt x="1928" y="402"/>
                    </a:lnTo>
                    <a:lnTo>
                      <a:pt x="1918" y="402"/>
                    </a:lnTo>
                    <a:lnTo>
                      <a:pt x="1908" y="407"/>
                    </a:lnTo>
                    <a:lnTo>
                      <a:pt x="1899" y="407"/>
                    </a:lnTo>
                    <a:lnTo>
                      <a:pt x="1884" y="412"/>
                    </a:lnTo>
                    <a:lnTo>
                      <a:pt x="1874" y="412"/>
                    </a:lnTo>
                    <a:lnTo>
                      <a:pt x="1860" y="412"/>
                    </a:lnTo>
                    <a:lnTo>
                      <a:pt x="1603" y="412"/>
                    </a:lnTo>
                    <a:lnTo>
                      <a:pt x="1589" y="412"/>
                    </a:lnTo>
                    <a:lnTo>
                      <a:pt x="1579" y="412"/>
                    </a:lnTo>
                    <a:lnTo>
                      <a:pt x="1565" y="407"/>
                    </a:lnTo>
                    <a:lnTo>
                      <a:pt x="1555" y="407"/>
                    </a:lnTo>
                    <a:lnTo>
                      <a:pt x="1545" y="402"/>
                    </a:lnTo>
                    <a:lnTo>
                      <a:pt x="1535" y="402"/>
                    </a:lnTo>
                    <a:lnTo>
                      <a:pt x="1531" y="397"/>
                    </a:lnTo>
                    <a:lnTo>
                      <a:pt x="1521" y="392"/>
                    </a:lnTo>
                    <a:lnTo>
                      <a:pt x="1516" y="387"/>
                    </a:lnTo>
                    <a:lnTo>
                      <a:pt x="1516" y="378"/>
                    </a:lnTo>
                    <a:lnTo>
                      <a:pt x="1511" y="368"/>
                    </a:lnTo>
                    <a:lnTo>
                      <a:pt x="1506" y="363"/>
                    </a:lnTo>
                    <a:lnTo>
                      <a:pt x="1506" y="353"/>
                    </a:lnTo>
                    <a:lnTo>
                      <a:pt x="1502" y="339"/>
                    </a:lnTo>
                    <a:lnTo>
                      <a:pt x="1502" y="329"/>
                    </a:lnTo>
                    <a:lnTo>
                      <a:pt x="1502" y="315"/>
                    </a:lnTo>
                    <a:lnTo>
                      <a:pt x="1502" y="305"/>
                    </a:lnTo>
                    <a:lnTo>
                      <a:pt x="1584" y="286"/>
                    </a:lnTo>
                    <a:lnTo>
                      <a:pt x="1584" y="334"/>
                    </a:lnTo>
                    <a:lnTo>
                      <a:pt x="1874" y="334"/>
                    </a:lnTo>
                    <a:lnTo>
                      <a:pt x="1874" y="242"/>
                    </a:lnTo>
                    <a:lnTo>
                      <a:pt x="1623" y="242"/>
                    </a:lnTo>
                    <a:lnTo>
                      <a:pt x="1608" y="242"/>
                    </a:lnTo>
                    <a:lnTo>
                      <a:pt x="1594" y="237"/>
                    </a:lnTo>
                    <a:lnTo>
                      <a:pt x="1579" y="237"/>
                    </a:lnTo>
                    <a:lnTo>
                      <a:pt x="1569" y="237"/>
                    </a:lnTo>
                    <a:lnTo>
                      <a:pt x="1560" y="232"/>
                    </a:lnTo>
                    <a:lnTo>
                      <a:pt x="1555" y="228"/>
                    </a:lnTo>
                    <a:lnTo>
                      <a:pt x="1545" y="223"/>
                    </a:lnTo>
                    <a:lnTo>
                      <a:pt x="1540" y="218"/>
                    </a:lnTo>
                    <a:lnTo>
                      <a:pt x="1535" y="213"/>
                    </a:lnTo>
                    <a:lnTo>
                      <a:pt x="1531" y="208"/>
                    </a:lnTo>
                    <a:lnTo>
                      <a:pt x="1526" y="199"/>
                    </a:lnTo>
                    <a:lnTo>
                      <a:pt x="1526" y="189"/>
                    </a:lnTo>
                    <a:lnTo>
                      <a:pt x="1521" y="179"/>
                    </a:lnTo>
                    <a:lnTo>
                      <a:pt x="1521" y="169"/>
                    </a:lnTo>
                    <a:lnTo>
                      <a:pt x="1521" y="155"/>
                    </a:lnTo>
                    <a:lnTo>
                      <a:pt x="1521" y="145"/>
                    </a:lnTo>
                    <a:lnTo>
                      <a:pt x="1521" y="97"/>
                    </a:lnTo>
                    <a:lnTo>
                      <a:pt x="1521" y="87"/>
                    </a:lnTo>
                    <a:lnTo>
                      <a:pt x="1521" y="73"/>
                    </a:lnTo>
                    <a:lnTo>
                      <a:pt x="1521" y="63"/>
                    </a:lnTo>
                    <a:lnTo>
                      <a:pt x="1526" y="53"/>
                    </a:lnTo>
                    <a:lnTo>
                      <a:pt x="1526" y="44"/>
                    </a:lnTo>
                    <a:lnTo>
                      <a:pt x="1531" y="34"/>
                    </a:lnTo>
                    <a:lnTo>
                      <a:pt x="1535" y="29"/>
                    </a:lnTo>
                    <a:lnTo>
                      <a:pt x="1540" y="19"/>
                    </a:lnTo>
                    <a:lnTo>
                      <a:pt x="1545" y="19"/>
                    </a:lnTo>
                    <a:lnTo>
                      <a:pt x="1555" y="15"/>
                    </a:lnTo>
                    <a:lnTo>
                      <a:pt x="1560" y="10"/>
                    </a:lnTo>
                    <a:lnTo>
                      <a:pt x="1569" y="5"/>
                    </a:lnTo>
                    <a:lnTo>
                      <a:pt x="1579" y="5"/>
                    </a:lnTo>
                    <a:lnTo>
                      <a:pt x="1594" y="5"/>
                    </a:lnTo>
                    <a:lnTo>
                      <a:pt x="1608" y="0"/>
                    </a:lnTo>
                    <a:lnTo>
                      <a:pt x="1623" y="0"/>
                    </a:lnTo>
                    <a:lnTo>
                      <a:pt x="1855" y="0"/>
                    </a:lnTo>
                    <a:lnTo>
                      <a:pt x="1865" y="0"/>
                    </a:lnTo>
                    <a:lnTo>
                      <a:pt x="1879" y="5"/>
                    </a:lnTo>
                    <a:lnTo>
                      <a:pt x="1894" y="5"/>
                    </a:lnTo>
                    <a:lnTo>
                      <a:pt x="1904" y="5"/>
                    </a:lnTo>
                    <a:lnTo>
                      <a:pt x="1913" y="10"/>
                    </a:lnTo>
                    <a:lnTo>
                      <a:pt x="1918" y="15"/>
                    </a:lnTo>
                    <a:lnTo>
                      <a:pt x="1928" y="15"/>
                    </a:lnTo>
                    <a:lnTo>
                      <a:pt x="1933" y="19"/>
                    </a:lnTo>
                    <a:lnTo>
                      <a:pt x="1937" y="24"/>
                    </a:lnTo>
                    <a:lnTo>
                      <a:pt x="1942" y="34"/>
                    </a:lnTo>
                    <a:lnTo>
                      <a:pt x="1947" y="39"/>
                    </a:lnTo>
                    <a:lnTo>
                      <a:pt x="1947" y="48"/>
                    </a:lnTo>
                    <a:lnTo>
                      <a:pt x="1952" y="58"/>
                    </a:lnTo>
                    <a:lnTo>
                      <a:pt x="1952" y="68"/>
                    </a:lnTo>
                    <a:lnTo>
                      <a:pt x="1957" y="77"/>
                    </a:lnTo>
                    <a:lnTo>
                      <a:pt x="1957" y="92"/>
                    </a:lnTo>
                    <a:lnTo>
                      <a:pt x="1957" y="102"/>
                    </a:lnTo>
                    <a:lnTo>
                      <a:pt x="1870" y="121"/>
                    </a:lnTo>
                    <a:lnTo>
                      <a:pt x="1870" y="73"/>
                    </a:lnTo>
                    <a:close/>
                    <a:moveTo>
                      <a:pt x="2611" y="73"/>
                    </a:moveTo>
                    <a:lnTo>
                      <a:pt x="2611" y="412"/>
                    </a:lnTo>
                    <a:lnTo>
                      <a:pt x="2514" y="412"/>
                    </a:lnTo>
                    <a:lnTo>
                      <a:pt x="2514" y="73"/>
                    </a:lnTo>
                    <a:lnTo>
                      <a:pt x="2325" y="73"/>
                    </a:lnTo>
                    <a:lnTo>
                      <a:pt x="2325" y="0"/>
                    </a:lnTo>
                    <a:lnTo>
                      <a:pt x="2799" y="0"/>
                    </a:lnTo>
                    <a:lnTo>
                      <a:pt x="2799" y="73"/>
                    </a:lnTo>
                    <a:lnTo>
                      <a:pt x="2611" y="73"/>
                    </a:lnTo>
                    <a:close/>
                    <a:moveTo>
                      <a:pt x="3177" y="412"/>
                    </a:moveTo>
                    <a:lnTo>
                      <a:pt x="3177" y="0"/>
                    </a:lnTo>
                    <a:lnTo>
                      <a:pt x="3274" y="0"/>
                    </a:lnTo>
                    <a:lnTo>
                      <a:pt x="3274" y="412"/>
                    </a:lnTo>
                    <a:lnTo>
                      <a:pt x="3177" y="412"/>
                    </a:lnTo>
                    <a:close/>
                    <a:moveTo>
                      <a:pt x="3933" y="73"/>
                    </a:moveTo>
                    <a:lnTo>
                      <a:pt x="3933" y="412"/>
                    </a:lnTo>
                    <a:lnTo>
                      <a:pt x="3836" y="412"/>
                    </a:lnTo>
                    <a:lnTo>
                      <a:pt x="3836" y="73"/>
                    </a:lnTo>
                    <a:lnTo>
                      <a:pt x="3652" y="73"/>
                    </a:lnTo>
                    <a:lnTo>
                      <a:pt x="3652" y="0"/>
                    </a:lnTo>
                    <a:lnTo>
                      <a:pt x="4122" y="0"/>
                    </a:lnTo>
                    <a:lnTo>
                      <a:pt x="4122" y="73"/>
                    </a:lnTo>
                    <a:lnTo>
                      <a:pt x="3933" y="73"/>
                    </a:lnTo>
                    <a:close/>
                    <a:moveTo>
                      <a:pt x="4596" y="0"/>
                    </a:moveTo>
                    <a:lnTo>
                      <a:pt x="4596" y="334"/>
                    </a:lnTo>
                    <a:lnTo>
                      <a:pt x="4867" y="334"/>
                    </a:lnTo>
                    <a:lnTo>
                      <a:pt x="4867" y="0"/>
                    </a:lnTo>
                    <a:lnTo>
                      <a:pt x="4964" y="0"/>
                    </a:lnTo>
                    <a:lnTo>
                      <a:pt x="4964" y="315"/>
                    </a:lnTo>
                    <a:lnTo>
                      <a:pt x="4964" y="329"/>
                    </a:lnTo>
                    <a:lnTo>
                      <a:pt x="4959" y="339"/>
                    </a:lnTo>
                    <a:lnTo>
                      <a:pt x="4959" y="353"/>
                    </a:lnTo>
                    <a:lnTo>
                      <a:pt x="4959" y="363"/>
                    </a:lnTo>
                    <a:lnTo>
                      <a:pt x="4955" y="373"/>
                    </a:lnTo>
                    <a:lnTo>
                      <a:pt x="4950" y="378"/>
                    </a:lnTo>
                    <a:lnTo>
                      <a:pt x="4945" y="387"/>
                    </a:lnTo>
                    <a:lnTo>
                      <a:pt x="4940" y="392"/>
                    </a:lnTo>
                    <a:lnTo>
                      <a:pt x="4935" y="397"/>
                    </a:lnTo>
                    <a:lnTo>
                      <a:pt x="4930" y="402"/>
                    </a:lnTo>
                    <a:lnTo>
                      <a:pt x="4921" y="402"/>
                    </a:lnTo>
                    <a:lnTo>
                      <a:pt x="4911" y="407"/>
                    </a:lnTo>
                    <a:lnTo>
                      <a:pt x="4901" y="407"/>
                    </a:lnTo>
                    <a:lnTo>
                      <a:pt x="4887" y="412"/>
                    </a:lnTo>
                    <a:lnTo>
                      <a:pt x="4877" y="412"/>
                    </a:lnTo>
                    <a:lnTo>
                      <a:pt x="4863" y="412"/>
                    </a:lnTo>
                    <a:lnTo>
                      <a:pt x="4601" y="412"/>
                    </a:lnTo>
                    <a:lnTo>
                      <a:pt x="4587" y="412"/>
                    </a:lnTo>
                    <a:lnTo>
                      <a:pt x="4572" y="412"/>
                    </a:lnTo>
                    <a:lnTo>
                      <a:pt x="4562" y="407"/>
                    </a:lnTo>
                    <a:lnTo>
                      <a:pt x="4553" y="407"/>
                    </a:lnTo>
                    <a:lnTo>
                      <a:pt x="4543" y="402"/>
                    </a:lnTo>
                    <a:lnTo>
                      <a:pt x="4533" y="402"/>
                    </a:lnTo>
                    <a:lnTo>
                      <a:pt x="4528" y="397"/>
                    </a:lnTo>
                    <a:lnTo>
                      <a:pt x="4519" y="392"/>
                    </a:lnTo>
                    <a:lnTo>
                      <a:pt x="4514" y="387"/>
                    </a:lnTo>
                    <a:lnTo>
                      <a:pt x="4514" y="378"/>
                    </a:lnTo>
                    <a:lnTo>
                      <a:pt x="4509" y="373"/>
                    </a:lnTo>
                    <a:lnTo>
                      <a:pt x="4504" y="363"/>
                    </a:lnTo>
                    <a:lnTo>
                      <a:pt x="4504" y="353"/>
                    </a:lnTo>
                    <a:lnTo>
                      <a:pt x="4499" y="339"/>
                    </a:lnTo>
                    <a:lnTo>
                      <a:pt x="4499" y="329"/>
                    </a:lnTo>
                    <a:lnTo>
                      <a:pt x="4499" y="315"/>
                    </a:lnTo>
                    <a:lnTo>
                      <a:pt x="4499" y="0"/>
                    </a:lnTo>
                    <a:lnTo>
                      <a:pt x="4596" y="0"/>
                    </a:lnTo>
                    <a:close/>
                    <a:moveTo>
                      <a:pt x="5623" y="73"/>
                    </a:moveTo>
                    <a:lnTo>
                      <a:pt x="5623" y="412"/>
                    </a:lnTo>
                    <a:lnTo>
                      <a:pt x="5531" y="412"/>
                    </a:lnTo>
                    <a:lnTo>
                      <a:pt x="5531" y="73"/>
                    </a:lnTo>
                    <a:lnTo>
                      <a:pt x="5342" y="73"/>
                    </a:lnTo>
                    <a:lnTo>
                      <a:pt x="5342" y="0"/>
                    </a:lnTo>
                    <a:lnTo>
                      <a:pt x="5812" y="0"/>
                    </a:lnTo>
                    <a:lnTo>
                      <a:pt x="5812" y="73"/>
                    </a:lnTo>
                    <a:lnTo>
                      <a:pt x="5623" y="73"/>
                    </a:lnTo>
                    <a:close/>
                    <a:moveTo>
                      <a:pt x="6180" y="97"/>
                    </a:moveTo>
                    <a:lnTo>
                      <a:pt x="6185" y="87"/>
                    </a:lnTo>
                    <a:lnTo>
                      <a:pt x="6185" y="73"/>
                    </a:lnTo>
                    <a:lnTo>
                      <a:pt x="6185" y="63"/>
                    </a:lnTo>
                    <a:lnTo>
                      <a:pt x="6190" y="53"/>
                    </a:lnTo>
                    <a:lnTo>
                      <a:pt x="6190" y="44"/>
                    </a:lnTo>
                    <a:lnTo>
                      <a:pt x="6194" y="34"/>
                    </a:lnTo>
                    <a:lnTo>
                      <a:pt x="6199" y="29"/>
                    </a:lnTo>
                    <a:lnTo>
                      <a:pt x="6204" y="19"/>
                    </a:lnTo>
                    <a:lnTo>
                      <a:pt x="6209" y="19"/>
                    </a:lnTo>
                    <a:lnTo>
                      <a:pt x="6214" y="15"/>
                    </a:lnTo>
                    <a:lnTo>
                      <a:pt x="6223" y="10"/>
                    </a:lnTo>
                    <a:lnTo>
                      <a:pt x="6233" y="5"/>
                    </a:lnTo>
                    <a:lnTo>
                      <a:pt x="6243" y="5"/>
                    </a:lnTo>
                    <a:lnTo>
                      <a:pt x="6257" y="5"/>
                    </a:lnTo>
                    <a:lnTo>
                      <a:pt x="6272" y="0"/>
                    </a:lnTo>
                    <a:lnTo>
                      <a:pt x="6282" y="0"/>
                    </a:lnTo>
                    <a:lnTo>
                      <a:pt x="6587" y="0"/>
                    </a:lnTo>
                    <a:lnTo>
                      <a:pt x="6601" y="0"/>
                    </a:lnTo>
                    <a:lnTo>
                      <a:pt x="6616" y="5"/>
                    </a:lnTo>
                    <a:lnTo>
                      <a:pt x="6625" y="5"/>
                    </a:lnTo>
                    <a:lnTo>
                      <a:pt x="6635" y="5"/>
                    </a:lnTo>
                    <a:lnTo>
                      <a:pt x="6645" y="10"/>
                    </a:lnTo>
                    <a:lnTo>
                      <a:pt x="6654" y="15"/>
                    </a:lnTo>
                    <a:lnTo>
                      <a:pt x="6659" y="19"/>
                    </a:lnTo>
                    <a:lnTo>
                      <a:pt x="6669" y="19"/>
                    </a:lnTo>
                    <a:lnTo>
                      <a:pt x="6674" y="29"/>
                    </a:lnTo>
                    <a:lnTo>
                      <a:pt x="6674" y="34"/>
                    </a:lnTo>
                    <a:lnTo>
                      <a:pt x="6679" y="44"/>
                    </a:lnTo>
                    <a:lnTo>
                      <a:pt x="6684" y="53"/>
                    </a:lnTo>
                    <a:lnTo>
                      <a:pt x="6684" y="63"/>
                    </a:lnTo>
                    <a:lnTo>
                      <a:pt x="6688" y="73"/>
                    </a:lnTo>
                    <a:lnTo>
                      <a:pt x="6688" y="87"/>
                    </a:lnTo>
                    <a:lnTo>
                      <a:pt x="6688" y="97"/>
                    </a:lnTo>
                    <a:lnTo>
                      <a:pt x="6688" y="315"/>
                    </a:lnTo>
                    <a:lnTo>
                      <a:pt x="6688" y="329"/>
                    </a:lnTo>
                    <a:lnTo>
                      <a:pt x="6688" y="339"/>
                    </a:lnTo>
                    <a:lnTo>
                      <a:pt x="6684" y="353"/>
                    </a:lnTo>
                    <a:lnTo>
                      <a:pt x="6684" y="363"/>
                    </a:lnTo>
                    <a:lnTo>
                      <a:pt x="6679" y="373"/>
                    </a:lnTo>
                    <a:lnTo>
                      <a:pt x="6674" y="378"/>
                    </a:lnTo>
                    <a:lnTo>
                      <a:pt x="6674" y="387"/>
                    </a:lnTo>
                    <a:lnTo>
                      <a:pt x="6669" y="392"/>
                    </a:lnTo>
                    <a:lnTo>
                      <a:pt x="6659" y="397"/>
                    </a:lnTo>
                    <a:lnTo>
                      <a:pt x="6654" y="402"/>
                    </a:lnTo>
                    <a:lnTo>
                      <a:pt x="6645" y="402"/>
                    </a:lnTo>
                    <a:lnTo>
                      <a:pt x="6635" y="407"/>
                    </a:lnTo>
                    <a:lnTo>
                      <a:pt x="6625" y="407"/>
                    </a:lnTo>
                    <a:lnTo>
                      <a:pt x="6616" y="412"/>
                    </a:lnTo>
                    <a:lnTo>
                      <a:pt x="6601" y="412"/>
                    </a:lnTo>
                    <a:lnTo>
                      <a:pt x="6587" y="412"/>
                    </a:lnTo>
                    <a:lnTo>
                      <a:pt x="6282" y="412"/>
                    </a:lnTo>
                    <a:lnTo>
                      <a:pt x="6272" y="412"/>
                    </a:lnTo>
                    <a:lnTo>
                      <a:pt x="6257" y="412"/>
                    </a:lnTo>
                    <a:lnTo>
                      <a:pt x="6243" y="407"/>
                    </a:lnTo>
                    <a:lnTo>
                      <a:pt x="6233" y="407"/>
                    </a:lnTo>
                    <a:lnTo>
                      <a:pt x="6223" y="402"/>
                    </a:lnTo>
                    <a:lnTo>
                      <a:pt x="6214" y="402"/>
                    </a:lnTo>
                    <a:lnTo>
                      <a:pt x="6209" y="397"/>
                    </a:lnTo>
                    <a:lnTo>
                      <a:pt x="6204" y="392"/>
                    </a:lnTo>
                    <a:lnTo>
                      <a:pt x="6199" y="387"/>
                    </a:lnTo>
                    <a:lnTo>
                      <a:pt x="6194" y="378"/>
                    </a:lnTo>
                    <a:lnTo>
                      <a:pt x="6190" y="373"/>
                    </a:lnTo>
                    <a:lnTo>
                      <a:pt x="6190" y="363"/>
                    </a:lnTo>
                    <a:lnTo>
                      <a:pt x="6185" y="353"/>
                    </a:lnTo>
                    <a:lnTo>
                      <a:pt x="6185" y="339"/>
                    </a:lnTo>
                    <a:lnTo>
                      <a:pt x="6185" y="329"/>
                    </a:lnTo>
                    <a:lnTo>
                      <a:pt x="6180" y="315"/>
                    </a:lnTo>
                    <a:lnTo>
                      <a:pt x="6180" y="97"/>
                    </a:lnTo>
                    <a:close/>
                    <a:moveTo>
                      <a:pt x="6277" y="334"/>
                    </a:moveTo>
                    <a:lnTo>
                      <a:pt x="6592" y="334"/>
                    </a:lnTo>
                    <a:lnTo>
                      <a:pt x="6592" y="73"/>
                    </a:lnTo>
                    <a:lnTo>
                      <a:pt x="6277" y="73"/>
                    </a:lnTo>
                    <a:lnTo>
                      <a:pt x="6277" y="334"/>
                    </a:lnTo>
                    <a:close/>
                    <a:moveTo>
                      <a:pt x="7909" y="334"/>
                    </a:moveTo>
                    <a:lnTo>
                      <a:pt x="8030" y="334"/>
                    </a:lnTo>
                    <a:lnTo>
                      <a:pt x="8054" y="334"/>
                    </a:lnTo>
                    <a:lnTo>
                      <a:pt x="8078" y="334"/>
                    </a:lnTo>
                    <a:lnTo>
                      <a:pt x="8098" y="329"/>
                    </a:lnTo>
                    <a:lnTo>
                      <a:pt x="8117" y="324"/>
                    </a:lnTo>
                    <a:lnTo>
                      <a:pt x="8132" y="324"/>
                    </a:lnTo>
                    <a:lnTo>
                      <a:pt x="8146" y="315"/>
                    </a:lnTo>
                    <a:lnTo>
                      <a:pt x="8161" y="310"/>
                    </a:lnTo>
                    <a:lnTo>
                      <a:pt x="8170" y="305"/>
                    </a:lnTo>
                    <a:lnTo>
                      <a:pt x="8180" y="295"/>
                    </a:lnTo>
                    <a:lnTo>
                      <a:pt x="8190" y="286"/>
                    </a:lnTo>
                    <a:lnTo>
                      <a:pt x="8195" y="276"/>
                    </a:lnTo>
                    <a:lnTo>
                      <a:pt x="8199" y="261"/>
                    </a:lnTo>
                    <a:lnTo>
                      <a:pt x="8204" y="252"/>
                    </a:lnTo>
                    <a:lnTo>
                      <a:pt x="8209" y="237"/>
                    </a:lnTo>
                    <a:lnTo>
                      <a:pt x="8209" y="218"/>
                    </a:lnTo>
                    <a:lnTo>
                      <a:pt x="8214" y="203"/>
                    </a:lnTo>
                    <a:lnTo>
                      <a:pt x="8209" y="189"/>
                    </a:lnTo>
                    <a:lnTo>
                      <a:pt x="8209" y="174"/>
                    </a:lnTo>
                    <a:lnTo>
                      <a:pt x="8209" y="160"/>
                    </a:lnTo>
                    <a:lnTo>
                      <a:pt x="8204" y="145"/>
                    </a:lnTo>
                    <a:lnTo>
                      <a:pt x="8199" y="136"/>
                    </a:lnTo>
                    <a:lnTo>
                      <a:pt x="8195" y="126"/>
                    </a:lnTo>
                    <a:lnTo>
                      <a:pt x="8185" y="116"/>
                    </a:lnTo>
                    <a:lnTo>
                      <a:pt x="8175" y="107"/>
                    </a:lnTo>
                    <a:lnTo>
                      <a:pt x="8170" y="102"/>
                    </a:lnTo>
                    <a:lnTo>
                      <a:pt x="8161" y="92"/>
                    </a:lnTo>
                    <a:lnTo>
                      <a:pt x="8146" y="87"/>
                    </a:lnTo>
                    <a:lnTo>
                      <a:pt x="8136" y="82"/>
                    </a:lnTo>
                    <a:lnTo>
                      <a:pt x="8122" y="77"/>
                    </a:lnTo>
                    <a:lnTo>
                      <a:pt x="8107" y="77"/>
                    </a:lnTo>
                    <a:lnTo>
                      <a:pt x="8093" y="73"/>
                    </a:lnTo>
                    <a:lnTo>
                      <a:pt x="8078" y="73"/>
                    </a:lnTo>
                    <a:lnTo>
                      <a:pt x="7909" y="73"/>
                    </a:lnTo>
                    <a:lnTo>
                      <a:pt x="7909" y="334"/>
                    </a:lnTo>
                    <a:close/>
                    <a:moveTo>
                      <a:pt x="7812" y="412"/>
                    </a:moveTo>
                    <a:lnTo>
                      <a:pt x="7812" y="0"/>
                    </a:lnTo>
                    <a:lnTo>
                      <a:pt x="8078" y="0"/>
                    </a:lnTo>
                    <a:lnTo>
                      <a:pt x="8103" y="0"/>
                    </a:lnTo>
                    <a:lnTo>
                      <a:pt x="8127" y="5"/>
                    </a:lnTo>
                    <a:lnTo>
                      <a:pt x="8151" y="10"/>
                    </a:lnTo>
                    <a:lnTo>
                      <a:pt x="8175" y="15"/>
                    </a:lnTo>
                    <a:lnTo>
                      <a:pt x="8195" y="24"/>
                    </a:lnTo>
                    <a:lnTo>
                      <a:pt x="8214" y="29"/>
                    </a:lnTo>
                    <a:lnTo>
                      <a:pt x="8233" y="44"/>
                    </a:lnTo>
                    <a:lnTo>
                      <a:pt x="8248" y="53"/>
                    </a:lnTo>
                    <a:lnTo>
                      <a:pt x="8262" y="68"/>
                    </a:lnTo>
                    <a:lnTo>
                      <a:pt x="8277" y="82"/>
                    </a:lnTo>
                    <a:lnTo>
                      <a:pt x="8287" y="102"/>
                    </a:lnTo>
                    <a:lnTo>
                      <a:pt x="8296" y="116"/>
                    </a:lnTo>
                    <a:lnTo>
                      <a:pt x="8301" y="136"/>
                    </a:lnTo>
                    <a:lnTo>
                      <a:pt x="8306" y="160"/>
                    </a:lnTo>
                    <a:lnTo>
                      <a:pt x="8311" y="179"/>
                    </a:lnTo>
                    <a:lnTo>
                      <a:pt x="8311" y="203"/>
                    </a:lnTo>
                    <a:lnTo>
                      <a:pt x="8311" y="218"/>
                    </a:lnTo>
                    <a:lnTo>
                      <a:pt x="8311" y="232"/>
                    </a:lnTo>
                    <a:lnTo>
                      <a:pt x="8306" y="247"/>
                    </a:lnTo>
                    <a:lnTo>
                      <a:pt x="8306" y="257"/>
                    </a:lnTo>
                    <a:lnTo>
                      <a:pt x="8301" y="271"/>
                    </a:lnTo>
                    <a:lnTo>
                      <a:pt x="8296" y="286"/>
                    </a:lnTo>
                    <a:lnTo>
                      <a:pt x="8291" y="295"/>
                    </a:lnTo>
                    <a:lnTo>
                      <a:pt x="8287" y="305"/>
                    </a:lnTo>
                    <a:lnTo>
                      <a:pt x="8282" y="320"/>
                    </a:lnTo>
                    <a:lnTo>
                      <a:pt x="8272" y="329"/>
                    </a:lnTo>
                    <a:lnTo>
                      <a:pt x="8267" y="339"/>
                    </a:lnTo>
                    <a:lnTo>
                      <a:pt x="8258" y="349"/>
                    </a:lnTo>
                    <a:lnTo>
                      <a:pt x="8248" y="358"/>
                    </a:lnTo>
                    <a:lnTo>
                      <a:pt x="8238" y="363"/>
                    </a:lnTo>
                    <a:lnTo>
                      <a:pt x="8228" y="373"/>
                    </a:lnTo>
                    <a:lnTo>
                      <a:pt x="8219" y="378"/>
                    </a:lnTo>
                    <a:lnTo>
                      <a:pt x="8214" y="383"/>
                    </a:lnTo>
                    <a:lnTo>
                      <a:pt x="8204" y="387"/>
                    </a:lnTo>
                    <a:lnTo>
                      <a:pt x="8199" y="392"/>
                    </a:lnTo>
                    <a:lnTo>
                      <a:pt x="8190" y="392"/>
                    </a:lnTo>
                    <a:lnTo>
                      <a:pt x="8180" y="397"/>
                    </a:lnTo>
                    <a:lnTo>
                      <a:pt x="8170" y="397"/>
                    </a:lnTo>
                    <a:lnTo>
                      <a:pt x="8161" y="402"/>
                    </a:lnTo>
                    <a:lnTo>
                      <a:pt x="8151" y="402"/>
                    </a:lnTo>
                    <a:lnTo>
                      <a:pt x="8141" y="407"/>
                    </a:lnTo>
                    <a:lnTo>
                      <a:pt x="8132" y="407"/>
                    </a:lnTo>
                    <a:lnTo>
                      <a:pt x="8122" y="407"/>
                    </a:lnTo>
                    <a:lnTo>
                      <a:pt x="8107" y="412"/>
                    </a:lnTo>
                    <a:lnTo>
                      <a:pt x="8093" y="412"/>
                    </a:lnTo>
                    <a:lnTo>
                      <a:pt x="8083" y="412"/>
                    </a:lnTo>
                    <a:lnTo>
                      <a:pt x="8069" y="412"/>
                    </a:lnTo>
                    <a:lnTo>
                      <a:pt x="8049" y="412"/>
                    </a:lnTo>
                    <a:lnTo>
                      <a:pt x="7812" y="412"/>
                    </a:lnTo>
                    <a:close/>
                    <a:moveTo>
                      <a:pt x="8747" y="412"/>
                    </a:moveTo>
                    <a:lnTo>
                      <a:pt x="8747" y="0"/>
                    </a:lnTo>
                    <a:lnTo>
                      <a:pt x="9168" y="0"/>
                    </a:lnTo>
                    <a:lnTo>
                      <a:pt x="9168" y="73"/>
                    </a:lnTo>
                    <a:lnTo>
                      <a:pt x="8844" y="73"/>
                    </a:lnTo>
                    <a:lnTo>
                      <a:pt x="8844" y="165"/>
                    </a:lnTo>
                    <a:lnTo>
                      <a:pt x="9032" y="165"/>
                    </a:lnTo>
                    <a:lnTo>
                      <a:pt x="9032" y="232"/>
                    </a:lnTo>
                    <a:lnTo>
                      <a:pt x="8844" y="232"/>
                    </a:lnTo>
                    <a:lnTo>
                      <a:pt x="8844" y="334"/>
                    </a:lnTo>
                    <a:lnTo>
                      <a:pt x="9168" y="334"/>
                    </a:lnTo>
                    <a:lnTo>
                      <a:pt x="9168" y="412"/>
                    </a:lnTo>
                    <a:lnTo>
                      <a:pt x="8747" y="41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37" name=""/>
            <p:cNvSpPr/>
            <p:nvPr/>
          </p:nvSpPr>
          <p:spPr>
            <a:xfrm>
              <a:off x="228600" y="5432040"/>
              <a:ext cx="2666880" cy="434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 spc="-1" strike="noStrike">
                  <a:solidFill>
                    <a:srgbClr val="333300"/>
                  </a:solidFill>
                  <a:latin typeface="Arial"/>
                </a:rPr>
                <a:t>CIÊNCIA DA COMPUTAÇÃO    CIÊNCIA DA INFORMAÇÃO</a:t>
              </a:r>
              <a:endParaRPr b="0" lang="en-US" sz="4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 spc="-1" strike="noStrike">
                  <a:solidFill>
                    <a:srgbClr val="333300"/>
                  </a:solidFill>
                  <a:latin typeface="Arial"/>
                </a:rPr>
                <a:t>SISTEMAS DE INFORMAÇÃO</a:t>
              </a:r>
              <a:endParaRPr b="0" lang="en-US" sz="400" spc="-1" strike="noStrike">
                <a:solidFill>
                  <a:srgbClr val="333300"/>
                </a:solidFill>
                <a:latin typeface="Times New Roman"/>
              </a:endParaRPr>
            </a:p>
          </p:txBody>
        </p:sp>
      </p:grpSp>
      <p:sp>
        <p:nvSpPr>
          <p:cNvPr id="138"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package" Target="../embeddings/oleObject2.xlsx"/><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4645080" y="2666520"/>
            <a:ext cx="2751120" cy="7628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66ff"/>
                </a:solidFill>
                <a:latin typeface="Times New Roman"/>
              </a:rPr>
              <a:t>SCR’2001</a:t>
            </a:r>
            <a:r>
              <a:rPr b="1" lang="pt-BR" sz="4400" spc="-1" strike="noStrike">
                <a:solidFill>
                  <a:srgbClr val="009900"/>
                </a:solidFill>
                <a:latin typeface="Times New Roman"/>
              </a:rPr>
              <a:t> </a:t>
            </a:r>
            <a:endParaRPr b="0" lang="en-US" sz="4400" spc="-1" strike="noStrike">
              <a:solidFill>
                <a:srgbClr val="333300"/>
              </a:solidFill>
              <a:latin typeface="Times New Roman"/>
            </a:endParaRPr>
          </a:p>
        </p:txBody>
      </p:sp>
      <p:sp>
        <p:nvSpPr>
          <p:cNvPr id="176" name=""/>
          <p:cNvSpPr/>
          <p:nvPr/>
        </p:nvSpPr>
        <p:spPr>
          <a:xfrm>
            <a:off x="5697360" y="3733920"/>
            <a:ext cx="184320" cy="76176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77" name=""/>
          <p:cNvSpPr/>
          <p:nvPr/>
        </p:nvSpPr>
        <p:spPr>
          <a:xfrm>
            <a:off x="2583360" y="609120"/>
            <a:ext cx="7011000" cy="143316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66ff"/>
                </a:solidFill>
                <a:latin typeface="Times New Roman"/>
              </a:rPr>
              <a:t>Introdução à </a:t>
            </a:r>
            <a:endParaRPr b="0" lang="en-US" sz="4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66ff"/>
                </a:solidFill>
                <a:latin typeface="Times New Roman"/>
              </a:rPr>
              <a:t>Computação Reconfigurável</a:t>
            </a:r>
            <a:endParaRPr b="0" lang="en-US" sz="4400" spc="-1" strike="noStrike">
              <a:solidFill>
                <a:srgbClr val="333300"/>
              </a:solidFill>
              <a:latin typeface="Times New Roman"/>
            </a:endParaRPr>
          </a:p>
        </p:txBody>
      </p:sp>
      <p:sp>
        <p:nvSpPr>
          <p:cNvPr id="178" name=""/>
          <p:cNvSpPr/>
          <p:nvPr/>
        </p:nvSpPr>
        <p:spPr>
          <a:xfrm>
            <a:off x="2895480" y="3886560"/>
            <a:ext cx="6858000" cy="118980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Narrow"/>
              </a:rPr>
              <a:t>Dr. Carlos Augusto P. S. Martins </a:t>
            </a:r>
            <a:endParaRPr b="0" lang="en-US" sz="36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Narrow"/>
              </a:rPr>
              <a:t>Dr. Edward Moreno</a:t>
            </a:r>
            <a:r>
              <a:rPr b="1" lang="pt-BR" sz="3600" spc="-1" strike="noStrike">
                <a:solidFill>
                  <a:srgbClr val="9900ff"/>
                </a:solidFill>
                <a:latin typeface="Arial Narrow"/>
              </a:rPr>
              <a:t> </a:t>
            </a:r>
            <a:endParaRPr b="0" lang="en-US" sz="3600" spc="-1" strike="noStrike">
              <a:solidFill>
                <a:srgbClr val="333300"/>
              </a:solidFill>
              <a:latin typeface="Times New Roman"/>
            </a:endParaRPr>
          </a:p>
        </p:txBody>
      </p:sp>
      <p:sp>
        <p:nvSpPr>
          <p:cNvPr id="2" name="PlaceHolder 1"/>
          <p:cNvSpPr>
            <a:spLocks noGrp="1"/>
          </p:cNvSpPr>
          <p:nvPr>
            <p:ph type="ftr" idx="5"/>
          </p:nvPr>
        </p:nvSpPr>
        <p:spPr/>
        <p:txBody>
          <a:bodyPr/>
          <a:p>
            <a:r>
              <a:t>Carlos Augusto P. S. Martins - Edward David Moreno - SCR'2001</a:t>
            </a:r>
          </a:p>
        </p:txBody>
      </p:sp>
      <p:sp>
        <p:nvSpPr>
          <p:cNvPr id="3" name="PlaceHolder 2"/>
          <p:cNvSpPr>
            <a:spLocks noGrp="1"/>
          </p:cNvSpPr>
          <p:nvPr>
            <p:ph type="sldNum" idx="6"/>
          </p:nvPr>
        </p:nvSpPr>
        <p:spPr/>
        <p:txBody>
          <a:bodyPr/>
          <a:p>
            <a:fld id="{8CFDF750-EEA2-471C-9E82-2C7E8C15727E}" type="slidenum">
              <a:t>1</a:t>
            </a:fld>
          </a:p>
        </p:txBody>
      </p:sp>
      <p:sp>
        <p:nvSpPr>
          <p:cNvPr id="4" name="PlaceHolder 3"/>
          <p:cNvSpPr>
            <a:spLocks noGrp="1"/>
          </p:cNvSpPr>
          <p:nvPr>
            <p:ph type="dt" idx="4"/>
          </p:nvPr>
        </p:nvSpPr>
        <p:spPr/>
        <p:txBody>
          <a:bodyPr/>
          <a:p>
            <a:fld id="{2950A241-45E9-445C-B375-21E797600311}"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 Conceitos básicos</a:t>
            </a:r>
            <a:endParaRPr b="1" lang="en-US" sz="4400" spc="-1" strike="noStrike">
              <a:solidFill>
                <a:srgbClr val="3333cc"/>
              </a:solidFill>
              <a:latin typeface="Times New Roman"/>
            </a:endParaRPr>
          </a:p>
        </p:txBody>
      </p:sp>
      <p:sp>
        <p:nvSpPr>
          <p:cNvPr id="196" name="PlaceHolder 2"/>
          <p:cNvSpPr>
            <a:spLocks noGrp="1"/>
          </p:cNvSpPr>
          <p:nvPr>
            <p:ph/>
          </p:nvPr>
        </p:nvSpPr>
        <p:spPr>
          <a:xfrm>
            <a:off x="1625400" y="1523520"/>
            <a:ext cx="823428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Porque a computação reconfigurável foi desenvolvida ?</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Porque começar a estudar computação reconfigurável ?</a:t>
            </a:r>
            <a:endParaRPr b="1" lang="en-US" sz="32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Demanda computacional aplicações atuais</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Posição das empresas e universidades</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Evolução dispositivos: arquitetura e tecnologia</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2D98153A-6AF7-4CC4-AC25-2F94FAD26018}" type="slidenum">
              <a:t>10</a:t>
            </a:fld>
          </a:p>
        </p:txBody>
      </p:sp>
      <p:sp>
        <p:nvSpPr>
          <p:cNvPr id="6" name="PlaceHolder 5"/>
          <p:cNvSpPr>
            <a:spLocks noGrp="1"/>
          </p:cNvSpPr>
          <p:nvPr>
            <p:ph type="dt" idx="1"/>
          </p:nvPr>
        </p:nvSpPr>
        <p:spPr/>
        <p:txBody>
          <a:bodyPr/>
          <a:p>
            <a:fld id="{E1D4D754-EB0D-4DC5-884F-B380FAB66081}"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 Conceitos básicos</a:t>
            </a:r>
            <a:endParaRPr b="1" lang="en-US" sz="4400" spc="-1" strike="noStrike">
              <a:solidFill>
                <a:srgbClr val="3333cc"/>
              </a:solidFill>
              <a:latin typeface="Times New Roman"/>
            </a:endParaRPr>
          </a:p>
        </p:txBody>
      </p:sp>
      <p:sp>
        <p:nvSpPr>
          <p:cNvPr id="198" name="PlaceHolder 2"/>
          <p:cNvSpPr>
            <a:spLocks noGrp="1"/>
          </p:cNvSpPr>
          <p:nvPr>
            <p:ph/>
          </p:nvPr>
        </p:nvSpPr>
        <p:spPr>
          <a:xfrm>
            <a:off x="1625400" y="1523520"/>
            <a:ext cx="823428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Evolução histórica </a:t>
            </a:r>
            <a:endParaRPr b="1" lang="en-US" sz="32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Surgimento</a:t>
            </a: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Evolução</a:t>
            </a: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Situação atual</a:t>
            </a: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Tendências futuras</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2E96938A-975B-428A-9DB3-FB35351D42BC}" type="slidenum">
              <a:t>11</a:t>
            </a:fld>
          </a:p>
        </p:txBody>
      </p:sp>
      <p:sp>
        <p:nvSpPr>
          <p:cNvPr id="6" name="PlaceHolder 5"/>
          <p:cNvSpPr>
            <a:spLocks noGrp="1"/>
          </p:cNvSpPr>
          <p:nvPr>
            <p:ph type="dt" idx="1"/>
          </p:nvPr>
        </p:nvSpPr>
        <p:spPr/>
        <p:txBody>
          <a:bodyPr/>
          <a:p>
            <a:fld id="{33AFF83B-DDF3-472C-85BD-1738D64AE6A7}"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 Conceitos básicos</a:t>
            </a:r>
            <a:endParaRPr b="1" lang="en-US" sz="4400" spc="-1" strike="noStrike">
              <a:solidFill>
                <a:srgbClr val="3333cc"/>
              </a:solidFill>
              <a:latin typeface="Times New Roman"/>
            </a:endParaRPr>
          </a:p>
        </p:txBody>
      </p:sp>
      <p:sp>
        <p:nvSpPr>
          <p:cNvPr id="200" name="PlaceHolder 2"/>
          <p:cNvSpPr>
            <a:spLocks noGrp="1"/>
          </p:cNvSpPr>
          <p:nvPr>
            <p:ph/>
          </p:nvPr>
        </p:nvSpPr>
        <p:spPr>
          <a:xfrm>
            <a:off x="1625400" y="1523520"/>
            <a:ext cx="823428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Terminologia</a:t>
            </a:r>
            <a:endParaRPr b="1" lang="en-US" sz="3200" spc="-1" strike="noStrike">
              <a:solidFill>
                <a:srgbClr val="000000"/>
              </a:solidFill>
              <a:latin typeface="Arial"/>
            </a:endParaRPr>
          </a:p>
          <a:p>
            <a:pPr lvl="1" marL="743040" indent="-285840">
              <a:spcBef>
                <a:spcPts val="499"/>
              </a:spcBef>
              <a:spcAft>
                <a:spcPts val="499"/>
              </a:spcAft>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Programação x configuração</a:t>
            </a:r>
            <a:endParaRPr b="1" lang="en-US" sz="2800" spc="-1" strike="noStrike">
              <a:solidFill>
                <a:srgbClr val="000000"/>
              </a:solidFill>
              <a:latin typeface="Arial"/>
            </a:endParaRPr>
          </a:p>
          <a:p>
            <a:pPr lvl="1" marL="7430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499"/>
              </a:spcBef>
              <a:spcAft>
                <a:spcPts val="499"/>
              </a:spcAft>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Sistemas configuráveis x reconfiguráveis</a:t>
            </a:r>
            <a:endParaRPr b="1" lang="en-US" sz="2800" spc="-1" strike="noStrike">
              <a:solidFill>
                <a:srgbClr val="000000"/>
              </a:solidFill>
              <a:latin typeface="Arial"/>
            </a:endParaRPr>
          </a:p>
          <a:p>
            <a:pPr lvl="1" marL="7430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499"/>
              </a:spcBef>
              <a:spcAft>
                <a:spcPts val="499"/>
              </a:spcAft>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Reconfiguração estática x dinâmica</a:t>
            </a:r>
            <a:endParaRPr b="1" lang="en-US" sz="2800" spc="-1" strike="noStrike">
              <a:solidFill>
                <a:srgbClr val="000000"/>
              </a:solidFill>
              <a:latin typeface="Arial"/>
            </a:endParaRPr>
          </a:p>
          <a:p>
            <a:pPr lvl="1" marL="7430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499"/>
              </a:spcBef>
              <a:spcAft>
                <a:spcPts val="499"/>
              </a:spcAft>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Reconfiguração parcial x total </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B9965C7D-E6FD-4A05-AEB3-E661490A381B}" type="slidenum">
              <a:t>12</a:t>
            </a:fld>
          </a:p>
        </p:txBody>
      </p:sp>
      <p:sp>
        <p:nvSpPr>
          <p:cNvPr id="6" name="PlaceHolder 5"/>
          <p:cNvSpPr>
            <a:spLocks noGrp="1"/>
          </p:cNvSpPr>
          <p:nvPr>
            <p:ph type="dt" idx="1"/>
          </p:nvPr>
        </p:nvSpPr>
        <p:spPr/>
        <p:txBody>
          <a:bodyPr/>
          <a:p>
            <a:fld id="{C4013390-DAFF-490D-9C8D-27139985A3DF}"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 Conceitos básicos</a:t>
            </a:r>
            <a:endParaRPr b="1" lang="en-US" sz="4400" spc="-1" strike="noStrike">
              <a:solidFill>
                <a:srgbClr val="3333cc"/>
              </a:solidFill>
              <a:latin typeface="Times New Roman"/>
            </a:endParaRPr>
          </a:p>
        </p:txBody>
      </p:sp>
      <p:sp>
        <p:nvSpPr>
          <p:cNvPr id="202" name="PlaceHolder 2"/>
          <p:cNvSpPr>
            <a:spLocks noGrp="1"/>
          </p:cNvSpPr>
          <p:nvPr>
            <p:ph/>
          </p:nvPr>
        </p:nvSpPr>
        <p:spPr>
          <a:xfrm>
            <a:off x="1625400" y="1523520"/>
            <a:ext cx="823428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Como funciona a computação reconfigurável</a:t>
            </a:r>
            <a:endParaRPr b="1" lang="en-US" sz="32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Sistemas</a:t>
            </a: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Arquitetura</a:t>
            </a: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Dispositivos</a:t>
            </a: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Programação</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5D6505D5-7A71-462A-94C0-B9C0C2803B05}" type="slidenum">
              <a:t>13</a:t>
            </a:fld>
          </a:p>
        </p:txBody>
      </p:sp>
      <p:sp>
        <p:nvSpPr>
          <p:cNvPr id="6" name="PlaceHolder 5"/>
          <p:cNvSpPr>
            <a:spLocks noGrp="1"/>
          </p:cNvSpPr>
          <p:nvPr>
            <p:ph type="dt" idx="1"/>
          </p:nvPr>
        </p:nvSpPr>
        <p:spPr/>
        <p:txBody>
          <a:bodyPr/>
          <a:p>
            <a:fld id="{6F6A600E-4022-4625-9539-0EACCE4B8C25}"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 Conceitos básicos</a:t>
            </a:r>
            <a:endParaRPr b="1" lang="en-US" sz="4400" spc="-1" strike="noStrike">
              <a:solidFill>
                <a:srgbClr val="3333cc"/>
              </a:solidFill>
              <a:latin typeface="Times New Roman"/>
            </a:endParaRPr>
          </a:p>
        </p:txBody>
      </p:sp>
      <p:sp>
        <p:nvSpPr>
          <p:cNvPr id="204" name="PlaceHolder 2"/>
          <p:cNvSpPr>
            <a:spLocks noGrp="1"/>
          </p:cNvSpPr>
          <p:nvPr>
            <p:ph/>
          </p:nvPr>
        </p:nvSpPr>
        <p:spPr>
          <a:xfrm>
            <a:off x="1625400" y="1523520"/>
            <a:ext cx="823428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Principais características (atributos) de aplicações de computação reconfigurável</a:t>
            </a:r>
            <a:endParaRPr b="1" lang="en-US" sz="32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Regularidade</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Pipeline</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Paralelismo de dados</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Largura de bits variável</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Aritmética modesta</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Controle simples</a:t>
            </a:r>
            <a:endParaRPr b="1"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3D593650-5D45-45C9-9B6C-4E42193A5ECA}" type="slidenum">
              <a:t>14</a:t>
            </a:fld>
          </a:p>
        </p:txBody>
      </p:sp>
      <p:sp>
        <p:nvSpPr>
          <p:cNvPr id="6" name="PlaceHolder 5"/>
          <p:cNvSpPr>
            <a:spLocks noGrp="1"/>
          </p:cNvSpPr>
          <p:nvPr>
            <p:ph type="dt" idx="1"/>
          </p:nvPr>
        </p:nvSpPr>
        <p:spPr/>
        <p:txBody>
          <a:bodyPr/>
          <a:p>
            <a:fld id="{CFD44777-5496-427D-9C99-667371BBBA07}"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 Conceitos básicos</a:t>
            </a:r>
            <a:endParaRPr b="1" lang="en-US" sz="4400" spc="-1" strike="noStrike">
              <a:solidFill>
                <a:srgbClr val="3333cc"/>
              </a:solidFill>
              <a:latin typeface="Times New Roman"/>
            </a:endParaRPr>
          </a:p>
        </p:txBody>
      </p:sp>
      <p:sp>
        <p:nvSpPr>
          <p:cNvPr id="206" name="PlaceHolder 2"/>
          <p:cNvSpPr>
            <a:spLocks noGrp="1"/>
          </p:cNvSpPr>
          <p:nvPr>
            <p:ph/>
          </p:nvPr>
        </p:nvSpPr>
        <p:spPr>
          <a:xfrm>
            <a:off x="1625400" y="1523520"/>
            <a:ext cx="823428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Principais (possíveis) aplicações</a:t>
            </a:r>
            <a:endParaRPr b="1" lang="en-US" sz="32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Casamento de DNA</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Computação gráfica</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Criptografia</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Multimídia</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Processamento de imagens, sinais e vídeo</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Reconhecimento de padrões</a:t>
            </a: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88C879EB-4308-4D6C-AEDE-C019FD0B6505}" type="slidenum">
              <a:t>15</a:t>
            </a:fld>
          </a:p>
        </p:txBody>
      </p:sp>
      <p:sp>
        <p:nvSpPr>
          <p:cNvPr id="6" name="PlaceHolder 5"/>
          <p:cNvSpPr>
            <a:spLocks noGrp="1"/>
          </p:cNvSpPr>
          <p:nvPr>
            <p:ph type="dt" idx="1"/>
          </p:nvPr>
        </p:nvSpPr>
        <p:spPr/>
        <p:txBody>
          <a:bodyPr/>
          <a:p>
            <a:fld id="{DC1DEA36-FCA9-4616-896D-9E61CE6D348D}"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 Arquiteturas</a:t>
            </a:r>
            <a:endParaRPr b="1" lang="en-US" sz="4400" spc="-1" strike="noStrike">
              <a:solidFill>
                <a:srgbClr val="3333cc"/>
              </a:solidFill>
              <a:latin typeface="Times New Roman"/>
            </a:endParaRPr>
          </a:p>
        </p:txBody>
      </p:sp>
      <p:sp>
        <p:nvSpPr>
          <p:cNvPr id="208" name="PlaceHolder 2"/>
          <p:cNvSpPr>
            <a:spLocks noGrp="1"/>
          </p:cNvSpPr>
          <p:nvPr>
            <p:ph/>
          </p:nvPr>
        </p:nvSpPr>
        <p:spPr>
          <a:xfrm>
            <a:off x="1625400" y="1523520"/>
            <a:ext cx="823428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Espectro de computadores reconfiguráveis</a:t>
            </a:r>
            <a:endParaRPr b="1" lang="en-US" sz="3200" spc="-1" strike="noStrike">
              <a:solidFill>
                <a:srgbClr val="0000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Granularidade</a:t>
            </a:r>
            <a:endParaRPr b="1" lang="en-US" sz="32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Granularidade Fina</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Granularidade Grossa</a:t>
            </a:r>
            <a:endParaRPr b="1" lang="en-US" sz="2800" spc="-1" strike="noStrike">
              <a:solidFill>
                <a:srgbClr val="0000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Propósito</a:t>
            </a:r>
            <a:endParaRPr b="1" lang="en-US" sz="32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Geral</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Específico ou dedicado </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FD8AE6EF-9335-45F7-86D7-59EC83AD1B71}" type="slidenum">
              <a:t>16</a:t>
            </a:fld>
          </a:p>
        </p:txBody>
      </p:sp>
      <p:sp>
        <p:nvSpPr>
          <p:cNvPr id="6" name="PlaceHolder 5"/>
          <p:cNvSpPr>
            <a:spLocks noGrp="1"/>
          </p:cNvSpPr>
          <p:nvPr>
            <p:ph type="dt" idx="1"/>
          </p:nvPr>
        </p:nvSpPr>
        <p:spPr/>
        <p:txBody>
          <a:bodyPr/>
          <a:p>
            <a:fld id="{985EADFD-A0B5-4577-8588-5467FB8A9FBD}"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 Arquiteturas</a:t>
            </a:r>
            <a:endParaRPr b="1" lang="en-US" sz="4400" spc="-1" strike="noStrike">
              <a:solidFill>
                <a:srgbClr val="3333cc"/>
              </a:solidFill>
              <a:latin typeface="Times New Roman"/>
            </a:endParaRPr>
          </a:p>
        </p:txBody>
      </p:sp>
      <p:sp>
        <p:nvSpPr>
          <p:cNvPr id="210" name="PlaceHolder 2"/>
          <p:cNvSpPr>
            <a:spLocks noGrp="1"/>
          </p:cNvSpPr>
          <p:nvPr>
            <p:ph/>
          </p:nvPr>
        </p:nvSpPr>
        <p:spPr>
          <a:xfrm>
            <a:off x="1625400" y="1523520"/>
            <a:ext cx="823428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Ambientes computacionais reconfiguráveis</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Componentes  de Hardware</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Componentes de Software</a:t>
            </a: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F9E9A2EB-1D0F-408A-84E3-28E4258032F3}" type="slidenum">
              <a:t>17</a:t>
            </a:fld>
          </a:p>
        </p:txBody>
      </p:sp>
      <p:sp>
        <p:nvSpPr>
          <p:cNvPr id="6" name="PlaceHolder 5"/>
          <p:cNvSpPr>
            <a:spLocks noGrp="1"/>
          </p:cNvSpPr>
          <p:nvPr>
            <p:ph type="dt" idx="1"/>
          </p:nvPr>
        </p:nvSpPr>
        <p:spPr/>
        <p:txBody>
          <a:bodyPr/>
          <a:p>
            <a:fld id="{20522B7C-A2C0-4676-B1D5-DBA0784C9315}"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 Arquiteturas</a:t>
            </a:r>
            <a:endParaRPr b="1" lang="en-US" sz="4400" spc="-1" strike="noStrike">
              <a:solidFill>
                <a:srgbClr val="3333cc"/>
              </a:solidFill>
              <a:latin typeface="Times New Roman"/>
            </a:endParaRPr>
          </a:p>
        </p:txBody>
      </p:sp>
      <p:sp>
        <p:nvSpPr>
          <p:cNvPr id="212" name="PlaceHolder 2"/>
          <p:cNvSpPr>
            <a:spLocks noGrp="1"/>
          </p:cNvSpPr>
          <p:nvPr>
            <p:ph/>
          </p:nvPr>
        </p:nvSpPr>
        <p:spPr>
          <a:xfrm>
            <a:off x="1625400" y="1523520"/>
            <a:ext cx="823428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Métodos de desenvolvimento</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Linguagem de alto nível</a:t>
            </a:r>
            <a:endParaRPr b="1"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Compilador</a:t>
            </a:r>
            <a:endParaRPr b="1"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Hardware custom</a:t>
            </a: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59681EE6-F0DF-47DD-92EF-D4E410812466}" type="slidenum">
              <a:t>18</a:t>
            </a:fld>
          </a:p>
        </p:txBody>
      </p:sp>
      <p:sp>
        <p:nvSpPr>
          <p:cNvPr id="6" name="PlaceHolder 5"/>
          <p:cNvSpPr>
            <a:spLocks noGrp="1"/>
          </p:cNvSpPr>
          <p:nvPr>
            <p:ph type="dt" idx="1"/>
          </p:nvPr>
        </p:nvSpPr>
        <p:spPr/>
        <p:txBody>
          <a:bodyPr/>
          <a:p>
            <a:fld id="{DA054D9E-18A1-42CD-A1A1-A9965EFCFACB}"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 Arquiteturas</a:t>
            </a:r>
            <a:endParaRPr b="1" lang="en-US" sz="4400" spc="-1" strike="noStrike">
              <a:solidFill>
                <a:srgbClr val="3333cc"/>
              </a:solidFill>
              <a:latin typeface="Times New Roman"/>
            </a:endParaRPr>
          </a:p>
        </p:txBody>
      </p:sp>
      <p:sp>
        <p:nvSpPr>
          <p:cNvPr id="214" name="PlaceHolder 2"/>
          <p:cNvSpPr>
            <a:spLocks noGrp="1"/>
          </p:cNvSpPr>
          <p:nvPr>
            <p:ph/>
          </p:nvPr>
        </p:nvSpPr>
        <p:spPr>
          <a:xfrm>
            <a:off x="1625400" y="1523520"/>
            <a:ext cx="823428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Métodos de desenvolvimento</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Pode existir particionamento na execução de tarefas entre hardware e software</a:t>
            </a: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4D34FDB9-3033-4828-936C-76275991401C}" type="slidenum">
              <a:t>19</a:t>
            </a:fld>
          </a:p>
        </p:txBody>
      </p:sp>
      <p:sp>
        <p:nvSpPr>
          <p:cNvPr id="6" name="PlaceHolder 5"/>
          <p:cNvSpPr>
            <a:spLocks noGrp="1"/>
          </p:cNvSpPr>
          <p:nvPr>
            <p:ph type="dt" idx="1"/>
          </p:nvPr>
        </p:nvSpPr>
        <p:spPr/>
        <p:txBody>
          <a:bodyPr/>
          <a:p>
            <a:fld id="{8C9E15B5-2FEB-40E7-98AB-E92BFE30078F}"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 Sumário</a:t>
            </a:r>
            <a:endParaRPr b="1" lang="en-US" sz="4400" spc="-1" strike="noStrike">
              <a:solidFill>
                <a:srgbClr val="3333cc"/>
              </a:solidFill>
              <a:latin typeface="Times New Roman"/>
            </a:endParaRPr>
          </a:p>
        </p:txBody>
      </p:sp>
      <p:sp>
        <p:nvSpPr>
          <p:cNvPr id="180" name="PlaceHolder 2"/>
          <p:cNvSpPr>
            <a:spLocks noGrp="1"/>
          </p:cNvSpPr>
          <p:nvPr>
            <p:ph/>
          </p:nvPr>
        </p:nvSpPr>
        <p:spPr>
          <a:xfrm>
            <a:off x="1625400" y="1523520"/>
            <a:ext cx="823428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Introdução</a:t>
            </a:r>
            <a:endParaRPr b="1" lang="en-US" sz="3200" spc="-1" strike="noStrike">
              <a:solidFill>
                <a:srgbClr val="0000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Conceitos de computação reconfigurável</a:t>
            </a:r>
            <a:endParaRPr b="1" lang="en-US" sz="3200" spc="-1" strike="noStrike">
              <a:solidFill>
                <a:srgbClr val="0000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Arquiteturas reconfiguráveis</a:t>
            </a:r>
            <a:endParaRPr b="1" lang="en-US" sz="3200" spc="-1" strike="noStrike">
              <a:solidFill>
                <a:srgbClr val="0000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Projetos acadêmicos e comerciais</a:t>
            </a:r>
            <a:endParaRPr b="1" lang="en-US" sz="3200" spc="-1" strike="noStrike">
              <a:solidFill>
                <a:srgbClr val="0000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Aplicações acadêmicas e comerciais</a:t>
            </a:r>
            <a:endParaRPr b="1" lang="en-US" sz="3200" spc="-1" strike="noStrike">
              <a:solidFill>
                <a:srgbClr val="0000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Conclusões</a:t>
            </a:r>
            <a:endParaRPr b="1" lang="en-US" sz="3200" spc="-1" strike="noStrike">
              <a:solidFill>
                <a:srgbClr val="0000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Referências bibliográficas</a:t>
            </a: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58BEB747-2F9A-4B69-B413-C41A85AC8259}" type="slidenum">
              <a:t>2</a:t>
            </a:fld>
          </a:p>
        </p:txBody>
      </p:sp>
      <p:sp>
        <p:nvSpPr>
          <p:cNvPr id="6" name="PlaceHolder 5"/>
          <p:cNvSpPr>
            <a:spLocks noGrp="1"/>
          </p:cNvSpPr>
          <p:nvPr>
            <p:ph type="dt" idx="1"/>
          </p:nvPr>
        </p:nvSpPr>
        <p:spPr/>
        <p:txBody>
          <a:bodyPr/>
          <a:p>
            <a:fld id="{5AACC09E-548E-4B3F-8A30-8AF3537AB044}"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 Arquiteturas</a:t>
            </a:r>
            <a:endParaRPr b="1" lang="en-US" sz="4400" spc="-1" strike="noStrike">
              <a:solidFill>
                <a:srgbClr val="3333cc"/>
              </a:solidFill>
              <a:latin typeface="Times New Roman"/>
            </a:endParaRPr>
          </a:p>
        </p:txBody>
      </p:sp>
      <p:sp>
        <p:nvSpPr>
          <p:cNvPr id="216" name="PlaceHolder 2"/>
          <p:cNvSpPr>
            <a:spLocks noGrp="1"/>
          </p:cNvSpPr>
          <p:nvPr>
            <p:ph/>
          </p:nvPr>
        </p:nvSpPr>
        <p:spPr>
          <a:xfrm>
            <a:off x="1625400" y="1523520"/>
            <a:ext cx="823428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Ferramentas de desenvolvimento</a:t>
            </a:r>
            <a:endParaRPr b="1" lang="en-US" sz="32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Linguagens</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Compiladores</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Depuradores</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Simuladores</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Suporte à execução</a:t>
            </a:r>
            <a:endParaRPr b="1"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30D33FA0-E830-4EDC-9B54-601DACFC9BF2}" type="slidenum">
              <a:t>20</a:t>
            </a:fld>
          </a:p>
        </p:txBody>
      </p:sp>
      <p:sp>
        <p:nvSpPr>
          <p:cNvPr id="6" name="PlaceHolder 5"/>
          <p:cNvSpPr>
            <a:spLocks noGrp="1"/>
          </p:cNvSpPr>
          <p:nvPr>
            <p:ph type="dt" idx="1"/>
          </p:nvPr>
        </p:nvSpPr>
        <p:spPr/>
        <p:txBody>
          <a:bodyPr/>
          <a:p>
            <a:fld id="{3336C901-619C-48ED-A81D-21ABAF9A2ACF}"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 Arquiteturas</a:t>
            </a:r>
            <a:endParaRPr b="1" lang="en-US" sz="4400" spc="-1" strike="noStrike">
              <a:solidFill>
                <a:srgbClr val="3333cc"/>
              </a:solidFill>
              <a:latin typeface="Times New Roman"/>
            </a:endParaRPr>
          </a:p>
        </p:txBody>
      </p:sp>
      <p:sp>
        <p:nvSpPr>
          <p:cNvPr id="218" name="PlaceHolder 2"/>
          <p:cNvSpPr>
            <a:spLocks noGrp="1"/>
          </p:cNvSpPr>
          <p:nvPr>
            <p:ph/>
          </p:nvPr>
        </p:nvSpPr>
        <p:spPr>
          <a:xfrm>
            <a:off x="1625400" y="1523520"/>
            <a:ext cx="823428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Ambientes de projeto e desenvolvimento</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Integração de hardware e software</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Acadêmicos e Comerciais </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CAD / CAM / CAE</a:t>
            </a: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BCF4A225-3CBE-4004-AC08-79B9BAD776B0}" type="slidenum">
              <a:t>21</a:t>
            </a:fld>
          </a:p>
        </p:txBody>
      </p:sp>
      <p:sp>
        <p:nvSpPr>
          <p:cNvPr id="6" name="PlaceHolder 5"/>
          <p:cNvSpPr>
            <a:spLocks noGrp="1"/>
          </p:cNvSpPr>
          <p:nvPr>
            <p:ph type="dt" idx="1"/>
          </p:nvPr>
        </p:nvSpPr>
        <p:spPr/>
        <p:txBody>
          <a:bodyPr/>
          <a:p>
            <a:fld id="{810E3DCC-C6E2-43E4-9689-96C73154DBD7}"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 Arquiteturas </a:t>
            </a:r>
            <a:endParaRPr b="1" lang="en-US" sz="4400" spc="-1" strike="noStrike">
              <a:solidFill>
                <a:srgbClr val="3333cc"/>
              </a:solidFill>
              <a:latin typeface="Times New Roman"/>
            </a:endParaRPr>
          </a:p>
        </p:txBody>
      </p:sp>
      <p:sp>
        <p:nvSpPr>
          <p:cNvPr id="220" name="PlaceHolder 2"/>
          <p:cNvSpPr>
            <a:spLocks noGrp="1"/>
          </p:cNvSpPr>
          <p:nvPr>
            <p:ph/>
          </p:nvPr>
        </p:nvSpPr>
        <p:spPr>
          <a:xfrm>
            <a:off x="1625400" y="1523520"/>
            <a:ext cx="823428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Principais características técnicas</a:t>
            </a:r>
            <a:endParaRPr b="1" lang="en-US" sz="3200" spc="-1" strike="noStrike">
              <a:solidFill>
                <a:srgbClr val="0000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Arquitetura interna dos dispositivos reconfiguráveis, blocos lógicos e de interconexão</a:t>
            </a:r>
            <a:endParaRPr b="1" lang="en-US" sz="3200" spc="-1" strike="noStrike">
              <a:solidFill>
                <a:srgbClr val="0000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Tipos de reconfiguração</a:t>
            </a:r>
            <a:endParaRPr b="1" lang="en-US" sz="3200" spc="-1" strike="noStrike">
              <a:solidFill>
                <a:srgbClr val="0000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Paralelismo </a:t>
            </a:r>
            <a:endParaRPr b="1" lang="en-US" sz="3200" spc="-1" strike="noStrike">
              <a:solidFill>
                <a:srgbClr val="0000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Outras</a:t>
            </a: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51AA4A01-7C83-45F8-ABC4-2A3C844F48E9}" type="slidenum">
              <a:t>22</a:t>
            </a:fld>
          </a:p>
        </p:txBody>
      </p:sp>
      <p:sp>
        <p:nvSpPr>
          <p:cNvPr id="6" name="PlaceHolder 5"/>
          <p:cNvSpPr>
            <a:spLocks noGrp="1"/>
          </p:cNvSpPr>
          <p:nvPr>
            <p:ph type="dt" idx="1"/>
          </p:nvPr>
        </p:nvSpPr>
        <p:spPr/>
        <p:txBody>
          <a:bodyPr/>
          <a:p>
            <a:fld id="{24CCF05C-C691-4DE9-8969-86429118AF4A}"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 Arquiteturas </a:t>
            </a:r>
            <a:endParaRPr b="1" lang="en-US" sz="4400" spc="-1" strike="noStrike">
              <a:solidFill>
                <a:srgbClr val="3333cc"/>
              </a:solidFill>
              <a:latin typeface="Times New Roman"/>
            </a:endParaRPr>
          </a:p>
        </p:txBody>
      </p:sp>
      <p:sp>
        <p:nvSpPr>
          <p:cNvPr id="222" name="PlaceHolder 2"/>
          <p:cNvSpPr>
            <a:spLocks noGrp="1"/>
          </p:cNvSpPr>
          <p:nvPr>
            <p:ph/>
          </p:nvPr>
        </p:nvSpPr>
        <p:spPr>
          <a:xfrm>
            <a:off x="1625400" y="1523520"/>
            <a:ext cx="823428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Arquitetura interna dos dispositivos reconfiguráveis</a:t>
            </a:r>
            <a:endParaRPr b="1" lang="en-US" sz="32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Blocos lógicos (LUT, Portas)  </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Recursos de interconexão</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Recursos de reconfiguração </a:t>
            </a:r>
            <a:endParaRPr b="1"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45C576DC-ED38-43D7-B00C-5E58383BB3F9}" type="slidenum">
              <a:t>23</a:t>
            </a:fld>
          </a:p>
        </p:txBody>
      </p:sp>
      <p:sp>
        <p:nvSpPr>
          <p:cNvPr id="6" name="PlaceHolder 5"/>
          <p:cNvSpPr>
            <a:spLocks noGrp="1"/>
          </p:cNvSpPr>
          <p:nvPr>
            <p:ph type="dt" idx="1"/>
          </p:nvPr>
        </p:nvSpPr>
        <p:spPr/>
        <p:txBody>
          <a:bodyPr/>
          <a:p>
            <a:fld id="{D1799191-9D95-49BF-8C57-CAFE609BCF6F}"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 Arquiteturas </a:t>
            </a:r>
            <a:endParaRPr b="1" lang="en-US" sz="4400" spc="-1" strike="noStrike">
              <a:solidFill>
                <a:srgbClr val="3333cc"/>
              </a:solidFill>
              <a:latin typeface="Times New Roman"/>
            </a:endParaRPr>
          </a:p>
        </p:txBody>
      </p:sp>
      <p:sp>
        <p:nvSpPr>
          <p:cNvPr id="224" name="PlaceHolder 2"/>
          <p:cNvSpPr>
            <a:spLocks noGrp="1"/>
          </p:cNvSpPr>
          <p:nvPr>
            <p:ph/>
          </p:nvPr>
        </p:nvSpPr>
        <p:spPr>
          <a:xfrm>
            <a:off x="1625400" y="1523520"/>
            <a:ext cx="8234280" cy="4714920"/>
          </a:xfrm>
          <a:prstGeom prst="rect">
            <a:avLst/>
          </a:prstGeom>
          <a:noFill/>
          <a:ln w="0">
            <a:noFill/>
          </a:ln>
        </p:spPr>
        <p:txBody>
          <a:bodyPr lIns="92160" rIns="92160" tIns="46080" bIns="46080" anchor="t">
            <a:normAutofit fontScale="96000"/>
          </a:bodyPr>
          <a:p>
            <a:pPr marL="329040" indent="-3290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Reconfiguração</a:t>
            </a:r>
            <a:endParaRPr b="1" lang="en-US" sz="3200" spc="-1" strike="noStrike">
              <a:solidFill>
                <a:srgbClr val="000000"/>
              </a:solidFill>
              <a:latin typeface="Arial"/>
            </a:endParaRPr>
          </a:p>
          <a:p>
            <a:pPr lvl="1" marL="713160" indent="-27432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Realizada durante a compilação ou execução</a:t>
            </a:r>
            <a:endParaRPr b="1" lang="en-US" sz="2800" spc="-1" strike="noStrike">
              <a:solidFill>
                <a:srgbClr val="000000"/>
              </a:solidFill>
              <a:latin typeface="Arial"/>
            </a:endParaRPr>
          </a:p>
          <a:p>
            <a:pPr lvl="1" marL="713160" indent="-27432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Tempo de reconfiguração</a:t>
            </a:r>
            <a:endParaRPr b="1" lang="en-US" sz="2800" spc="-1" strike="noStrike">
              <a:solidFill>
                <a:srgbClr val="000000"/>
              </a:solidFill>
              <a:latin typeface="Arial"/>
            </a:endParaRPr>
          </a:p>
          <a:p>
            <a:pPr lvl="1" marL="713160" indent="-274320">
              <a:spcBef>
                <a:spcPts val="499"/>
              </a:spcBef>
              <a:spcAft>
                <a:spcPts val="499"/>
              </a:spcAft>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Única ou múltiplas</a:t>
            </a:r>
            <a:endParaRPr b="1" lang="en-US" sz="2800" spc="-1" strike="noStrike">
              <a:solidFill>
                <a:srgbClr val="000000"/>
              </a:solidFill>
              <a:latin typeface="Arial"/>
            </a:endParaRPr>
          </a:p>
          <a:p>
            <a:pPr lvl="1" marL="713160" indent="-274320">
              <a:spcBef>
                <a:spcPts val="499"/>
              </a:spcBef>
              <a:spcAft>
                <a:spcPts val="499"/>
              </a:spcAft>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Estática x dinâmica</a:t>
            </a:r>
            <a:endParaRPr b="1" lang="en-US" sz="2800" spc="-1" strike="noStrike">
              <a:solidFill>
                <a:srgbClr val="000000"/>
              </a:solidFill>
              <a:latin typeface="Arial"/>
            </a:endParaRPr>
          </a:p>
          <a:p>
            <a:pPr lvl="1" marL="713160" indent="-274320">
              <a:spcBef>
                <a:spcPts val="499"/>
              </a:spcBef>
              <a:spcAft>
                <a:spcPts val="499"/>
              </a:spcAft>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Integral x parcial</a:t>
            </a:r>
            <a:endParaRPr b="1" lang="en-US" sz="2800" spc="-1" strike="noStrike">
              <a:solidFill>
                <a:srgbClr val="000000"/>
              </a:solidFill>
              <a:latin typeface="Arial"/>
            </a:endParaRPr>
          </a:p>
          <a:p>
            <a:pPr lvl="1" marL="713160" indent="-27432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Quantidade de configurações armazenadas simultaneamente no dispositivo </a:t>
            </a:r>
            <a:endParaRPr b="1" lang="en-US" sz="28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B357D4AA-7E77-40F4-86E4-EBE2B5D1DBB2}" type="slidenum">
              <a:t>24</a:t>
            </a:fld>
          </a:p>
        </p:txBody>
      </p:sp>
      <p:sp>
        <p:nvSpPr>
          <p:cNvPr id="6" name="PlaceHolder 5"/>
          <p:cNvSpPr>
            <a:spLocks noGrp="1"/>
          </p:cNvSpPr>
          <p:nvPr>
            <p:ph type="dt" idx="1"/>
          </p:nvPr>
        </p:nvSpPr>
        <p:spPr/>
        <p:txBody>
          <a:bodyPr/>
          <a:p>
            <a:fld id="{557620BC-0BF8-4DBE-9720-C310ABDA1E4C}"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 Arquiteturas </a:t>
            </a:r>
            <a:endParaRPr b="1" lang="en-US" sz="4400" spc="-1" strike="noStrike">
              <a:solidFill>
                <a:srgbClr val="3333cc"/>
              </a:solidFill>
              <a:latin typeface="Times New Roman"/>
            </a:endParaRPr>
          </a:p>
        </p:txBody>
      </p:sp>
      <p:sp>
        <p:nvSpPr>
          <p:cNvPr id="226" name="PlaceHolder 2"/>
          <p:cNvSpPr>
            <a:spLocks noGrp="1"/>
          </p:cNvSpPr>
          <p:nvPr>
            <p:ph/>
          </p:nvPr>
        </p:nvSpPr>
        <p:spPr>
          <a:xfrm>
            <a:off x="1625400" y="1523520"/>
            <a:ext cx="823428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Tipos de Paralelismo</a:t>
            </a:r>
            <a:endParaRPr b="1" lang="en-US" sz="32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ruction Level Parallelism</a:t>
            </a:r>
            <a:r>
              <a:rPr b="1" lang="pt-BR" sz="2800" spc="-1" strike="noStrike">
                <a:solidFill>
                  <a:srgbClr val="000000"/>
                </a:solidFill>
                <a:latin typeface="Arial"/>
              </a:rPr>
              <a:t> (ILP)</a:t>
            </a:r>
            <a:r>
              <a:rPr b="1" lang="pt-BR" sz="2800" spc="-1" strike="noStrike">
                <a:solidFill>
                  <a:srgbClr val="000000"/>
                </a:solidFill>
                <a:latin typeface="Arial"/>
              </a:rPr>
              <a:t>	</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Pipeline</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or Level Parallelism</a:t>
            </a:r>
            <a:r>
              <a:rPr b="1" lang="pt-BR" sz="2800" spc="-1" strike="noStrike">
                <a:solidFill>
                  <a:srgbClr val="000000"/>
                </a:solidFill>
                <a:latin typeface="Arial"/>
              </a:rPr>
              <a:t> (PLP)</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SIMD - Laços de repetição </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MIMD - Aplicações</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Bit </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6DB16CDE-6100-4A91-A4C9-D5319A7CC974}" type="slidenum">
              <a:t>25</a:t>
            </a:fld>
          </a:p>
        </p:txBody>
      </p:sp>
      <p:sp>
        <p:nvSpPr>
          <p:cNvPr id="6" name="PlaceHolder 5"/>
          <p:cNvSpPr>
            <a:spLocks noGrp="1"/>
          </p:cNvSpPr>
          <p:nvPr>
            <p:ph type="dt" idx="1"/>
          </p:nvPr>
        </p:nvSpPr>
        <p:spPr/>
        <p:txBody>
          <a:bodyPr/>
          <a:p>
            <a:fld id="{953D7353-D832-4847-8BFC-401A709092E0}"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 Arquiteturas </a:t>
            </a:r>
            <a:endParaRPr b="1" lang="en-US" sz="4400" spc="-1" strike="noStrike">
              <a:solidFill>
                <a:srgbClr val="3333cc"/>
              </a:solidFill>
              <a:latin typeface="Times New Roman"/>
            </a:endParaRPr>
          </a:p>
        </p:txBody>
      </p:sp>
      <p:sp>
        <p:nvSpPr>
          <p:cNvPr id="228" name="PlaceHolder 2"/>
          <p:cNvSpPr>
            <a:spLocks noGrp="1"/>
          </p:cNvSpPr>
          <p:nvPr>
            <p:ph/>
          </p:nvPr>
        </p:nvSpPr>
        <p:spPr>
          <a:xfrm>
            <a:off x="1625400" y="1523520"/>
            <a:ext cx="823428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Paralelismo em arquiteturas tradicionais e reconfiguráveis</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MPP normalmente usa apenas um nível de paralelismo</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Paralelismo encontrado em tempo de compilação ou execução </a:t>
            </a: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480E60E9-F221-4157-94A6-F123E5B84F62}" type="slidenum">
              <a:t>26</a:t>
            </a:fld>
          </a:p>
        </p:txBody>
      </p:sp>
      <p:sp>
        <p:nvSpPr>
          <p:cNvPr id="6" name="PlaceHolder 5"/>
          <p:cNvSpPr>
            <a:spLocks noGrp="1"/>
          </p:cNvSpPr>
          <p:nvPr>
            <p:ph type="dt" idx="1"/>
          </p:nvPr>
        </p:nvSpPr>
        <p:spPr/>
        <p:txBody>
          <a:bodyPr/>
          <a:p>
            <a:fld id="{7A99DFAF-98E2-45E2-990A-87FB84239998}"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 Arquiteturas </a:t>
            </a:r>
            <a:endParaRPr b="1" lang="en-US" sz="4400" spc="-1" strike="noStrike">
              <a:solidFill>
                <a:srgbClr val="3333cc"/>
              </a:solidFill>
              <a:latin typeface="Times New Roman"/>
            </a:endParaRPr>
          </a:p>
        </p:txBody>
      </p:sp>
      <p:sp>
        <p:nvSpPr>
          <p:cNvPr id="230" name="PlaceHolder 2"/>
          <p:cNvSpPr>
            <a:spLocks noGrp="1"/>
          </p:cNvSpPr>
          <p:nvPr>
            <p:ph/>
          </p:nvPr>
        </p:nvSpPr>
        <p:spPr>
          <a:xfrm>
            <a:off x="1625400" y="1523520"/>
            <a:ext cx="823428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Tipos de sistemas reconfiguráveis </a:t>
            </a:r>
            <a:endParaRPr b="1" lang="en-US" sz="3200" spc="-1" strike="noStrike">
              <a:solidFill>
                <a:srgbClr val="000000"/>
              </a:solidFill>
              <a:latin typeface="Arial"/>
            </a:endParaRPr>
          </a:p>
          <a:p>
            <a:pPr lvl="1" marL="743040" indent="-285840">
              <a:spcBef>
                <a:spcPts val="499"/>
              </a:spcBef>
              <a:spcAft>
                <a:spcPts val="499"/>
              </a:spcAft>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processadores reconfiguráveis</a:t>
            </a:r>
            <a:endParaRPr b="1" lang="en-US" sz="2800" spc="-1" strike="noStrike">
              <a:solidFill>
                <a:srgbClr val="000000"/>
              </a:solidFill>
              <a:latin typeface="Arial"/>
            </a:endParaRPr>
          </a:p>
          <a:p>
            <a:pPr lvl="1" marL="743040" indent="-285840">
              <a:spcBef>
                <a:spcPts val="499"/>
              </a:spcBef>
              <a:spcAft>
                <a:spcPts val="499"/>
              </a:spcAft>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coprocessadores reconfiguráveis </a:t>
            </a:r>
            <a:endParaRPr b="1" lang="en-US" sz="2800" spc="-1" strike="noStrike">
              <a:solidFill>
                <a:srgbClr val="000000"/>
              </a:solidFill>
              <a:latin typeface="Arial"/>
            </a:endParaRPr>
          </a:p>
          <a:p>
            <a:pPr lvl="1" marL="743040" indent="-285840">
              <a:spcBef>
                <a:spcPts val="499"/>
              </a:spcBef>
              <a:spcAft>
                <a:spcPts val="499"/>
              </a:spcAft>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computadores reconfiguráveis</a:t>
            </a:r>
            <a:endParaRPr b="1" lang="en-US" sz="2800" spc="-1" strike="noStrike">
              <a:solidFill>
                <a:srgbClr val="000000"/>
              </a:solidFill>
              <a:latin typeface="Arial"/>
            </a:endParaRPr>
          </a:p>
          <a:p>
            <a:pPr lvl="1" marL="743040" indent="-285840">
              <a:spcBef>
                <a:spcPts val="499"/>
              </a:spcBef>
              <a:spcAft>
                <a:spcPts val="499"/>
              </a:spcAft>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sistemas embutidos reconfiguráveis</a:t>
            </a:r>
            <a:endParaRPr b="1" lang="en-US" sz="2800" spc="-1" strike="noStrike">
              <a:solidFill>
                <a:srgbClr val="000000"/>
              </a:solidFill>
              <a:latin typeface="Arial"/>
            </a:endParaRPr>
          </a:p>
          <a:p>
            <a:pPr lvl="1" marL="743040" indent="-285840">
              <a:spcBef>
                <a:spcPts val="499"/>
              </a:spcBef>
              <a:spcAft>
                <a:spcPts val="499"/>
              </a:spcAft>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sistemas híbridos</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17835D47-EF87-4176-B3EE-2FF2B70153AE}" type="slidenum">
              <a:t>27</a:t>
            </a:fld>
          </a:p>
        </p:txBody>
      </p:sp>
      <p:sp>
        <p:nvSpPr>
          <p:cNvPr id="6" name="PlaceHolder 5"/>
          <p:cNvSpPr>
            <a:spLocks noGrp="1"/>
          </p:cNvSpPr>
          <p:nvPr>
            <p:ph type="dt" idx="1"/>
          </p:nvPr>
        </p:nvSpPr>
        <p:spPr/>
        <p:txBody>
          <a:bodyPr/>
          <a:p>
            <a:fld id="{91E87D48-5AB7-4A90-BCBE-475994271A61}"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 Arquiteturas </a:t>
            </a:r>
            <a:endParaRPr b="1" lang="en-US" sz="4400" spc="-1" strike="noStrike">
              <a:solidFill>
                <a:srgbClr val="3333cc"/>
              </a:solidFill>
              <a:latin typeface="Times New Roman"/>
            </a:endParaRPr>
          </a:p>
        </p:txBody>
      </p:sp>
      <p:sp>
        <p:nvSpPr>
          <p:cNvPr id="232" name="PlaceHolder 2"/>
          <p:cNvSpPr>
            <a:spLocks noGrp="1"/>
          </p:cNvSpPr>
          <p:nvPr>
            <p:ph/>
          </p:nvPr>
        </p:nvSpPr>
        <p:spPr>
          <a:xfrm>
            <a:off x="1625400" y="1523520"/>
            <a:ext cx="823428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Análise de possíveis problemas </a:t>
            </a:r>
            <a:endParaRPr b="1" lang="en-US" sz="32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Desempenho</a:t>
            </a: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Programação</a:t>
            </a: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Flexibilidade</a:t>
            </a: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Adequação da arquitetura </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FD525463-CCEC-4CFF-B58A-16B8B2B451CA}" type="slidenum">
              <a:t>28</a:t>
            </a:fld>
          </a:p>
        </p:txBody>
      </p:sp>
      <p:sp>
        <p:nvSpPr>
          <p:cNvPr id="6" name="PlaceHolder 5"/>
          <p:cNvSpPr>
            <a:spLocks noGrp="1"/>
          </p:cNvSpPr>
          <p:nvPr>
            <p:ph type="dt" idx="1"/>
          </p:nvPr>
        </p:nvSpPr>
        <p:spPr/>
        <p:txBody>
          <a:bodyPr/>
          <a:p>
            <a:fld id="{8755300C-6A4D-4287-8659-A68038106829}"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 Arquiteturas </a:t>
            </a:r>
            <a:endParaRPr b="1" lang="en-US" sz="4400" spc="-1" strike="noStrike">
              <a:solidFill>
                <a:srgbClr val="3333cc"/>
              </a:solidFill>
              <a:latin typeface="Times New Roman"/>
            </a:endParaRPr>
          </a:p>
        </p:txBody>
      </p:sp>
      <p:sp>
        <p:nvSpPr>
          <p:cNvPr id="234" name="PlaceHolder 2"/>
          <p:cNvSpPr>
            <a:spLocks noGrp="1"/>
          </p:cNvSpPr>
          <p:nvPr>
            <p:ph/>
          </p:nvPr>
        </p:nvSpPr>
        <p:spPr>
          <a:xfrm>
            <a:off x="1625400" y="1523520"/>
            <a:ext cx="823428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Dispositivos reconfiguráveis</a:t>
            </a:r>
            <a:endParaRPr b="1" lang="en-US" sz="32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FPGA não são os dispositivos ideais</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Orientados para lógica de cola (glue)</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Usados em emulação lógica</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Configurados usando projeto de hardware</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Tempo de configuração é longo</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Surgimento de novos tipos de dispositivos </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FD46673A-39A7-4C7A-939A-FBDFE8CA45A2}" type="slidenum">
              <a:t>29</a:t>
            </a:fld>
          </a:p>
        </p:txBody>
      </p:sp>
      <p:sp>
        <p:nvSpPr>
          <p:cNvPr id="6" name="PlaceHolder 5"/>
          <p:cNvSpPr>
            <a:spLocks noGrp="1"/>
          </p:cNvSpPr>
          <p:nvPr>
            <p:ph type="dt" idx="1"/>
          </p:nvPr>
        </p:nvSpPr>
        <p:spPr/>
        <p:txBody>
          <a:bodyPr/>
          <a:p>
            <a:fld id="{B8EB5016-920E-4011-8C62-DF5A77AE7C46}"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 Introdução</a:t>
            </a:r>
            <a:endParaRPr b="1" lang="en-US" sz="4400" spc="-1" strike="noStrike">
              <a:solidFill>
                <a:srgbClr val="3333cc"/>
              </a:solidFill>
              <a:latin typeface="Times New Roman"/>
            </a:endParaRPr>
          </a:p>
        </p:txBody>
      </p:sp>
      <p:sp>
        <p:nvSpPr>
          <p:cNvPr id="182" name="PlaceHolder 2"/>
          <p:cNvSpPr>
            <a:spLocks noGrp="1"/>
          </p:cNvSpPr>
          <p:nvPr>
            <p:ph/>
          </p:nvPr>
        </p:nvSpPr>
        <p:spPr>
          <a:xfrm>
            <a:off x="1625400" y="1523520"/>
            <a:ext cx="823428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O que é computação?</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Quais são os modelos de computação?</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O que caracteriza a computação?</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O que é um computador? </a:t>
            </a: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3C893415-B829-4A51-B76C-813174BD7967}" type="slidenum">
              <a:t>3</a:t>
            </a:fld>
          </a:p>
        </p:txBody>
      </p:sp>
      <p:sp>
        <p:nvSpPr>
          <p:cNvPr id="6" name="PlaceHolder 5"/>
          <p:cNvSpPr>
            <a:spLocks noGrp="1"/>
          </p:cNvSpPr>
          <p:nvPr>
            <p:ph type="dt" idx="1"/>
          </p:nvPr>
        </p:nvSpPr>
        <p:spPr/>
        <p:txBody>
          <a:bodyPr/>
          <a:p>
            <a:fld id="{57AFF3AF-E2E5-460F-9357-B87AFB7BEC50}"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 Arquiteturas </a:t>
            </a:r>
            <a:endParaRPr b="1" lang="en-US" sz="4400" spc="-1" strike="noStrike">
              <a:solidFill>
                <a:srgbClr val="3333cc"/>
              </a:solidFill>
              <a:latin typeface="Times New Roman"/>
            </a:endParaRPr>
          </a:p>
        </p:txBody>
      </p:sp>
      <p:sp>
        <p:nvSpPr>
          <p:cNvPr id="236" name="PlaceHolder 2"/>
          <p:cNvSpPr>
            <a:spLocks noGrp="1"/>
          </p:cNvSpPr>
          <p:nvPr>
            <p:ph/>
          </p:nvPr>
        </p:nvSpPr>
        <p:spPr>
          <a:xfrm>
            <a:off x="1625400" y="1523520"/>
            <a:ext cx="823428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Arquiteturas acadêmicas</a:t>
            </a:r>
            <a:endParaRPr b="1" lang="en-US" sz="32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Garp (UC Berkeley)</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Mojave (UCLA)</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PipeRench (Carnegie Mellon University)</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Splash 2</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SLAAC (ISI, BYU, UCLA, Sandia)</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Riley-2 (Imperial College, HP)</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SAT (ETH Zurich)</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Sonic (Imperial College, Sony Broadcast)</a:t>
            </a:r>
            <a:endParaRPr b="1"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506B0D25-C587-4BFD-8365-FD5123BBC07C}" type="slidenum">
              <a:t>30</a:t>
            </a:fld>
          </a:p>
        </p:txBody>
      </p:sp>
      <p:sp>
        <p:nvSpPr>
          <p:cNvPr id="6" name="PlaceHolder 5"/>
          <p:cNvSpPr>
            <a:spLocks noGrp="1"/>
          </p:cNvSpPr>
          <p:nvPr>
            <p:ph type="dt" idx="1"/>
          </p:nvPr>
        </p:nvSpPr>
        <p:spPr/>
        <p:txBody>
          <a:bodyPr/>
          <a:p>
            <a:fld id="{B077B5C7-5013-4E18-8867-0E71A96C552E}"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 Arquiteturas </a:t>
            </a:r>
            <a:endParaRPr b="1" lang="en-US" sz="4400" spc="-1" strike="noStrike">
              <a:solidFill>
                <a:srgbClr val="3333cc"/>
              </a:solidFill>
              <a:latin typeface="Times New Roman"/>
            </a:endParaRPr>
          </a:p>
        </p:txBody>
      </p:sp>
      <p:sp>
        <p:nvSpPr>
          <p:cNvPr id="238" name="PlaceHolder 2"/>
          <p:cNvSpPr>
            <a:spLocks noGrp="1"/>
          </p:cNvSpPr>
          <p:nvPr>
            <p:ph/>
          </p:nvPr>
        </p:nvSpPr>
        <p:spPr>
          <a:xfrm>
            <a:off x="1625400" y="1523520"/>
            <a:ext cx="823428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Arquiteturas comerciais </a:t>
            </a:r>
            <a:endParaRPr b="1" lang="en-US" sz="32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DECPerLe1 (DEC Paris)</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CHAMP (Lookheed Sanders)</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Wildfire (Annapolis Micro Systems)</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Quickturn</a:t>
            </a: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80DFB86D-51C9-4CE0-AEF2-AB2FD0EB7952}" type="slidenum">
              <a:t>31</a:t>
            </a:fld>
          </a:p>
        </p:txBody>
      </p:sp>
      <p:sp>
        <p:nvSpPr>
          <p:cNvPr id="6" name="PlaceHolder 5"/>
          <p:cNvSpPr>
            <a:spLocks noGrp="1"/>
          </p:cNvSpPr>
          <p:nvPr>
            <p:ph type="dt" idx="1"/>
          </p:nvPr>
        </p:nvSpPr>
        <p:spPr/>
        <p:txBody>
          <a:bodyPr/>
          <a:p>
            <a:fld id="{18997161-192D-4BFF-9D67-4EBE539CE74A}"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 Projetos</a:t>
            </a:r>
            <a:endParaRPr b="1" lang="en-US" sz="4400" spc="-1" strike="noStrike">
              <a:solidFill>
                <a:srgbClr val="3333cc"/>
              </a:solidFill>
              <a:latin typeface="Times New Roman"/>
            </a:endParaRPr>
          </a:p>
        </p:txBody>
      </p:sp>
      <p:sp>
        <p:nvSpPr>
          <p:cNvPr id="240" name="PlaceHolder 2"/>
          <p:cNvSpPr>
            <a:spLocks noGrp="1"/>
          </p:cNvSpPr>
          <p:nvPr>
            <p:ph/>
          </p:nvPr>
        </p:nvSpPr>
        <p:spPr>
          <a:xfrm>
            <a:off x="1625400" y="1523520"/>
            <a:ext cx="823428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Projetos de pesquisa acadêmicos</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Projetos de pesquisa comerciais</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Aplicações possíveis</a:t>
            </a: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BF65F54C-9E5D-40A0-9588-8E38B87C67FB}" type="slidenum">
              <a:t>32</a:t>
            </a:fld>
          </a:p>
        </p:txBody>
      </p:sp>
      <p:sp>
        <p:nvSpPr>
          <p:cNvPr id="6" name="PlaceHolder 5"/>
          <p:cNvSpPr>
            <a:spLocks noGrp="1"/>
          </p:cNvSpPr>
          <p:nvPr>
            <p:ph type="dt" idx="1"/>
          </p:nvPr>
        </p:nvSpPr>
        <p:spPr/>
        <p:txBody>
          <a:bodyPr/>
          <a:p>
            <a:fld id="{1EE81B79-AE64-44C9-9AEA-63EDE5611EB9}"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 Conclusões</a:t>
            </a:r>
            <a:endParaRPr b="1" lang="en-US" sz="4400" spc="-1" strike="noStrike">
              <a:solidFill>
                <a:srgbClr val="3333cc"/>
              </a:solidFill>
              <a:latin typeface="Times New Roman"/>
            </a:endParaRPr>
          </a:p>
        </p:txBody>
      </p:sp>
      <p:sp>
        <p:nvSpPr>
          <p:cNvPr id="242" name="PlaceHolder 2"/>
          <p:cNvSpPr>
            <a:spLocks noGrp="1"/>
          </p:cNvSpPr>
          <p:nvPr>
            <p:ph/>
          </p:nvPr>
        </p:nvSpPr>
        <p:spPr>
          <a:xfrm>
            <a:off x="1625400" y="1523520"/>
            <a:ext cx="8234280" cy="4714920"/>
          </a:xfrm>
          <a:prstGeom prst="rect">
            <a:avLst/>
          </a:prstGeom>
          <a:noFill/>
          <a:ln w="0">
            <a:noFill/>
          </a:ln>
        </p:spPr>
        <p:txBody>
          <a:bodyPr lIns="92160" rIns="92160" tIns="46080" bIns="46080" anchor="t">
            <a:normAutofit fontScale="98000"/>
          </a:bodyPr>
          <a:p>
            <a:pPr marL="335880" indent="-3358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Evolução da computação reconfigurável</a:t>
            </a:r>
            <a:endParaRPr b="1" lang="en-US" sz="3200" spc="-1" strike="noStrike">
              <a:solidFill>
                <a:srgbClr val="000000"/>
              </a:solidFill>
              <a:latin typeface="Arial"/>
            </a:endParaRPr>
          </a:p>
          <a:p>
            <a:pPr marL="335880" indent="-3358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Situação no Brasil</a:t>
            </a:r>
            <a:endParaRPr b="1" lang="en-US" sz="3200" spc="-1" strike="noStrike">
              <a:solidFill>
                <a:srgbClr val="000000"/>
              </a:solidFill>
              <a:latin typeface="Arial"/>
            </a:endParaRPr>
          </a:p>
          <a:p>
            <a:pPr marL="335880" indent="-3358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Mercado para computação reconfigurável</a:t>
            </a:r>
            <a:endParaRPr b="1" lang="en-US" sz="3200" spc="-1" strike="noStrike">
              <a:solidFill>
                <a:srgbClr val="000000"/>
              </a:solidFill>
              <a:latin typeface="Arial"/>
            </a:endParaRPr>
          </a:p>
          <a:p>
            <a:pPr lvl="1" marL="727920" indent="-2800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Computação de propósito geral</a:t>
            </a:r>
            <a:endParaRPr b="1" lang="en-US" sz="2800" spc="-1" strike="noStrike">
              <a:solidFill>
                <a:srgbClr val="000000"/>
              </a:solidFill>
              <a:latin typeface="Arial"/>
            </a:endParaRPr>
          </a:p>
          <a:p>
            <a:pPr lvl="1" marL="727920" indent="-2800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Computação de propósito dedicado</a:t>
            </a:r>
            <a:endParaRPr b="1" lang="en-US" sz="2800" spc="-1" strike="noStrike">
              <a:solidFill>
                <a:srgbClr val="000000"/>
              </a:solidFill>
              <a:latin typeface="Arial"/>
            </a:endParaRPr>
          </a:p>
          <a:p>
            <a:pPr lvl="1" marL="727920" indent="-2800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Computação embutida (mercado maior)</a:t>
            </a:r>
            <a:endParaRPr b="1" lang="en-US" sz="2800" spc="-1" strike="noStrike">
              <a:solidFill>
                <a:srgbClr val="000000"/>
              </a:solidFill>
              <a:latin typeface="Arial"/>
            </a:endParaRPr>
          </a:p>
          <a:p>
            <a:pPr lvl="1" marL="727920" indent="-2800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Demanda de área, desempenho e potência </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E3BB65A1-127A-4BB0-87D6-02539FA2CD3A}" type="slidenum">
              <a:t>33</a:t>
            </a:fld>
          </a:p>
        </p:txBody>
      </p:sp>
      <p:sp>
        <p:nvSpPr>
          <p:cNvPr id="6" name="PlaceHolder 5"/>
          <p:cNvSpPr>
            <a:spLocks noGrp="1"/>
          </p:cNvSpPr>
          <p:nvPr>
            <p:ph type="dt" idx="1"/>
          </p:nvPr>
        </p:nvSpPr>
        <p:spPr/>
        <p:txBody>
          <a:bodyPr/>
          <a:p>
            <a:fld id="{F1C384FE-CEBF-4A0D-94AD-7E73BAE35037}"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 Conclusões</a:t>
            </a:r>
            <a:endParaRPr b="1" lang="en-US" sz="4400" spc="-1" strike="noStrike">
              <a:solidFill>
                <a:srgbClr val="3333cc"/>
              </a:solidFill>
              <a:latin typeface="Times New Roman"/>
            </a:endParaRPr>
          </a:p>
        </p:txBody>
      </p:sp>
      <p:sp>
        <p:nvSpPr>
          <p:cNvPr id="244" name="PlaceHolder 2"/>
          <p:cNvSpPr>
            <a:spLocks noGrp="1"/>
          </p:cNvSpPr>
          <p:nvPr>
            <p:ph/>
          </p:nvPr>
        </p:nvSpPr>
        <p:spPr>
          <a:xfrm>
            <a:off x="1625400" y="1523520"/>
            <a:ext cx="823428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Vantagens (benefícios)</a:t>
            </a:r>
            <a:endParaRPr b="1" lang="en-US" sz="32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Comparação entre GPP, ASIC, CR</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Aumento da densidade de computação</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Melhor casamento com tamanho da palavra de dados</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Maior possibilidade de paralelismo (bit, ILP, pipeline e tarefas)</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Aumento de tolerância à falhas</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D0DE3ECD-012E-432A-B313-AE0AB1968741}" type="slidenum">
              <a:t>34</a:t>
            </a:fld>
          </a:p>
        </p:txBody>
      </p:sp>
      <p:sp>
        <p:nvSpPr>
          <p:cNvPr id="6" name="PlaceHolder 5"/>
          <p:cNvSpPr>
            <a:spLocks noGrp="1"/>
          </p:cNvSpPr>
          <p:nvPr>
            <p:ph type="dt" idx="1"/>
          </p:nvPr>
        </p:nvSpPr>
        <p:spPr/>
        <p:txBody>
          <a:bodyPr/>
          <a:p>
            <a:fld id="{3999F343-2F3E-42F4-A9D3-34572797A9B8}"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 Conclusões</a:t>
            </a:r>
            <a:endParaRPr b="1" lang="en-US" sz="4400" spc="-1" strike="noStrike">
              <a:solidFill>
                <a:srgbClr val="3333cc"/>
              </a:solidFill>
              <a:latin typeface="Times New Roman"/>
            </a:endParaRPr>
          </a:p>
        </p:txBody>
      </p:sp>
      <p:sp>
        <p:nvSpPr>
          <p:cNvPr id="246" name="PlaceHolder 2"/>
          <p:cNvSpPr>
            <a:spLocks noGrp="1"/>
          </p:cNvSpPr>
          <p:nvPr>
            <p:ph/>
          </p:nvPr>
        </p:nvSpPr>
        <p:spPr>
          <a:xfrm>
            <a:off x="1625400" y="1523520"/>
            <a:ext cx="823428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Desvantagens</a:t>
            </a:r>
            <a:endParaRPr b="1" lang="en-US" sz="32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Existe alguma ?</a:t>
            </a: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Teóricas ou práticas</a:t>
            </a: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4BF83555-1095-4CBD-B9C2-DDDB3BABBDA0}" type="slidenum">
              <a:t>35</a:t>
            </a:fld>
          </a:p>
        </p:txBody>
      </p:sp>
      <p:sp>
        <p:nvSpPr>
          <p:cNvPr id="6" name="PlaceHolder 5"/>
          <p:cNvSpPr>
            <a:spLocks noGrp="1"/>
          </p:cNvSpPr>
          <p:nvPr>
            <p:ph type="dt" idx="1"/>
          </p:nvPr>
        </p:nvSpPr>
        <p:spPr/>
        <p:txBody>
          <a:bodyPr/>
          <a:p>
            <a:fld id="{0FB138B4-5863-4CF2-AD15-2839F78EBDD9}"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 Conclusões</a:t>
            </a:r>
            <a:endParaRPr b="1" lang="en-US" sz="4400" spc="-1" strike="noStrike">
              <a:solidFill>
                <a:srgbClr val="3333cc"/>
              </a:solidFill>
              <a:latin typeface="Times New Roman"/>
            </a:endParaRPr>
          </a:p>
        </p:txBody>
      </p:sp>
      <p:sp>
        <p:nvSpPr>
          <p:cNvPr id="248" name="PlaceHolder 2"/>
          <p:cNvSpPr>
            <a:spLocks noGrp="1"/>
          </p:cNvSpPr>
          <p:nvPr>
            <p:ph/>
          </p:nvPr>
        </p:nvSpPr>
        <p:spPr>
          <a:xfrm>
            <a:off x="1625400" y="1523520"/>
            <a:ext cx="823428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Problemas (Possíveis)</a:t>
            </a:r>
            <a:endParaRPr b="1" lang="en-US" sz="32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Adequação da arquitetura dos dispositivos</a:t>
            </a: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Custo de projeto e implementação</a:t>
            </a: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Desempenho</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Flexibilidade</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Programação</a:t>
            </a:r>
            <a:endParaRPr b="1"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D3771FA6-16DB-4F06-9865-32DC72B54527}" type="slidenum">
              <a:t>36</a:t>
            </a:fld>
          </a:p>
        </p:txBody>
      </p:sp>
      <p:sp>
        <p:nvSpPr>
          <p:cNvPr id="6" name="PlaceHolder 5"/>
          <p:cNvSpPr>
            <a:spLocks noGrp="1"/>
          </p:cNvSpPr>
          <p:nvPr>
            <p:ph type="dt" idx="1"/>
          </p:nvPr>
        </p:nvSpPr>
        <p:spPr/>
        <p:txBody>
          <a:bodyPr/>
          <a:p>
            <a:fld id="{DB8AEED7-6F04-40F4-B4D2-C8BCB59D0AE3}"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 Conclusões</a:t>
            </a:r>
            <a:endParaRPr b="1" lang="en-US" sz="4400" spc="-1" strike="noStrike">
              <a:solidFill>
                <a:srgbClr val="3333cc"/>
              </a:solidFill>
              <a:latin typeface="Times New Roman"/>
            </a:endParaRPr>
          </a:p>
        </p:txBody>
      </p:sp>
      <p:sp>
        <p:nvSpPr>
          <p:cNvPr id="250" name="PlaceHolder 2"/>
          <p:cNvSpPr>
            <a:spLocks noGrp="1"/>
          </p:cNvSpPr>
          <p:nvPr>
            <p:ph/>
          </p:nvPr>
        </p:nvSpPr>
        <p:spPr>
          <a:xfrm>
            <a:off x="1625400" y="1523520"/>
            <a:ext cx="823428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Desafios</a:t>
            </a:r>
            <a:endParaRPr b="1" lang="en-US" sz="32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Desenvolver melhores métodos de projeto</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Desenvolver melhores ferramentas</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Otimizar a produtividade nos projetos </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Desenvolver melhores arquiteturas</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Desenvolver melhores dispositivos</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Otimizar operações de ponto flutuante</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Ensino de computação reconfigurável</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7C69F0BA-2234-45C3-947F-F8DF9AA4CB9F}" type="slidenum">
              <a:t>37</a:t>
            </a:fld>
          </a:p>
        </p:txBody>
      </p:sp>
      <p:sp>
        <p:nvSpPr>
          <p:cNvPr id="6" name="PlaceHolder 5"/>
          <p:cNvSpPr>
            <a:spLocks noGrp="1"/>
          </p:cNvSpPr>
          <p:nvPr>
            <p:ph type="dt" idx="1"/>
          </p:nvPr>
        </p:nvSpPr>
        <p:spPr/>
        <p:txBody>
          <a:bodyPr/>
          <a:p>
            <a:fld id="{94A48E49-2722-4E3A-BC1A-CB08742D4E28}"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 Conclusões</a:t>
            </a:r>
            <a:endParaRPr b="1" lang="en-US" sz="4400" spc="-1" strike="noStrike">
              <a:solidFill>
                <a:srgbClr val="3333cc"/>
              </a:solidFill>
              <a:latin typeface="Times New Roman"/>
            </a:endParaRPr>
          </a:p>
        </p:txBody>
      </p:sp>
      <p:sp>
        <p:nvSpPr>
          <p:cNvPr id="252" name="PlaceHolder 2"/>
          <p:cNvSpPr>
            <a:spLocks noGrp="1"/>
          </p:cNvSpPr>
          <p:nvPr>
            <p:ph/>
          </p:nvPr>
        </p:nvSpPr>
        <p:spPr>
          <a:xfrm>
            <a:off x="1625760" y="1523880"/>
            <a:ext cx="7518240" cy="4114800"/>
          </a:xfrm>
          <a:prstGeom prst="rect">
            <a:avLst/>
          </a:prstGeom>
          <a:noFill/>
          <a:ln w="0">
            <a:noFill/>
          </a:ln>
        </p:spPr>
        <p:txBody>
          <a:bodyPr lIns="92160" rIns="92160" tIns="46080" bIns="46080" anchor="t">
            <a:normAutofit/>
          </a:bodyPr>
          <a:p>
            <a:pPr marL="343080" indent="-3430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Tendências futuras</a:t>
            </a:r>
            <a:endParaRPr b="1" lang="en-US" sz="2400" spc="-1" strike="noStrike">
              <a:solidFill>
                <a:srgbClr val="0000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Dispositivos reconfiguração dinâmica parcial</a:t>
            </a:r>
            <a:endParaRPr b="1" lang="en-US" sz="2400" spc="-1" strike="noStrike">
              <a:solidFill>
                <a:srgbClr val="0000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Dispositivos com cache de configurações</a:t>
            </a:r>
            <a:endParaRPr b="1" lang="en-US" sz="2400" spc="-1" strike="noStrike">
              <a:solidFill>
                <a:srgbClr val="0000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rquiteturas híbridas</a:t>
            </a:r>
            <a:endParaRPr b="1" lang="en-US" sz="2400" spc="-1" strike="noStrike">
              <a:solidFill>
                <a:srgbClr val="0000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rquiteturas adaptativas, evolutivas</a:t>
            </a:r>
            <a:endParaRPr b="1" lang="en-US" sz="2400" spc="-1" strike="noStrike">
              <a:solidFill>
                <a:srgbClr val="0000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plicações propósito geral e dedicadas</a:t>
            </a:r>
            <a:endParaRPr b="1" lang="en-US" sz="2400" spc="-1" strike="noStrike">
              <a:solidFill>
                <a:srgbClr val="0000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Métodos e técnicas para desenvolvimento</a:t>
            </a:r>
            <a:endParaRPr b="1" lang="en-US" sz="2400" spc="-1" strike="noStrike">
              <a:solidFill>
                <a:srgbClr val="0000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erramentas de desenvolvimento </a:t>
            </a:r>
            <a:endParaRPr b="1" lang="en-US" sz="2400" spc="-1" strike="noStrike">
              <a:solidFill>
                <a:srgbClr val="000000"/>
              </a:solidFill>
              <a:latin typeface="Arial"/>
            </a:endParaRPr>
          </a:p>
          <a:p>
            <a:pPr marL="343080" indent="-3430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ontexto Internacional e Brasileiro</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E3D988DD-8464-4AE5-9233-43A8DD343E60}" type="slidenum">
              <a:t>38</a:t>
            </a:fld>
          </a:p>
        </p:txBody>
      </p:sp>
      <p:sp>
        <p:nvSpPr>
          <p:cNvPr id="6" name="PlaceHolder 5"/>
          <p:cNvSpPr>
            <a:spLocks noGrp="1"/>
          </p:cNvSpPr>
          <p:nvPr>
            <p:ph type="dt" idx="1"/>
          </p:nvPr>
        </p:nvSpPr>
        <p:spPr/>
        <p:txBody>
          <a:bodyPr/>
          <a:p>
            <a:fld id="{33843F28-9EA4-4E46-B433-E853391F11DC}"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 Conclusões</a:t>
            </a:r>
            <a:endParaRPr b="1" lang="en-US" sz="4400" spc="-1" strike="noStrike">
              <a:solidFill>
                <a:srgbClr val="3333cc"/>
              </a:solidFill>
              <a:latin typeface="Times New Roman"/>
            </a:endParaRPr>
          </a:p>
        </p:txBody>
      </p:sp>
      <p:sp>
        <p:nvSpPr>
          <p:cNvPr id="254" name="PlaceHolder 2"/>
          <p:cNvSpPr>
            <a:spLocks noGrp="1"/>
          </p:cNvSpPr>
          <p:nvPr>
            <p:ph/>
          </p:nvPr>
        </p:nvSpPr>
        <p:spPr>
          <a:xfrm>
            <a:off x="1625400" y="1523520"/>
            <a:ext cx="823428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Perspectivas futuras</a:t>
            </a:r>
            <a:endParaRPr b="1" lang="en-US" sz="32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Acadêmicas, pesquisa e desenvolvimento</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Comerciais, parcerias e produção </a:t>
            </a:r>
            <a:endParaRPr b="1"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Contexto Brasileiro</a:t>
            </a:r>
            <a:endParaRPr b="1" lang="en-US" sz="3200" spc="-1" strike="noStrike">
              <a:solidFill>
                <a:srgbClr val="0000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Contexto Internacional</a:t>
            </a: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25D135DC-126C-420A-9A43-1CC77E63A1B0}" type="slidenum">
              <a:t>39</a:t>
            </a:fld>
          </a:p>
        </p:txBody>
      </p:sp>
      <p:sp>
        <p:nvSpPr>
          <p:cNvPr id="6" name="PlaceHolder 5"/>
          <p:cNvSpPr>
            <a:spLocks noGrp="1"/>
          </p:cNvSpPr>
          <p:nvPr>
            <p:ph type="dt" idx="1"/>
          </p:nvPr>
        </p:nvSpPr>
        <p:spPr/>
        <p:txBody>
          <a:bodyPr/>
          <a:p>
            <a:fld id="{FCCA597B-D6ED-48E6-B39C-0300235C739C}"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 Introdução</a:t>
            </a:r>
            <a:endParaRPr b="1" lang="en-US" sz="4400" spc="-1" strike="noStrike">
              <a:solidFill>
                <a:srgbClr val="3333cc"/>
              </a:solidFill>
              <a:latin typeface="Times New Roman"/>
            </a:endParaRPr>
          </a:p>
        </p:txBody>
      </p:sp>
      <p:sp>
        <p:nvSpPr>
          <p:cNvPr id="184" name="PlaceHolder 2"/>
          <p:cNvSpPr>
            <a:spLocks noGrp="1"/>
          </p:cNvSpPr>
          <p:nvPr>
            <p:ph/>
          </p:nvPr>
        </p:nvSpPr>
        <p:spPr>
          <a:xfrm>
            <a:off x="1625400" y="1523520"/>
            <a:ext cx="823428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Quais as partes de um computador?</a:t>
            </a:r>
            <a:endParaRPr b="1" lang="en-US" sz="32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Hardware </a:t>
            </a: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Software</a:t>
            </a: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Aspectos de Arquitetura e Tecnologia</a:t>
            </a: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3AE56D05-B73D-4FFE-913F-54EB1797F5E6}" type="slidenum">
              <a:t>4</a:t>
            </a:fld>
          </a:p>
        </p:txBody>
      </p:sp>
      <p:sp>
        <p:nvSpPr>
          <p:cNvPr id="6" name="PlaceHolder 5"/>
          <p:cNvSpPr>
            <a:spLocks noGrp="1"/>
          </p:cNvSpPr>
          <p:nvPr>
            <p:ph type="dt" idx="1"/>
          </p:nvPr>
        </p:nvSpPr>
        <p:spPr/>
        <p:txBody>
          <a:bodyPr/>
          <a:p>
            <a:fld id="{4687D976-93BF-40FF-833D-56C2F8248C4E}"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 Conclusões</a:t>
            </a:r>
            <a:endParaRPr b="1" lang="en-US" sz="4400" spc="-1" strike="noStrike">
              <a:solidFill>
                <a:srgbClr val="3333cc"/>
              </a:solidFill>
              <a:latin typeface="Times New Roman"/>
            </a:endParaRPr>
          </a:p>
        </p:txBody>
      </p:sp>
      <p:sp>
        <p:nvSpPr>
          <p:cNvPr id="256" name="PlaceHolder 2"/>
          <p:cNvSpPr>
            <a:spLocks noGrp="1"/>
          </p:cNvSpPr>
          <p:nvPr>
            <p:ph/>
          </p:nvPr>
        </p:nvSpPr>
        <p:spPr>
          <a:xfrm>
            <a:off x="1625400" y="1523520"/>
            <a:ext cx="823428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Possíveis estudos e pesquisas</a:t>
            </a:r>
            <a:endParaRPr b="1" lang="en-US" sz="32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Dispositivos</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Arquiteturas (software e hardware)</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Métodos e técnicas para desenvolvimento</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Ferramentas de desenvolvimento</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Novas aplicações</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39143A9B-C37A-4E3C-AA41-9F1412BF59AB}" type="slidenum">
              <a:t>40</a:t>
            </a:fld>
          </a:p>
        </p:txBody>
      </p:sp>
      <p:sp>
        <p:nvSpPr>
          <p:cNvPr id="6" name="PlaceHolder 5"/>
          <p:cNvSpPr>
            <a:spLocks noGrp="1"/>
          </p:cNvSpPr>
          <p:nvPr>
            <p:ph type="dt" idx="1"/>
          </p:nvPr>
        </p:nvSpPr>
        <p:spPr/>
        <p:txBody>
          <a:bodyPr/>
          <a:p>
            <a:fld id="{7131AEA2-8E8C-4073-84F3-9C2A8691A70B}"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 Conclusões</a:t>
            </a:r>
            <a:endParaRPr b="1" lang="en-US" sz="4400" spc="-1" strike="noStrike">
              <a:solidFill>
                <a:srgbClr val="3333cc"/>
              </a:solidFill>
              <a:latin typeface="Times New Roman"/>
            </a:endParaRPr>
          </a:p>
        </p:txBody>
      </p:sp>
      <p:sp>
        <p:nvSpPr>
          <p:cNvPr id="258" name="PlaceHolder 2"/>
          <p:cNvSpPr>
            <a:spLocks noGrp="1"/>
          </p:cNvSpPr>
          <p:nvPr>
            <p:ph/>
          </p:nvPr>
        </p:nvSpPr>
        <p:spPr>
          <a:xfrm>
            <a:off x="1625400" y="1523520"/>
            <a:ext cx="823428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Possíveis trabalhos futuros</a:t>
            </a:r>
            <a:endParaRPr b="1" lang="en-US" sz="32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PUC - Minas (Parcerias)</a:t>
            </a:r>
            <a:r>
              <a:rPr b="1" lang="pt-BR" sz="2800" spc="-1" strike="noStrike">
                <a:solidFill>
                  <a:srgbClr val="000000"/>
                </a:solidFill>
                <a:latin typeface="Arial"/>
              </a:rPr>
              <a:t>	</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Universidades e empresas no Brasil</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Projeto Temático Nacional</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Universidades e empresas internacionais</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Site COREONLINE </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Revista CORE Newsletter</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Comissão Especial SBC</a:t>
            </a:r>
            <a:endParaRPr b="1"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34FBE86F-98EF-46C3-823A-D101ABD773A6}" type="slidenum">
              <a:t>41</a:t>
            </a:fld>
          </a:p>
        </p:txBody>
      </p:sp>
      <p:sp>
        <p:nvSpPr>
          <p:cNvPr id="6" name="PlaceHolder 5"/>
          <p:cNvSpPr>
            <a:spLocks noGrp="1"/>
          </p:cNvSpPr>
          <p:nvPr>
            <p:ph type="dt" idx="1"/>
          </p:nvPr>
        </p:nvSpPr>
        <p:spPr/>
        <p:txBody>
          <a:bodyPr/>
          <a:p>
            <a:fld id="{AAABAD4C-7867-4065-841D-1A51FD0C4625}"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 Conclusões</a:t>
            </a:r>
            <a:endParaRPr b="1" lang="en-US" sz="4400" spc="-1" strike="noStrike">
              <a:solidFill>
                <a:srgbClr val="3333cc"/>
              </a:solidFill>
              <a:latin typeface="Times New Roman"/>
            </a:endParaRPr>
          </a:p>
        </p:txBody>
      </p:sp>
      <p:sp>
        <p:nvSpPr>
          <p:cNvPr id="260" name="PlaceHolder 2"/>
          <p:cNvSpPr>
            <a:spLocks noGrp="1"/>
          </p:cNvSpPr>
          <p:nvPr>
            <p:ph/>
          </p:nvPr>
        </p:nvSpPr>
        <p:spPr>
          <a:xfrm>
            <a:off x="1625400" y="1523520"/>
            <a:ext cx="823428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Fontes de material adicional, no futuro no Site COREONLINE</a:t>
            </a: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5B37A87C-6EE7-4BAA-807C-470B85472AD7}" type="slidenum">
              <a:t>42</a:t>
            </a:fld>
          </a:p>
        </p:txBody>
      </p:sp>
      <p:sp>
        <p:nvSpPr>
          <p:cNvPr id="6" name="PlaceHolder 5"/>
          <p:cNvSpPr>
            <a:spLocks noGrp="1"/>
          </p:cNvSpPr>
          <p:nvPr>
            <p:ph type="dt" idx="1"/>
          </p:nvPr>
        </p:nvSpPr>
        <p:spPr/>
        <p:txBody>
          <a:bodyPr/>
          <a:p>
            <a:fld id="{4BAB1CB9-7A0D-4EA6-9A3A-354877F83375}"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 Referências bibliográficas</a:t>
            </a:r>
            <a:endParaRPr b="1" lang="en-US" sz="4400" spc="-1" strike="noStrike">
              <a:solidFill>
                <a:srgbClr val="3333cc"/>
              </a:solidFill>
              <a:latin typeface="Times New Roman"/>
            </a:endParaRPr>
          </a:p>
        </p:txBody>
      </p:sp>
      <p:sp>
        <p:nvSpPr>
          <p:cNvPr id="262" name="PlaceHolder 2"/>
          <p:cNvSpPr>
            <a:spLocks noGrp="1"/>
          </p:cNvSpPr>
          <p:nvPr>
            <p:ph/>
          </p:nvPr>
        </p:nvSpPr>
        <p:spPr>
          <a:xfrm>
            <a:off x="1625400" y="1523520"/>
            <a:ext cx="823428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Livros - Site COREONLINE</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75551CD9-2127-46E3-AA30-0D76EF2A79C7}" type="slidenum">
              <a:t>43</a:t>
            </a:fld>
          </a:p>
        </p:txBody>
      </p:sp>
      <p:sp>
        <p:nvSpPr>
          <p:cNvPr id="6" name="PlaceHolder 5"/>
          <p:cNvSpPr>
            <a:spLocks noGrp="1"/>
          </p:cNvSpPr>
          <p:nvPr>
            <p:ph type="dt" idx="1"/>
          </p:nvPr>
        </p:nvSpPr>
        <p:spPr/>
        <p:txBody>
          <a:bodyPr/>
          <a:p>
            <a:fld id="{412999F6-E790-480E-A6F8-FE17BB513BB0}"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 Referências bibliográficas</a:t>
            </a:r>
            <a:endParaRPr b="1" lang="en-US" sz="4400" spc="-1" strike="noStrike">
              <a:solidFill>
                <a:srgbClr val="3333cc"/>
              </a:solidFill>
              <a:latin typeface="Times New Roman"/>
            </a:endParaRPr>
          </a:p>
        </p:txBody>
      </p:sp>
      <p:sp>
        <p:nvSpPr>
          <p:cNvPr id="264" name="PlaceHolder 2"/>
          <p:cNvSpPr>
            <a:spLocks noGrp="1"/>
          </p:cNvSpPr>
          <p:nvPr>
            <p:ph/>
          </p:nvPr>
        </p:nvSpPr>
        <p:spPr>
          <a:xfrm>
            <a:off x="1625400" y="1523520"/>
            <a:ext cx="823428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Artigos - Site COREONLINE</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34756163-7D70-4583-A79C-2B4E112EFA11}" type="slidenum">
              <a:t>44</a:t>
            </a:fld>
          </a:p>
        </p:txBody>
      </p:sp>
      <p:sp>
        <p:nvSpPr>
          <p:cNvPr id="6" name="PlaceHolder 5"/>
          <p:cNvSpPr>
            <a:spLocks noGrp="1"/>
          </p:cNvSpPr>
          <p:nvPr>
            <p:ph type="dt" idx="1"/>
          </p:nvPr>
        </p:nvSpPr>
        <p:spPr/>
        <p:txBody>
          <a:bodyPr/>
          <a:p>
            <a:fld id="{DE37EF29-37E2-4E9A-BE37-B483125528AD}" type="datetime1">
              <a:rPr lang="en-US"/>
              <a:t>07/3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 Referências bibliográficas</a:t>
            </a:r>
            <a:endParaRPr b="1" lang="en-US" sz="4400" spc="-1" strike="noStrike">
              <a:solidFill>
                <a:srgbClr val="3333cc"/>
              </a:solidFill>
              <a:latin typeface="Times New Roman"/>
            </a:endParaRPr>
          </a:p>
        </p:txBody>
      </p:sp>
      <p:sp>
        <p:nvSpPr>
          <p:cNvPr id="266" name="PlaceHolder 2"/>
          <p:cNvSpPr>
            <a:spLocks noGrp="1"/>
          </p:cNvSpPr>
          <p:nvPr>
            <p:ph/>
          </p:nvPr>
        </p:nvSpPr>
        <p:spPr>
          <a:xfrm>
            <a:off x="1625400" y="1523520"/>
            <a:ext cx="823428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Sites Web e referências digitais</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Site COREONLINE</a:t>
            </a: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6BFADC87-82A3-41F6-B176-39961F60EDB5}" type="slidenum">
              <a:t>45</a:t>
            </a:fld>
          </a:p>
        </p:txBody>
      </p:sp>
      <p:sp>
        <p:nvSpPr>
          <p:cNvPr id="6" name="PlaceHolder 5"/>
          <p:cNvSpPr>
            <a:spLocks noGrp="1"/>
          </p:cNvSpPr>
          <p:nvPr>
            <p:ph type="dt" idx="1"/>
          </p:nvPr>
        </p:nvSpPr>
        <p:spPr/>
        <p:txBody>
          <a:bodyPr/>
          <a:p>
            <a:fld id="{D511F03B-B42E-49C8-B20D-C8DE7A1C45A3}" type="datetime1">
              <a:rPr lang="en-US"/>
              <a:t>07/3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2209680" y="762120"/>
            <a:ext cx="6324840" cy="4628880"/>
          </a:xfrm>
          <a:prstGeom prst="rect">
            <a:avLst/>
          </a:prstGeom>
        </p:spPr>
        <p:txBody>
          <a:bodyPr wrap="none" lIns="91800" rIns="91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Parte III</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Aplicaçõe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2" name="PlaceHolder 1"/>
          <p:cNvSpPr>
            <a:spLocks noGrp="1"/>
          </p:cNvSpPr>
          <p:nvPr>
            <p:ph type="ftr" idx="2"/>
          </p:nvPr>
        </p:nvSpPr>
        <p:spPr/>
        <p:txBody>
          <a:bodyPr/>
          <a:p>
            <a:r>
              <a:t>Carlos Augusto P. S. Martins - Edward David Moreno - SCR'2001</a:t>
            </a:r>
          </a:p>
        </p:txBody>
      </p:sp>
      <p:sp>
        <p:nvSpPr>
          <p:cNvPr id="3" name="PlaceHolder 2"/>
          <p:cNvSpPr>
            <a:spLocks noGrp="1"/>
          </p:cNvSpPr>
          <p:nvPr>
            <p:ph type="sldNum" idx="3"/>
          </p:nvPr>
        </p:nvSpPr>
        <p:spPr/>
        <p:txBody>
          <a:bodyPr/>
          <a:p>
            <a:fld id="{51926EE8-ECF7-4E33-8563-B42EB73AFF06}" type="slidenum">
              <a:t>46</a:t>
            </a:fld>
          </a:p>
        </p:txBody>
      </p:sp>
      <p:sp>
        <p:nvSpPr>
          <p:cNvPr id="4" name="PlaceHolder 3"/>
          <p:cNvSpPr>
            <a:spLocks noGrp="1"/>
          </p:cNvSpPr>
          <p:nvPr>
            <p:ph type="dt" idx="1"/>
          </p:nvPr>
        </p:nvSpPr>
        <p:spPr/>
        <p:txBody>
          <a:bodyPr/>
          <a:p>
            <a:fld id="{8D6B2C49-5C11-4EDB-A110-D0FAC8B2DF74}" type="datetime1">
              <a:rPr lang="en-US"/>
              <a:t>07/3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1485720" y="1066320"/>
            <a:ext cx="2724120" cy="525780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S-01:</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S-02:</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S-03:</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S-04:</a:t>
            </a:r>
            <a:endParaRPr b="1" lang="en-US" sz="2800" spc="-1" strike="noStrike">
              <a:solidFill>
                <a:srgbClr val="000000"/>
              </a:solidFill>
              <a:latin typeface="Arial"/>
            </a:endParaRPr>
          </a:p>
        </p:txBody>
      </p:sp>
      <p:sp>
        <p:nvSpPr>
          <p:cNvPr id="269" name=""/>
          <p:cNvSpPr/>
          <p:nvPr/>
        </p:nvSpPr>
        <p:spPr>
          <a:xfrm>
            <a:off x="6794280" y="228600"/>
            <a:ext cx="2599200" cy="70200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3333cc"/>
                </a:solidFill>
                <a:latin typeface="Times New Roman"/>
              </a:rPr>
              <a:t>Tópicos (1)</a:t>
            </a:r>
            <a:endParaRPr b="0" lang="en-US" sz="4000" spc="-1" strike="noStrike">
              <a:solidFill>
                <a:srgbClr val="333300"/>
              </a:solidFill>
              <a:latin typeface="Times New Roman"/>
            </a:endParaRPr>
          </a:p>
        </p:txBody>
      </p:sp>
      <p:sp>
        <p:nvSpPr>
          <p:cNvPr id="270" name=""/>
          <p:cNvSpPr/>
          <p:nvPr/>
        </p:nvSpPr>
        <p:spPr>
          <a:xfrm>
            <a:off x="1568520" y="228240"/>
            <a:ext cx="4521240" cy="76284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666633"/>
                </a:solidFill>
                <a:latin typeface="Times New Roman"/>
              </a:rPr>
              <a:t>Quatro Sessões</a:t>
            </a:r>
            <a:endParaRPr b="0" lang="en-US" sz="4400" spc="-1" strike="noStrike">
              <a:solidFill>
                <a:srgbClr val="333300"/>
              </a:solidFill>
              <a:latin typeface="Times New Roman"/>
            </a:endParaRPr>
          </a:p>
        </p:txBody>
      </p:sp>
      <p:sp>
        <p:nvSpPr>
          <p:cNvPr id="271" name=""/>
          <p:cNvSpPr/>
          <p:nvPr/>
        </p:nvSpPr>
        <p:spPr>
          <a:xfrm>
            <a:off x="3200400" y="1142640"/>
            <a:ext cx="6191280" cy="427680"/>
          </a:xfrm>
          <a:prstGeom prst="rect">
            <a:avLst/>
          </a:prstGeom>
          <a:solidFill>
            <a:srgbClr val="ece1ac"/>
          </a:solid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3333cc"/>
                </a:solidFill>
                <a:latin typeface="Times New Roman"/>
              </a:rPr>
              <a:t>Apresentação, Motivação,</a:t>
            </a:r>
            <a:endParaRPr b="0" lang="en-US" sz="2200" spc="-1" strike="noStrike">
              <a:solidFill>
                <a:srgbClr val="333300"/>
              </a:solidFill>
              <a:latin typeface="Times New Roman"/>
            </a:endParaRPr>
          </a:p>
        </p:txBody>
      </p:sp>
      <p:sp>
        <p:nvSpPr>
          <p:cNvPr id="272" name=""/>
          <p:cNvSpPr/>
          <p:nvPr/>
        </p:nvSpPr>
        <p:spPr>
          <a:xfrm>
            <a:off x="3200400" y="2209680"/>
            <a:ext cx="6191280" cy="427680"/>
          </a:xfrm>
          <a:prstGeom prst="rect">
            <a:avLst/>
          </a:prstGeom>
          <a:solidFill>
            <a:srgbClr val="99ffcc"/>
          </a:solid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3333cc"/>
                </a:solidFill>
                <a:latin typeface="Times New Roman"/>
              </a:rPr>
              <a:t>Aplicações Genéricas - Onde usar CORE ?</a:t>
            </a:r>
            <a:endParaRPr b="0" lang="en-US" sz="2200" spc="-1" strike="noStrike">
              <a:solidFill>
                <a:srgbClr val="333300"/>
              </a:solidFill>
              <a:latin typeface="Times New Roman"/>
            </a:endParaRPr>
          </a:p>
        </p:txBody>
      </p:sp>
      <p:sp>
        <p:nvSpPr>
          <p:cNvPr id="273" name=""/>
          <p:cNvSpPr/>
          <p:nvPr/>
        </p:nvSpPr>
        <p:spPr>
          <a:xfrm>
            <a:off x="3200400" y="3414240"/>
            <a:ext cx="6273720" cy="762840"/>
          </a:xfrm>
          <a:prstGeom prst="rect">
            <a:avLst/>
          </a:prstGeom>
          <a:solidFill>
            <a:srgbClr val="feb8f7"/>
          </a:solid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3333cc"/>
                </a:solidFill>
                <a:latin typeface="Times New Roman"/>
              </a:rPr>
              <a:t>Aplicações  CORE-2000</a:t>
            </a:r>
            <a:endParaRPr b="0" lang="en-US" sz="22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3333cc"/>
                </a:solidFill>
                <a:latin typeface="Times New Roman"/>
              </a:rPr>
              <a:t>Aplicações Várias  e Alguns Resultados</a:t>
            </a:r>
            <a:endParaRPr b="0" lang="en-US" sz="2200" spc="-1" strike="noStrike">
              <a:solidFill>
                <a:srgbClr val="333300"/>
              </a:solidFill>
              <a:latin typeface="Times New Roman"/>
            </a:endParaRPr>
          </a:p>
        </p:txBody>
      </p:sp>
      <p:sp>
        <p:nvSpPr>
          <p:cNvPr id="274" name=""/>
          <p:cNvSpPr/>
          <p:nvPr/>
        </p:nvSpPr>
        <p:spPr>
          <a:xfrm>
            <a:off x="3200400" y="5181120"/>
            <a:ext cx="6273720" cy="762840"/>
          </a:xfrm>
          <a:prstGeom prst="rect">
            <a:avLst/>
          </a:prstGeom>
          <a:solidFill>
            <a:srgbClr val="f2f8be"/>
          </a:solid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3333cc"/>
                </a:solidFill>
                <a:latin typeface="Times New Roman"/>
              </a:rPr>
              <a:t>Tendências, Aplicações e Assuntos de Pesquisa</a:t>
            </a:r>
            <a:endParaRPr b="0" lang="en-US" sz="22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3333cc"/>
                </a:solidFill>
                <a:latin typeface="Times New Roman"/>
              </a:rPr>
              <a:t> </a:t>
            </a:r>
            <a:r>
              <a:rPr b="1" lang="pt-BR" sz="2200" spc="-1" strike="noStrike">
                <a:solidFill>
                  <a:srgbClr val="3333cc"/>
                </a:solidFill>
                <a:latin typeface="Times New Roman"/>
              </a:rPr>
              <a:t>Futuro do CORE ?</a:t>
            </a:r>
            <a:endParaRPr b="0" lang="en-US" sz="2200" spc="-1" strike="noStrike">
              <a:solidFill>
                <a:srgbClr val="333300"/>
              </a:solidFill>
              <a:latin typeface="Times New Roman"/>
            </a:endParaRPr>
          </a:p>
        </p:txBody>
      </p:sp>
      <p:sp>
        <p:nvSpPr>
          <p:cNvPr id="3" name="PlaceHolder 2"/>
          <p:cNvSpPr>
            <a:spLocks noGrp="1"/>
          </p:cNvSpPr>
          <p:nvPr>
            <p:ph type="ftr" idx="2"/>
          </p:nvPr>
        </p:nvSpPr>
        <p:spPr/>
        <p:txBody>
          <a:bodyPr/>
          <a:p>
            <a:r>
              <a:t>Carlos Augusto P. S. Martins - Edward David Moreno - SCR'2001</a:t>
            </a:r>
          </a:p>
        </p:txBody>
      </p:sp>
      <p:sp>
        <p:nvSpPr>
          <p:cNvPr id="4" name="PlaceHolder 3"/>
          <p:cNvSpPr>
            <a:spLocks noGrp="1"/>
          </p:cNvSpPr>
          <p:nvPr>
            <p:ph type="sldNum" idx="3"/>
          </p:nvPr>
        </p:nvSpPr>
        <p:spPr/>
        <p:txBody>
          <a:bodyPr/>
          <a:p>
            <a:fld id="{FA779F6A-AF95-4106-B91B-EF07F8D5E2F1}" type="slidenum">
              <a:t>47</a:t>
            </a:fld>
          </a:p>
        </p:txBody>
      </p:sp>
      <p:sp>
        <p:nvSpPr>
          <p:cNvPr id="5" name="PlaceHolder 4"/>
          <p:cNvSpPr>
            <a:spLocks noGrp="1"/>
          </p:cNvSpPr>
          <p:nvPr>
            <p:ph type="dt" idx="1"/>
          </p:nvPr>
        </p:nvSpPr>
        <p:spPr/>
        <p:txBody>
          <a:bodyPr/>
          <a:p>
            <a:fld id="{B888D705-1E2F-4F60-BCAB-4A5627EE296F}" type="datetime1">
              <a:rPr lang="en-US"/>
              <a:t>07/3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2133720" y="1600200"/>
            <a:ext cx="6356160" cy="3616200"/>
          </a:xfrm>
          <a:prstGeom prst="rect">
            <a:avLst/>
          </a:prstGeom>
        </p:spPr>
        <p:txBody>
          <a:bodyPr wrap="none" lIns="91800" rIns="91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Motivação</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2" name="PlaceHolder 1"/>
          <p:cNvSpPr>
            <a:spLocks noGrp="1"/>
          </p:cNvSpPr>
          <p:nvPr>
            <p:ph type="ftr" idx="2"/>
          </p:nvPr>
        </p:nvSpPr>
        <p:spPr/>
        <p:txBody>
          <a:bodyPr/>
          <a:p>
            <a:r>
              <a:t>Carlos Augusto P. S. Martins - Edward David Moreno - SCR'2001</a:t>
            </a:r>
          </a:p>
        </p:txBody>
      </p:sp>
      <p:sp>
        <p:nvSpPr>
          <p:cNvPr id="3" name="PlaceHolder 2"/>
          <p:cNvSpPr>
            <a:spLocks noGrp="1"/>
          </p:cNvSpPr>
          <p:nvPr>
            <p:ph type="sldNum" idx="3"/>
          </p:nvPr>
        </p:nvSpPr>
        <p:spPr/>
        <p:txBody>
          <a:bodyPr/>
          <a:p>
            <a:fld id="{C0BDF1BB-0167-43EB-B3BE-00106094EB00}" type="slidenum">
              <a:t>48</a:t>
            </a:fld>
          </a:p>
        </p:txBody>
      </p:sp>
      <p:sp>
        <p:nvSpPr>
          <p:cNvPr id="4" name="PlaceHolder 3"/>
          <p:cNvSpPr>
            <a:spLocks noGrp="1"/>
          </p:cNvSpPr>
          <p:nvPr>
            <p:ph type="dt" idx="1"/>
          </p:nvPr>
        </p:nvSpPr>
        <p:spPr/>
        <p:txBody>
          <a:bodyPr/>
          <a:p>
            <a:fld id="{C058B7DF-03CE-423D-BBA8-6ECF7AEE0C26}" type="datetime1">
              <a:rPr lang="en-US"/>
              <a:t>07/3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Configurable" descr=""/>
          <p:cNvPicPr/>
          <p:nvPr/>
        </p:nvPicPr>
        <p:blipFill>
          <a:blip r:embed="rId1"/>
          <a:stretch/>
        </p:blipFill>
        <p:spPr>
          <a:xfrm>
            <a:off x="2133720" y="1295280"/>
            <a:ext cx="7238880" cy="4589640"/>
          </a:xfrm>
          <a:prstGeom prst="rect">
            <a:avLst/>
          </a:prstGeom>
          <a:ln w="0">
            <a:noFill/>
          </a:ln>
        </p:spPr>
      </p:pic>
      <p:sp>
        <p:nvSpPr>
          <p:cNvPr id="277" name=""/>
          <p:cNvSpPr/>
          <p:nvPr/>
        </p:nvSpPr>
        <p:spPr>
          <a:xfrm>
            <a:off x="1981080" y="304920"/>
            <a:ext cx="71247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a:t>
            </a:r>
            <a:endParaRPr b="0" lang="en-US" sz="4400" spc="-1" strike="noStrike">
              <a:solidFill>
                <a:srgbClr val="333300"/>
              </a:solidFill>
              <a:latin typeface="Times New Roman"/>
            </a:endParaRPr>
          </a:p>
        </p:txBody>
      </p:sp>
      <p:sp>
        <p:nvSpPr>
          <p:cNvPr id="2" name="PlaceHolder 1"/>
          <p:cNvSpPr>
            <a:spLocks noGrp="1"/>
          </p:cNvSpPr>
          <p:nvPr>
            <p:ph type="ftr" idx="2"/>
          </p:nvPr>
        </p:nvSpPr>
        <p:spPr/>
        <p:txBody>
          <a:bodyPr/>
          <a:p>
            <a:r>
              <a:t>Carlos Augusto P. S. Martins - Edward David Moreno - SCR'2001</a:t>
            </a:r>
          </a:p>
        </p:txBody>
      </p:sp>
      <p:sp>
        <p:nvSpPr>
          <p:cNvPr id="3" name="PlaceHolder 2"/>
          <p:cNvSpPr>
            <a:spLocks noGrp="1"/>
          </p:cNvSpPr>
          <p:nvPr>
            <p:ph type="sldNum" idx="3"/>
          </p:nvPr>
        </p:nvSpPr>
        <p:spPr/>
        <p:txBody>
          <a:bodyPr/>
          <a:p>
            <a:fld id="{E026DB39-833C-45FB-B566-AD8E317C6AF0}" type="slidenum">
              <a:t>49</a:t>
            </a:fld>
          </a:p>
        </p:txBody>
      </p:sp>
      <p:sp>
        <p:nvSpPr>
          <p:cNvPr id="4" name="PlaceHolder 3"/>
          <p:cNvSpPr>
            <a:spLocks noGrp="1"/>
          </p:cNvSpPr>
          <p:nvPr>
            <p:ph type="dt" idx="1"/>
          </p:nvPr>
        </p:nvSpPr>
        <p:spPr/>
        <p:txBody>
          <a:bodyPr/>
          <a:p>
            <a:fld id="{90B953F5-1D1F-4E90-814C-4DCEA642BF7A}"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 Introdução</a:t>
            </a:r>
            <a:endParaRPr b="1" lang="en-US" sz="4400" spc="-1" strike="noStrike">
              <a:solidFill>
                <a:srgbClr val="3333cc"/>
              </a:solidFill>
              <a:latin typeface="Times New Roman"/>
            </a:endParaRPr>
          </a:p>
        </p:txBody>
      </p:sp>
      <p:sp>
        <p:nvSpPr>
          <p:cNvPr id="186" name="PlaceHolder 2"/>
          <p:cNvSpPr>
            <a:spLocks noGrp="1"/>
          </p:cNvSpPr>
          <p:nvPr>
            <p:ph/>
          </p:nvPr>
        </p:nvSpPr>
        <p:spPr>
          <a:xfrm>
            <a:off x="1625400" y="1523520"/>
            <a:ext cx="823428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Comportamento do computador</a:t>
            </a:r>
            <a:endParaRPr b="1" lang="en-US" sz="32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Constante </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Variável</a:t>
            </a:r>
            <a:endParaRPr b="1"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Estrutura do computador</a:t>
            </a:r>
            <a:endParaRPr b="1" lang="en-US" sz="32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Constante </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Variável</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2EF49071-70AD-4FAA-AB91-CF4F6895444D}" type="slidenum">
              <a:t>5</a:t>
            </a:fld>
          </a:p>
        </p:txBody>
      </p:sp>
      <p:sp>
        <p:nvSpPr>
          <p:cNvPr id="6" name="PlaceHolder 5"/>
          <p:cNvSpPr>
            <a:spLocks noGrp="1"/>
          </p:cNvSpPr>
          <p:nvPr>
            <p:ph type="dt" idx="1"/>
          </p:nvPr>
        </p:nvSpPr>
        <p:spPr/>
        <p:txBody>
          <a:bodyPr/>
          <a:p>
            <a:fld id="{111E60CC-E3F1-472A-A33B-C297BCF7A65E}" type="datetime1">
              <a:rPr lang="en-US"/>
              <a:t>07/3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380880" y="1317600"/>
            <a:ext cx="3581280" cy="4894560"/>
            <a:chOff x="380880" y="1317600"/>
            <a:chExt cx="3581280" cy="4894560"/>
          </a:xfrm>
        </p:grpSpPr>
        <p:sp>
          <p:nvSpPr>
            <p:cNvPr id="279" name=""/>
            <p:cNvSpPr/>
            <p:nvPr/>
          </p:nvSpPr>
          <p:spPr>
            <a:xfrm>
              <a:off x="380880" y="1317600"/>
              <a:ext cx="3581280" cy="398880"/>
            </a:xfrm>
            <a:prstGeom prst="rect">
              <a:avLst/>
            </a:prstGeom>
            <a:solidFill>
              <a:srgbClr val="ffffcc"/>
            </a:solidFill>
            <a:ln w="9360">
              <a:solidFill>
                <a:srgbClr val="33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00"/>
                  </a:solidFill>
                  <a:latin typeface="Times New Roman"/>
                </a:rPr>
                <a:t>Get Specifications</a:t>
              </a:r>
              <a:endParaRPr b="0" lang="en-US" sz="2000" spc="-1" strike="noStrike">
                <a:solidFill>
                  <a:srgbClr val="333300"/>
                </a:solidFill>
                <a:latin typeface="Times New Roman"/>
              </a:endParaRPr>
            </a:p>
          </p:txBody>
        </p:sp>
        <p:sp>
          <p:nvSpPr>
            <p:cNvPr id="280" name=""/>
            <p:cNvSpPr/>
            <p:nvPr/>
          </p:nvSpPr>
          <p:spPr>
            <a:xfrm>
              <a:off x="380880" y="1850760"/>
              <a:ext cx="3581280" cy="398880"/>
            </a:xfrm>
            <a:prstGeom prst="rect">
              <a:avLst/>
            </a:prstGeom>
            <a:solidFill>
              <a:srgbClr val="ffffcc"/>
            </a:solidFill>
            <a:ln w="9360">
              <a:solidFill>
                <a:srgbClr val="33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00"/>
                  </a:solidFill>
                  <a:latin typeface="Times New Roman"/>
                </a:rPr>
                <a:t>Define Inputs/Out </a:t>
              </a:r>
              <a:endParaRPr b="0" lang="en-US" sz="2000" spc="-1" strike="noStrike">
                <a:solidFill>
                  <a:srgbClr val="333300"/>
                </a:solidFill>
                <a:latin typeface="Times New Roman"/>
              </a:endParaRPr>
            </a:p>
          </p:txBody>
        </p:sp>
        <p:sp>
          <p:nvSpPr>
            <p:cNvPr id="281" name=""/>
            <p:cNvSpPr/>
            <p:nvPr/>
          </p:nvSpPr>
          <p:spPr>
            <a:xfrm>
              <a:off x="380880" y="2460600"/>
              <a:ext cx="3581280" cy="398880"/>
            </a:xfrm>
            <a:prstGeom prst="rect">
              <a:avLst/>
            </a:prstGeom>
            <a:solidFill>
              <a:srgbClr val="ffffcc"/>
            </a:solidFill>
            <a:ln w="9360">
              <a:solidFill>
                <a:srgbClr val="33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00"/>
                  </a:solidFill>
                  <a:latin typeface="Times New Roman"/>
                </a:rPr>
                <a:t>Create Truth-tables </a:t>
              </a:r>
              <a:endParaRPr b="0" lang="en-US" sz="2000" spc="-1" strike="noStrike">
                <a:solidFill>
                  <a:srgbClr val="333300"/>
                </a:solidFill>
                <a:latin typeface="Times New Roman"/>
              </a:endParaRPr>
            </a:p>
          </p:txBody>
        </p:sp>
        <p:sp>
          <p:nvSpPr>
            <p:cNvPr id="282" name=""/>
            <p:cNvSpPr/>
            <p:nvPr/>
          </p:nvSpPr>
          <p:spPr>
            <a:xfrm>
              <a:off x="380880" y="3070080"/>
              <a:ext cx="3581280" cy="398880"/>
            </a:xfrm>
            <a:prstGeom prst="rect">
              <a:avLst/>
            </a:prstGeom>
            <a:solidFill>
              <a:srgbClr val="ffffcc"/>
            </a:solidFill>
            <a:ln w="9360">
              <a:solidFill>
                <a:srgbClr val="33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00"/>
                  </a:solidFill>
                  <a:latin typeface="Times New Roman"/>
                </a:rPr>
                <a:t>Derive Boolean Equations </a:t>
              </a:r>
              <a:endParaRPr b="0" lang="en-US" sz="2000" spc="-1" strike="noStrike">
                <a:solidFill>
                  <a:srgbClr val="333300"/>
                </a:solidFill>
                <a:latin typeface="Times New Roman"/>
              </a:endParaRPr>
            </a:p>
          </p:txBody>
        </p:sp>
        <p:sp>
          <p:nvSpPr>
            <p:cNvPr id="283" name=""/>
            <p:cNvSpPr/>
            <p:nvPr/>
          </p:nvSpPr>
          <p:spPr>
            <a:xfrm>
              <a:off x="380880" y="3755880"/>
              <a:ext cx="3581280" cy="398880"/>
            </a:xfrm>
            <a:prstGeom prst="rect">
              <a:avLst/>
            </a:prstGeom>
            <a:solidFill>
              <a:srgbClr val="ffffcc"/>
            </a:solidFill>
            <a:ln w="9360">
              <a:solidFill>
                <a:srgbClr val="33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00"/>
                  </a:solidFill>
                  <a:latin typeface="Times New Roman"/>
                </a:rPr>
                <a:t>Create gate-level design </a:t>
              </a:r>
              <a:endParaRPr b="0" lang="en-US" sz="2000" spc="-1" strike="noStrike">
                <a:solidFill>
                  <a:srgbClr val="333300"/>
                </a:solidFill>
                <a:latin typeface="Times New Roman"/>
              </a:endParaRPr>
            </a:p>
          </p:txBody>
        </p:sp>
        <p:sp>
          <p:nvSpPr>
            <p:cNvPr id="284" name=""/>
            <p:cNvSpPr/>
            <p:nvPr/>
          </p:nvSpPr>
          <p:spPr>
            <a:xfrm>
              <a:off x="380880" y="4441680"/>
              <a:ext cx="3504960" cy="398880"/>
            </a:xfrm>
            <a:prstGeom prst="rect">
              <a:avLst/>
            </a:prstGeom>
            <a:solidFill>
              <a:srgbClr val="ffffcc"/>
            </a:solidFill>
            <a:ln w="9360">
              <a:solidFill>
                <a:srgbClr val="33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00"/>
                  </a:solidFill>
                  <a:latin typeface="Times New Roman"/>
                </a:rPr>
                <a:t>Simulate GL design</a:t>
              </a:r>
              <a:endParaRPr b="0" lang="en-US" sz="2000" spc="-1" strike="noStrike">
                <a:solidFill>
                  <a:srgbClr val="333300"/>
                </a:solidFill>
                <a:latin typeface="Times New Roman"/>
              </a:endParaRPr>
            </a:p>
          </p:txBody>
        </p:sp>
        <p:sp>
          <p:nvSpPr>
            <p:cNvPr id="285" name=""/>
            <p:cNvSpPr/>
            <p:nvPr/>
          </p:nvSpPr>
          <p:spPr>
            <a:xfrm>
              <a:off x="380880" y="5127480"/>
              <a:ext cx="3504960" cy="398880"/>
            </a:xfrm>
            <a:prstGeom prst="rect">
              <a:avLst/>
            </a:prstGeom>
            <a:solidFill>
              <a:srgbClr val="ffffcc"/>
            </a:solidFill>
            <a:ln w="9360">
              <a:solidFill>
                <a:srgbClr val="33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00"/>
                  </a:solidFill>
                  <a:latin typeface="Times New Roman"/>
                </a:rPr>
                <a:t>Build Digital Circuit</a:t>
              </a:r>
              <a:endParaRPr b="0" lang="en-US" sz="2000" spc="-1" strike="noStrike">
                <a:solidFill>
                  <a:srgbClr val="333300"/>
                </a:solidFill>
                <a:latin typeface="Times New Roman"/>
              </a:endParaRPr>
            </a:p>
          </p:txBody>
        </p:sp>
        <p:sp>
          <p:nvSpPr>
            <p:cNvPr id="286" name=""/>
            <p:cNvSpPr/>
            <p:nvPr/>
          </p:nvSpPr>
          <p:spPr>
            <a:xfrm>
              <a:off x="380880" y="5813280"/>
              <a:ext cx="3504960" cy="398880"/>
            </a:xfrm>
            <a:prstGeom prst="rect">
              <a:avLst/>
            </a:prstGeom>
            <a:solidFill>
              <a:srgbClr val="ffffcc"/>
            </a:solidFill>
            <a:ln w="9360">
              <a:solidFill>
                <a:srgbClr val="33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00"/>
                  </a:solidFill>
                  <a:latin typeface="Times New Roman"/>
                </a:rPr>
                <a:t>Debug Digital Circuit</a:t>
              </a:r>
              <a:endParaRPr b="0" lang="en-US" sz="2000" spc="-1" strike="noStrike">
                <a:solidFill>
                  <a:srgbClr val="333300"/>
                </a:solidFill>
                <a:latin typeface="Times New Roman"/>
              </a:endParaRPr>
            </a:p>
          </p:txBody>
        </p:sp>
      </p:grpSp>
      <p:sp>
        <p:nvSpPr>
          <p:cNvPr id="287" name=""/>
          <p:cNvSpPr/>
          <p:nvPr/>
        </p:nvSpPr>
        <p:spPr>
          <a:xfrm>
            <a:off x="4952880" y="403200"/>
            <a:ext cx="3581640" cy="459720"/>
          </a:xfrm>
          <a:prstGeom prst="rect">
            <a:avLst/>
          </a:prstGeom>
          <a:solidFill>
            <a:srgbClr val="ffffcc"/>
          </a:solidFill>
          <a:ln w="9360">
            <a:solidFill>
              <a:srgbClr val="33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00"/>
                </a:solidFill>
                <a:latin typeface="Times New Roman"/>
              </a:rPr>
              <a:t>Get Specifications</a:t>
            </a:r>
            <a:endParaRPr b="0" lang="en-US" sz="2400" spc="-1" strike="noStrike">
              <a:solidFill>
                <a:srgbClr val="333300"/>
              </a:solidFill>
              <a:latin typeface="Times New Roman"/>
            </a:endParaRPr>
          </a:p>
        </p:txBody>
      </p:sp>
      <p:sp>
        <p:nvSpPr>
          <p:cNvPr id="288" name=""/>
          <p:cNvSpPr/>
          <p:nvPr/>
        </p:nvSpPr>
        <p:spPr>
          <a:xfrm>
            <a:off x="4952880" y="1012680"/>
            <a:ext cx="3581640" cy="459720"/>
          </a:xfrm>
          <a:prstGeom prst="rect">
            <a:avLst/>
          </a:prstGeom>
          <a:solidFill>
            <a:srgbClr val="ffffcc"/>
          </a:solidFill>
          <a:ln w="9360">
            <a:solidFill>
              <a:srgbClr val="33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00"/>
                </a:solidFill>
                <a:latin typeface="Times New Roman"/>
              </a:rPr>
              <a:t>Define Inputs/Out </a:t>
            </a:r>
            <a:endParaRPr b="0" lang="en-US" sz="2400" spc="-1" strike="noStrike">
              <a:solidFill>
                <a:srgbClr val="333300"/>
              </a:solidFill>
              <a:latin typeface="Times New Roman"/>
            </a:endParaRPr>
          </a:p>
        </p:txBody>
      </p:sp>
      <p:sp>
        <p:nvSpPr>
          <p:cNvPr id="289" name=""/>
          <p:cNvSpPr/>
          <p:nvPr/>
        </p:nvSpPr>
        <p:spPr>
          <a:xfrm>
            <a:off x="4648320" y="1622520"/>
            <a:ext cx="4267080" cy="825480"/>
          </a:xfrm>
          <a:prstGeom prst="rect">
            <a:avLst/>
          </a:prstGeom>
          <a:solidFill>
            <a:srgbClr val="99ff99"/>
          </a:solidFill>
          <a:ln w="9360">
            <a:solidFill>
              <a:srgbClr val="33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00"/>
                </a:solidFill>
                <a:latin typeface="Times New Roman"/>
              </a:rPr>
              <a:t>Design entry via sch, FEM ……. </a:t>
            </a:r>
            <a:endParaRPr b="0" lang="en-US" sz="2400" spc="-1" strike="noStrike">
              <a:solidFill>
                <a:srgbClr val="333300"/>
              </a:solidFill>
              <a:latin typeface="Times New Roman"/>
            </a:endParaRPr>
          </a:p>
        </p:txBody>
      </p:sp>
      <p:sp>
        <p:nvSpPr>
          <p:cNvPr id="290" name=""/>
          <p:cNvSpPr/>
          <p:nvPr/>
        </p:nvSpPr>
        <p:spPr>
          <a:xfrm>
            <a:off x="4648320" y="2232000"/>
            <a:ext cx="4267080" cy="459720"/>
          </a:xfrm>
          <a:prstGeom prst="rect">
            <a:avLst/>
          </a:prstGeom>
          <a:solidFill>
            <a:srgbClr val="99ff99"/>
          </a:solidFill>
          <a:ln w="9360">
            <a:solidFill>
              <a:srgbClr val="33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00"/>
                </a:solidFill>
                <a:latin typeface="Times New Roman"/>
              </a:rPr>
              <a:t>Functional Simulation </a:t>
            </a:r>
            <a:endParaRPr b="0" lang="en-US" sz="2400" spc="-1" strike="noStrike">
              <a:solidFill>
                <a:srgbClr val="333300"/>
              </a:solidFill>
              <a:latin typeface="Times New Roman"/>
            </a:endParaRPr>
          </a:p>
        </p:txBody>
      </p:sp>
      <p:sp>
        <p:nvSpPr>
          <p:cNvPr id="291" name=""/>
          <p:cNvSpPr/>
          <p:nvPr/>
        </p:nvSpPr>
        <p:spPr>
          <a:xfrm>
            <a:off x="4648320" y="2917800"/>
            <a:ext cx="4190760" cy="825480"/>
          </a:xfrm>
          <a:prstGeom prst="rect">
            <a:avLst/>
          </a:prstGeom>
          <a:solidFill>
            <a:srgbClr val="99ff99"/>
          </a:solidFill>
          <a:ln w="9360">
            <a:solidFill>
              <a:srgbClr val="33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00"/>
                </a:solidFill>
                <a:latin typeface="Times New Roman"/>
              </a:rPr>
              <a:t>Map to CPLD or</a:t>
            </a: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00"/>
                </a:solidFill>
                <a:latin typeface="Times New Roman"/>
              </a:rPr>
              <a:t>Map, Place, Route to FPGA</a:t>
            </a:r>
            <a:endParaRPr b="0" lang="en-US" sz="2400" spc="-1" strike="noStrike">
              <a:solidFill>
                <a:srgbClr val="333300"/>
              </a:solidFill>
              <a:latin typeface="Times New Roman"/>
            </a:endParaRPr>
          </a:p>
        </p:txBody>
      </p:sp>
      <p:sp>
        <p:nvSpPr>
          <p:cNvPr id="292" name=""/>
          <p:cNvSpPr/>
          <p:nvPr/>
        </p:nvSpPr>
        <p:spPr>
          <a:xfrm>
            <a:off x="4648320" y="4060800"/>
            <a:ext cx="4190760" cy="825480"/>
          </a:xfrm>
          <a:prstGeom prst="rect">
            <a:avLst/>
          </a:prstGeom>
          <a:solidFill>
            <a:srgbClr val="99ff99"/>
          </a:solidFill>
          <a:ln w="9360">
            <a:solidFill>
              <a:srgbClr val="33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00"/>
                </a:solidFill>
                <a:latin typeface="Times New Roman"/>
              </a:rPr>
              <a:t>Timing Simulation of the Mapped design</a:t>
            </a:r>
            <a:endParaRPr b="0" lang="en-US" sz="2400" spc="-1" strike="noStrike">
              <a:solidFill>
                <a:srgbClr val="333300"/>
              </a:solidFill>
              <a:latin typeface="Times New Roman"/>
            </a:endParaRPr>
          </a:p>
        </p:txBody>
      </p:sp>
      <p:sp>
        <p:nvSpPr>
          <p:cNvPr id="293" name=""/>
          <p:cNvSpPr/>
          <p:nvPr/>
        </p:nvSpPr>
        <p:spPr>
          <a:xfrm>
            <a:off x="4648320" y="5127480"/>
            <a:ext cx="4267080" cy="459720"/>
          </a:xfrm>
          <a:prstGeom prst="rect">
            <a:avLst/>
          </a:prstGeom>
          <a:solidFill>
            <a:srgbClr val="99ff99"/>
          </a:solidFill>
          <a:ln w="9360">
            <a:solidFill>
              <a:srgbClr val="33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00"/>
                </a:solidFill>
                <a:latin typeface="Times New Roman"/>
              </a:rPr>
              <a:t>Download to the Xilinx Boards</a:t>
            </a:r>
            <a:endParaRPr b="0" lang="en-US" sz="2400" spc="-1" strike="noStrike">
              <a:solidFill>
                <a:srgbClr val="333300"/>
              </a:solidFill>
              <a:latin typeface="Times New Roman"/>
            </a:endParaRPr>
          </a:p>
        </p:txBody>
      </p:sp>
      <p:sp>
        <p:nvSpPr>
          <p:cNvPr id="294" name=""/>
          <p:cNvSpPr/>
          <p:nvPr/>
        </p:nvSpPr>
        <p:spPr>
          <a:xfrm>
            <a:off x="4648320" y="5813280"/>
            <a:ext cx="4114800" cy="825480"/>
          </a:xfrm>
          <a:prstGeom prst="rect">
            <a:avLst/>
          </a:prstGeom>
          <a:solidFill>
            <a:srgbClr val="99ff99"/>
          </a:solidFill>
          <a:ln w="9360">
            <a:solidFill>
              <a:srgbClr val="33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00"/>
                </a:solidFill>
                <a:latin typeface="Times New Roman"/>
              </a:rPr>
              <a:t>Debug the design using the PC and 7-segments LED</a:t>
            </a:r>
            <a:endParaRPr b="0" lang="en-US" sz="2400" spc="-1" strike="noStrike">
              <a:solidFill>
                <a:srgbClr val="333300"/>
              </a:solidFill>
              <a:latin typeface="Times New Roman"/>
            </a:endParaRPr>
          </a:p>
        </p:txBody>
      </p:sp>
      <p:sp>
        <p:nvSpPr>
          <p:cNvPr id="295" name=""/>
          <p:cNvSpPr/>
          <p:nvPr/>
        </p:nvSpPr>
        <p:spPr>
          <a:xfrm>
            <a:off x="1063440" y="228600"/>
            <a:ext cx="31798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990033"/>
                </a:solidFill>
                <a:latin typeface="Times New Roman"/>
              </a:rPr>
              <a:t>Fluxo de Projeto </a:t>
            </a:r>
            <a:endParaRPr b="0" lang="en-US" sz="32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990033"/>
                </a:solidFill>
                <a:latin typeface="Times New Roman"/>
              </a:rPr>
              <a:t>CORE - FPGAs</a:t>
            </a:r>
            <a:endParaRPr b="0" lang="en-US" sz="3200" spc="-1" strike="noStrike">
              <a:solidFill>
                <a:srgbClr val="333300"/>
              </a:solidFill>
              <a:latin typeface="Times New Roman"/>
            </a:endParaRPr>
          </a:p>
        </p:txBody>
      </p:sp>
      <p:sp>
        <p:nvSpPr>
          <p:cNvPr id="296" name=""/>
          <p:cNvSpPr/>
          <p:nvPr/>
        </p:nvSpPr>
        <p:spPr>
          <a:xfrm>
            <a:off x="3809880" y="860400"/>
            <a:ext cx="838440" cy="5867280"/>
          </a:xfrm>
          <a:custGeom>
            <a:avLst/>
            <a:gdLst>
              <a:gd name="textAreaLeft" fmla="*/ 0 w 838440"/>
              <a:gd name="textAreaRight" fmla="*/ 302760 w 838440"/>
              <a:gd name="textAreaTop" fmla="*/ 153000 h 5867280"/>
              <a:gd name="textAreaBottom" fmla="*/ 5714280 h 586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 name="PlaceHolder 1"/>
          <p:cNvSpPr>
            <a:spLocks noGrp="1"/>
          </p:cNvSpPr>
          <p:nvPr>
            <p:ph type="ftr" idx="2"/>
          </p:nvPr>
        </p:nvSpPr>
        <p:spPr/>
        <p:txBody>
          <a:bodyPr/>
          <a:p>
            <a:r>
              <a:t>Carlos Augusto P. S. Martins - Edward David Moreno - SCR'2001</a:t>
            </a:r>
          </a:p>
        </p:txBody>
      </p:sp>
      <p:sp>
        <p:nvSpPr>
          <p:cNvPr id="3" name="PlaceHolder 2"/>
          <p:cNvSpPr>
            <a:spLocks noGrp="1"/>
          </p:cNvSpPr>
          <p:nvPr>
            <p:ph type="sldNum" idx="3"/>
          </p:nvPr>
        </p:nvSpPr>
        <p:spPr/>
        <p:txBody>
          <a:bodyPr/>
          <a:p>
            <a:fld id="{C1F10EE5-D6CA-49B6-91C4-32964E2BF2D1}" type="slidenum">
              <a:t>50</a:t>
            </a:fld>
          </a:p>
        </p:txBody>
      </p:sp>
      <p:sp>
        <p:nvSpPr>
          <p:cNvPr id="4" name="PlaceHolder 3"/>
          <p:cNvSpPr>
            <a:spLocks noGrp="1"/>
          </p:cNvSpPr>
          <p:nvPr>
            <p:ph type="dt" idx="1"/>
          </p:nvPr>
        </p:nvSpPr>
        <p:spPr/>
        <p:txBody>
          <a:bodyPr/>
          <a:p>
            <a:fld id="{46506FF3-2980-470B-98AA-05443047B455}" type="datetime1">
              <a:rPr lang="en-US"/>
              <a:t>07/3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625760" y="228240"/>
            <a:ext cx="7594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Vantagens</a:t>
            </a:r>
            <a:endParaRPr b="1" lang="en-US" sz="4400" spc="-1" strike="noStrike">
              <a:solidFill>
                <a:srgbClr val="3333cc"/>
              </a:solidFill>
              <a:latin typeface="Times New Roman"/>
            </a:endParaRPr>
          </a:p>
        </p:txBody>
      </p:sp>
      <p:sp>
        <p:nvSpPr>
          <p:cNvPr id="298" name="PlaceHolder 2"/>
          <p:cNvSpPr>
            <a:spLocks noGrp="1"/>
          </p:cNvSpPr>
          <p:nvPr>
            <p:ph/>
          </p:nvPr>
        </p:nvSpPr>
        <p:spPr>
          <a:xfrm>
            <a:off x="1625400" y="1523520"/>
            <a:ext cx="782316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Prototipagem Rápida</a:t>
            </a:r>
            <a:endParaRPr b="1" lang="en-US" sz="3200" spc="-1" strike="noStrike">
              <a:solidFill>
                <a:srgbClr val="0000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Menor Tempo de Desenvolvimento e Teste</a:t>
            </a:r>
            <a:endParaRPr b="1" lang="en-US" sz="3200" spc="-1" strike="noStrike">
              <a:solidFill>
                <a:srgbClr val="0000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a:t>
            </a:r>
            <a:r>
              <a:rPr b="1" lang="pt-BR" sz="3200" spc="-1" strike="noStrike">
                <a:solidFill>
                  <a:srgbClr val="000000"/>
                </a:solidFill>
                <a:latin typeface="Arial"/>
              </a:rPr>
              <a:t>Menor Custo” - Fácil Acesso a Ferramentas e Chips Industriais</a:t>
            </a:r>
            <a:endParaRPr b="1" lang="en-US" sz="3200" spc="-1" strike="noStrike">
              <a:solidFill>
                <a:srgbClr val="0000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INOVAÇÃO TECNOLÓGICA</a:t>
            </a:r>
            <a:endParaRPr b="1" lang="en-US" sz="3200" spc="-1" strike="noStrike">
              <a:solidFill>
                <a:srgbClr val="0000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SOLUÇÕES REGIONAIS</a:t>
            </a:r>
            <a:endParaRPr b="1" lang="en-US" sz="3200" spc="-1" strike="noStrike">
              <a:solidFill>
                <a:srgbClr val="0000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INOVAÇÃO E CRIATIVIDADE</a:t>
            </a: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A96E3810-FB01-4307-9A92-FF18740E4D89}" type="slidenum">
              <a:t>51</a:t>
            </a:fld>
          </a:p>
        </p:txBody>
      </p:sp>
      <p:sp>
        <p:nvSpPr>
          <p:cNvPr id="6" name="PlaceHolder 5"/>
          <p:cNvSpPr>
            <a:spLocks noGrp="1"/>
          </p:cNvSpPr>
          <p:nvPr>
            <p:ph type="dt" idx="1"/>
          </p:nvPr>
        </p:nvSpPr>
        <p:spPr/>
        <p:txBody>
          <a:bodyPr/>
          <a:p>
            <a:fld id="{3BFBE8D9-20D8-4F20-B62B-978326D82590}" type="datetime1">
              <a:rPr lang="en-US"/>
              <a:t>07/3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828800" y="228240"/>
            <a:ext cx="7213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Por quê CORE ?</a:t>
            </a:r>
            <a:endParaRPr b="1" lang="en-US" sz="4400" spc="-1" strike="noStrike">
              <a:solidFill>
                <a:srgbClr val="3333cc"/>
              </a:solidFill>
              <a:latin typeface="Times New Roman"/>
            </a:endParaRPr>
          </a:p>
        </p:txBody>
      </p:sp>
      <p:sp>
        <p:nvSpPr>
          <p:cNvPr id="300" name="PlaceHolder 2"/>
          <p:cNvSpPr>
            <a:spLocks noGrp="1"/>
          </p:cNvSpPr>
          <p:nvPr>
            <p:ph/>
          </p:nvPr>
        </p:nvSpPr>
        <p:spPr>
          <a:xfrm>
            <a:off x="1676160" y="1066320"/>
            <a:ext cx="7823160" cy="4953240"/>
          </a:xfrm>
          <a:prstGeom prst="rect">
            <a:avLst/>
          </a:prstGeom>
          <a:noFill/>
          <a:ln w="0">
            <a:noFill/>
          </a:ln>
        </p:spPr>
        <p:txBody>
          <a:bodyPr lIns="92160" rIns="92160" tIns="46080" bIns="46080" anchor="t">
            <a:normAutofit fontScale="98000"/>
          </a:bodyPr>
          <a:p>
            <a:pPr marL="335880" indent="-3358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Melhorar a </a:t>
            </a:r>
            <a:r>
              <a:rPr b="1" lang="pt-BR" sz="2800" spc="-1" strike="noStrike">
                <a:solidFill>
                  <a:srgbClr val="6600cc"/>
                </a:solidFill>
                <a:latin typeface="Arial"/>
              </a:rPr>
              <a:t>performance</a:t>
            </a:r>
            <a:r>
              <a:rPr b="1" lang="pt-BR" sz="2800" spc="-1" strike="noStrike">
                <a:solidFill>
                  <a:srgbClr val="000000"/>
                </a:solidFill>
                <a:latin typeface="Arial"/>
              </a:rPr>
              <a:t> de uma possível implementação em software</a:t>
            </a:r>
            <a:endParaRPr b="1" lang="en-US" sz="2800" spc="-1" strike="noStrike">
              <a:solidFill>
                <a:srgbClr val="000000"/>
              </a:solidFill>
              <a:latin typeface="Arial"/>
            </a:endParaRPr>
          </a:p>
          <a:p>
            <a:pPr lvl="1" marL="727920" indent="-280080">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x. Apps de Processamento de Sinais em hardware configurável</a:t>
            </a:r>
            <a:endParaRPr b="1" lang="en-US" sz="1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5880" indent="-3358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Melhorar a </a:t>
            </a:r>
            <a:r>
              <a:rPr b="1" lang="pt-BR" sz="2800" spc="-1" strike="noStrike">
                <a:solidFill>
                  <a:srgbClr val="6600cc"/>
                </a:solidFill>
                <a:latin typeface="Arial"/>
              </a:rPr>
              <a:t>flexibilidade</a:t>
            </a:r>
            <a:r>
              <a:rPr b="1" lang="pt-BR" sz="2800" spc="-1" strike="noStrike">
                <a:solidFill>
                  <a:srgbClr val="000000"/>
                </a:solidFill>
                <a:latin typeface="Arial"/>
              </a:rPr>
              <a:t> dos produtos quando comparado ao hardware</a:t>
            </a:r>
            <a:endParaRPr b="1" lang="en-US" sz="2800" spc="-1" strike="noStrike">
              <a:solidFill>
                <a:srgbClr val="000000"/>
              </a:solidFill>
              <a:latin typeface="Arial"/>
            </a:endParaRPr>
          </a:p>
          <a:p>
            <a:pPr lvl="1" marL="727920" indent="-280080">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x. Encriptação ou Protocolos de Rede em hardware reconfigurável</a:t>
            </a:r>
            <a:endParaRPr b="1" lang="en-US" sz="18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35880" indent="-3358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6600cc"/>
                </a:solidFill>
                <a:latin typeface="Arial"/>
              </a:rPr>
              <a:t>Utilizar o mesmo hardware para diferentes propósitos</a:t>
            </a:r>
            <a:r>
              <a:rPr b="1" lang="pt-BR" sz="2800" spc="-1" strike="noStrike">
                <a:solidFill>
                  <a:srgbClr val="000000"/>
                </a:solidFill>
                <a:latin typeface="Arial"/>
              </a:rPr>
              <a:t> em diferentes pontos, níveis e necessidades da computação</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91D5E6E5-3A21-43F8-A784-7EF88CF46F06}" type="slidenum">
              <a:t>52</a:t>
            </a:fld>
          </a:p>
        </p:txBody>
      </p:sp>
      <p:sp>
        <p:nvSpPr>
          <p:cNvPr id="6" name="PlaceHolder 5"/>
          <p:cNvSpPr>
            <a:spLocks noGrp="1"/>
          </p:cNvSpPr>
          <p:nvPr>
            <p:ph type="dt" idx="1"/>
          </p:nvPr>
        </p:nvSpPr>
        <p:spPr/>
        <p:txBody>
          <a:bodyPr/>
          <a:p>
            <a:fld id="{97437C5C-39B9-4970-9EC4-0B152E65652F}" type="datetime1">
              <a:rPr lang="en-US"/>
              <a:t>07/3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txBox="1"/>
          <p:nvPr/>
        </p:nvSpPr>
        <p:spPr>
          <a:xfrm>
            <a:off x="2286000" y="762120"/>
            <a:ext cx="6477120" cy="4876560"/>
          </a:xfrm>
          <a:prstGeom prst="rect">
            <a:avLst/>
          </a:prstGeom>
        </p:spPr>
        <p:txBody>
          <a:bodyPr wrap="none" lIns="91800" rIns="91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Aplicaçõe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Quais e Ond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2" name="PlaceHolder 1"/>
          <p:cNvSpPr>
            <a:spLocks noGrp="1"/>
          </p:cNvSpPr>
          <p:nvPr>
            <p:ph type="ftr" idx="2"/>
          </p:nvPr>
        </p:nvSpPr>
        <p:spPr/>
        <p:txBody>
          <a:bodyPr/>
          <a:p>
            <a:r>
              <a:t>Carlos Augusto P. S. Martins - Edward David Moreno - SCR'2001</a:t>
            </a:r>
          </a:p>
        </p:txBody>
      </p:sp>
      <p:sp>
        <p:nvSpPr>
          <p:cNvPr id="3" name="PlaceHolder 2"/>
          <p:cNvSpPr>
            <a:spLocks noGrp="1"/>
          </p:cNvSpPr>
          <p:nvPr>
            <p:ph type="sldNum" idx="3"/>
          </p:nvPr>
        </p:nvSpPr>
        <p:spPr/>
        <p:txBody>
          <a:bodyPr/>
          <a:p>
            <a:fld id="{EABEEA00-B4A9-4EBE-A2C0-105A1C827588}" type="slidenum">
              <a:t>53</a:t>
            </a:fld>
          </a:p>
        </p:txBody>
      </p:sp>
      <p:sp>
        <p:nvSpPr>
          <p:cNvPr id="4" name="PlaceHolder 3"/>
          <p:cNvSpPr>
            <a:spLocks noGrp="1"/>
          </p:cNvSpPr>
          <p:nvPr>
            <p:ph type="dt" idx="1"/>
          </p:nvPr>
        </p:nvSpPr>
        <p:spPr/>
        <p:txBody>
          <a:bodyPr/>
          <a:p>
            <a:fld id="{13B01859-C07D-4360-9B41-3AF634DAC9EE}" type="datetime1">
              <a:rPr lang="en-US"/>
              <a:t>07/3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Pattern_Match" descr=""/>
          <p:cNvPicPr/>
          <p:nvPr/>
        </p:nvPicPr>
        <p:blipFill>
          <a:blip r:embed="rId1"/>
          <a:stretch/>
        </p:blipFill>
        <p:spPr>
          <a:xfrm>
            <a:off x="1905120" y="1676520"/>
            <a:ext cx="7619760" cy="4663800"/>
          </a:xfrm>
          <a:prstGeom prst="rect">
            <a:avLst/>
          </a:prstGeom>
          <a:ln w="0">
            <a:noFill/>
          </a:ln>
        </p:spPr>
      </p:pic>
      <p:sp>
        <p:nvSpPr>
          <p:cNvPr id="303" name="PlaceHolder 1"/>
          <p:cNvSpPr>
            <a:spLocks noGrp="1"/>
          </p:cNvSpPr>
          <p:nvPr>
            <p:ph type="title"/>
          </p:nvPr>
        </p:nvSpPr>
        <p:spPr>
          <a:xfrm>
            <a:off x="1752120" y="457200"/>
            <a:ext cx="736596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aração entre Padrões</a:t>
            </a:r>
            <a:endParaRPr b="1" lang="en-US" sz="4400" spc="-1" strike="noStrike">
              <a:solidFill>
                <a:srgbClr val="3333cc"/>
              </a:solidFill>
              <a:latin typeface="Times New Roman"/>
            </a:endParaRPr>
          </a:p>
        </p:txBody>
      </p:sp>
      <p:sp>
        <p:nvSpPr>
          <p:cNvPr id="3" name="PlaceHolder 2"/>
          <p:cNvSpPr>
            <a:spLocks noGrp="1"/>
          </p:cNvSpPr>
          <p:nvPr>
            <p:ph type="ftr" idx="2"/>
          </p:nvPr>
        </p:nvSpPr>
        <p:spPr/>
        <p:txBody>
          <a:bodyPr/>
          <a:p>
            <a:r>
              <a:t>Carlos Augusto P. S. Martins - Edward David Moreno - SCR'2001</a:t>
            </a:r>
          </a:p>
        </p:txBody>
      </p:sp>
      <p:sp>
        <p:nvSpPr>
          <p:cNvPr id="4" name="PlaceHolder 3"/>
          <p:cNvSpPr>
            <a:spLocks noGrp="1"/>
          </p:cNvSpPr>
          <p:nvPr>
            <p:ph type="sldNum" idx="3"/>
          </p:nvPr>
        </p:nvSpPr>
        <p:spPr/>
        <p:txBody>
          <a:bodyPr/>
          <a:p>
            <a:fld id="{A7BEF34C-5DE3-40AF-989F-589954818800}" type="slidenum">
              <a:t>54</a:t>
            </a:fld>
          </a:p>
        </p:txBody>
      </p:sp>
      <p:sp>
        <p:nvSpPr>
          <p:cNvPr id="5" name="PlaceHolder 4"/>
          <p:cNvSpPr>
            <a:spLocks noGrp="1"/>
          </p:cNvSpPr>
          <p:nvPr>
            <p:ph type="dt" idx="1"/>
          </p:nvPr>
        </p:nvSpPr>
        <p:spPr/>
        <p:txBody>
          <a:bodyPr/>
          <a:p>
            <a:fld id="{242702AC-400E-4357-9086-1CD78FE83BAC}" type="datetime1">
              <a:rPr lang="en-US"/>
              <a:t>07/3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Video_communications" descr=""/>
          <p:cNvPicPr/>
          <p:nvPr/>
        </p:nvPicPr>
        <p:blipFill>
          <a:blip r:embed="rId1"/>
          <a:stretch/>
        </p:blipFill>
        <p:spPr>
          <a:xfrm>
            <a:off x="1676520" y="1752480"/>
            <a:ext cx="7772400" cy="4165560"/>
          </a:xfrm>
          <a:prstGeom prst="rect">
            <a:avLst/>
          </a:prstGeom>
          <a:ln w="0">
            <a:noFill/>
          </a:ln>
        </p:spPr>
      </p:pic>
      <p:sp>
        <p:nvSpPr>
          <p:cNvPr id="305" name="PlaceHolder 1"/>
          <p:cNvSpPr>
            <a:spLocks noGrp="1"/>
          </p:cNvSpPr>
          <p:nvPr>
            <p:ph type="title"/>
          </p:nvPr>
        </p:nvSpPr>
        <p:spPr>
          <a:xfrm>
            <a:off x="1625400" y="228240"/>
            <a:ext cx="72896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Sistemas para Comunicações de Vídeo</a:t>
            </a:r>
            <a:endParaRPr b="1" lang="en-US" sz="4400" spc="-1" strike="noStrike">
              <a:solidFill>
                <a:srgbClr val="3333cc"/>
              </a:solidFill>
              <a:latin typeface="Times New Roman"/>
            </a:endParaRPr>
          </a:p>
        </p:txBody>
      </p:sp>
      <p:sp>
        <p:nvSpPr>
          <p:cNvPr id="3" name="PlaceHolder 2"/>
          <p:cNvSpPr>
            <a:spLocks noGrp="1"/>
          </p:cNvSpPr>
          <p:nvPr>
            <p:ph type="ftr" idx="2"/>
          </p:nvPr>
        </p:nvSpPr>
        <p:spPr/>
        <p:txBody>
          <a:bodyPr/>
          <a:p>
            <a:r>
              <a:t>Carlos Augusto P. S. Martins - Edward David Moreno - SCR'2001</a:t>
            </a:r>
          </a:p>
        </p:txBody>
      </p:sp>
      <p:sp>
        <p:nvSpPr>
          <p:cNvPr id="4" name="PlaceHolder 3"/>
          <p:cNvSpPr>
            <a:spLocks noGrp="1"/>
          </p:cNvSpPr>
          <p:nvPr>
            <p:ph type="sldNum" idx="3"/>
          </p:nvPr>
        </p:nvSpPr>
        <p:spPr/>
        <p:txBody>
          <a:bodyPr/>
          <a:p>
            <a:fld id="{C8A351CC-7265-4D4E-B475-91BA22A33824}" type="slidenum">
              <a:t>55</a:t>
            </a:fld>
          </a:p>
        </p:txBody>
      </p:sp>
      <p:sp>
        <p:nvSpPr>
          <p:cNvPr id="5" name="PlaceHolder 4"/>
          <p:cNvSpPr>
            <a:spLocks noGrp="1"/>
          </p:cNvSpPr>
          <p:nvPr>
            <p:ph type="dt" idx="1"/>
          </p:nvPr>
        </p:nvSpPr>
        <p:spPr/>
        <p:txBody>
          <a:bodyPr/>
          <a:p>
            <a:fld id="{4071A417-A065-44A4-97A8-0D2BFFEF76AD}" type="datetime1">
              <a:rPr lang="en-US"/>
              <a:t>07/30/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sonar" descr=""/>
          <p:cNvPicPr/>
          <p:nvPr/>
        </p:nvPicPr>
        <p:blipFill>
          <a:blip r:embed="rId1"/>
          <a:stretch/>
        </p:blipFill>
        <p:spPr>
          <a:xfrm>
            <a:off x="1905120" y="1600200"/>
            <a:ext cx="7543800" cy="4635360"/>
          </a:xfrm>
          <a:prstGeom prst="rect">
            <a:avLst/>
          </a:prstGeom>
          <a:ln w="0">
            <a:noFill/>
          </a:ln>
        </p:spPr>
      </p:pic>
      <p:sp>
        <p:nvSpPr>
          <p:cNvPr id="307" name="PlaceHolder 1"/>
          <p:cNvSpPr>
            <a:spLocks noGrp="1"/>
          </p:cNvSpPr>
          <p:nvPr>
            <p:ph type="title"/>
          </p:nvPr>
        </p:nvSpPr>
        <p:spPr>
          <a:xfrm>
            <a:off x="2133360" y="380880"/>
            <a:ext cx="683244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Sonar Passivo</a:t>
            </a:r>
            <a:endParaRPr b="1" lang="en-US" sz="4400" spc="-1" strike="noStrike">
              <a:solidFill>
                <a:srgbClr val="3333cc"/>
              </a:solidFill>
              <a:latin typeface="Times New Roman"/>
            </a:endParaRPr>
          </a:p>
        </p:txBody>
      </p:sp>
      <p:sp>
        <p:nvSpPr>
          <p:cNvPr id="3" name="PlaceHolder 2"/>
          <p:cNvSpPr>
            <a:spLocks noGrp="1"/>
          </p:cNvSpPr>
          <p:nvPr>
            <p:ph type="ftr" idx="2"/>
          </p:nvPr>
        </p:nvSpPr>
        <p:spPr/>
        <p:txBody>
          <a:bodyPr/>
          <a:p>
            <a:r>
              <a:t>Carlos Augusto P. S. Martins - Edward David Moreno - SCR'2001</a:t>
            </a:r>
          </a:p>
        </p:txBody>
      </p:sp>
      <p:sp>
        <p:nvSpPr>
          <p:cNvPr id="4" name="PlaceHolder 3"/>
          <p:cNvSpPr>
            <a:spLocks noGrp="1"/>
          </p:cNvSpPr>
          <p:nvPr>
            <p:ph type="sldNum" idx="3"/>
          </p:nvPr>
        </p:nvSpPr>
        <p:spPr/>
        <p:txBody>
          <a:bodyPr/>
          <a:p>
            <a:fld id="{BB9149EC-C072-41EB-A41C-8417075DCDF4}" type="slidenum">
              <a:t>56</a:t>
            </a:fld>
          </a:p>
        </p:txBody>
      </p:sp>
      <p:sp>
        <p:nvSpPr>
          <p:cNvPr id="5" name="PlaceHolder 4"/>
          <p:cNvSpPr>
            <a:spLocks noGrp="1"/>
          </p:cNvSpPr>
          <p:nvPr>
            <p:ph type="dt" idx="1"/>
          </p:nvPr>
        </p:nvSpPr>
        <p:spPr/>
        <p:txBody>
          <a:bodyPr/>
          <a:p>
            <a:fld id="{06518032-56F7-4EA2-BA96-7ABCEC29C267}" type="datetime1">
              <a:rPr lang="en-US"/>
              <a:t>07/30/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encripta" descr=""/>
          <p:cNvPicPr/>
          <p:nvPr/>
        </p:nvPicPr>
        <p:blipFill>
          <a:blip r:embed="rId1"/>
          <a:stretch/>
        </p:blipFill>
        <p:spPr>
          <a:xfrm>
            <a:off x="1828800" y="1447920"/>
            <a:ext cx="7620120" cy="4787640"/>
          </a:xfrm>
          <a:prstGeom prst="rect">
            <a:avLst/>
          </a:prstGeom>
          <a:ln w="0">
            <a:noFill/>
          </a:ln>
        </p:spPr>
      </p:pic>
      <p:sp>
        <p:nvSpPr>
          <p:cNvPr id="309"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Encriptação/Des-encriptação</a:t>
            </a:r>
            <a:endParaRPr b="1" lang="en-US" sz="4400" spc="-1" strike="noStrike">
              <a:solidFill>
                <a:srgbClr val="3333cc"/>
              </a:solidFill>
              <a:latin typeface="Times New Roman"/>
            </a:endParaRPr>
          </a:p>
        </p:txBody>
      </p:sp>
      <p:sp>
        <p:nvSpPr>
          <p:cNvPr id="3" name="PlaceHolder 2"/>
          <p:cNvSpPr>
            <a:spLocks noGrp="1"/>
          </p:cNvSpPr>
          <p:nvPr>
            <p:ph type="ftr" idx="2"/>
          </p:nvPr>
        </p:nvSpPr>
        <p:spPr/>
        <p:txBody>
          <a:bodyPr/>
          <a:p>
            <a:r>
              <a:t>Carlos Augusto P. S. Martins - Edward David Moreno - SCR'2001</a:t>
            </a:r>
          </a:p>
        </p:txBody>
      </p:sp>
      <p:sp>
        <p:nvSpPr>
          <p:cNvPr id="4" name="PlaceHolder 3"/>
          <p:cNvSpPr>
            <a:spLocks noGrp="1"/>
          </p:cNvSpPr>
          <p:nvPr>
            <p:ph type="sldNum" idx="3"/>
          </p:nvPr>
        </p:nvSpPr>
        <p:spPr/>
        <p:txBody>
          <a:bodyPr/>
          <a:p>
            <a:fld id="{66F7DF8B-9382-4FF6-96ED-67F1C590F9F3}" type="slidenum">
              <a:t>57</a:t>
            </a:fld>
          </a:p>
        </p:txBody>
      </p:sp>
      <p:sp>
        <p:nvSpPr>
          <p:cNvPr id="5" name="PlaceHolder 4"/>
          <p:cNvSpPr>
            <a:spLocks noGrp="1"/>
          </p:cNvSpPr>
          <p:nvPr>
            <p:ph type="dt" idx="1"/>
          </p:nvPr>
        </p:nvSpPr>
        <p:spPr/>
        <p:txBody>
          <a:bodyPr/>
          <a:p>
            <a:fld id="{C00D0A1D-12AF-4827-A1C8-75F9586CA2AA}" type="datetime1">
              <a:rPr lang="en-US"/>
              <a:t>07/30/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ATR" descr=""/>
          <p:cNvPicPr/>
          <p:nvPr/>
        </p:nvPicPr>
        <p:blipFill>
          <a:blip r:embed="rId1"/>
          <a:stretch/>
        </p:blipFill>
        <p:spPr>
          <a:xfrm>
            <a:off x="1752480" y="1523880"/>
            <a:ext cx="7696440" cy="4191120"/>
          </a:xfrm>
          <a:prstGeom prst="rect">
            <a:avLst/>
          </a:prstGeom>
          <a:ln w="0">
            <a:noFill/>
          </a:ln>
        </p:spPr>
      </p:pic>
      <p:sp>
        <p:nvSpPr>
          <p:cNvPr id="311"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Reconhecimento de Padrões</a:t>
            </a:r>
            <a:endParaRPr b="1" lang="en-US" sz="4400" spc="-1" strike="noStrike">
              <a:solidFill>
                <a:srgbClr val="3333cc"/>
              </a:solidFill>
              <a:latin typeface="Times New Roman"/>
            </a:endParaRPr>
          </a:p>
        </p:txBody>
      </p:sp>
      <p:sp>
        <p:nvSpPr>
          <p:cNvPr id="3" name="PlaceHolder 2"/>
          <p:cNvSpPr>
            <a:spLocks noGrp="1"/>
          </p:cNvSpPr>
          <p:nvPr>
            <p:ph type="ftr" idx="2"/>
          </p:nvPr>
        </p:nvSpPr>
        <p:spPr/>
        <p:txBody>
          <a:bodyPr/>
          <a:p>
            <a:r>
              <a:t>Carlos Augusto P. S. Martins - Edward David Moreno - SCR'2001</a:t>
            </a:r>
          </a:p>
        </p:txBody>
      </p:sp>
      <p:sp>
        <p:nvSpPr>
          <p:cNvPr id="4" name="PlaceHolder 3"/>
          <p:cNvSpPr>
            <a:spLocks noGrp="1"/>
          </p:cNvSpPr>
          <p:nvPr>
            <p:ph type="sldNum" idx="3"/>
          </p:nvPr>
        </p:nvSpPr>
        <p:spPr/>
        <p:txBody>
          <a:bodyPr/>
          <a:p>
            <a:fld id="{6FCFC70E-4FEC-4CDB-B776-709074B6C0FF}" type="slidenum">
              <a:t>58</a:t>
            </a:fld>
          </a:p>
        </p:txBody>
      </p:sp>
      <p:sp>
        <p:nvSpPr>
          <p:cNvPr id="5" name="PlaceHolder 4"/>
          <p:cNvSpPr>
            <a:spLocks noGrp="1"/>
          </p:cNvSpPr>
          <p:nvPr>
            <p:ph type="dt" idx="1"/>
          </p:nvPr>
        </p:nvSpPr>
        <p:spPr/>
        <p:txBody>
          <a:bodyPr/>
          <a:p>
            <a:fld id="{A4679C78-E44F-4836-843E-EAA7567FE503}" type="datetime1">
              <a:rPr lang="en-US"/>
              <a:t>07/30/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2133720" y="2590920"/>
            <a:ext cx="7162560" cy="2327040"/>
          </a:xfrm>
          <a:prstGeom prst="rect">
            <a:avLst/>
          </a:prstGeom>
          <a:ln w="0">
            <a:noFill/>
          </a:ln>
        </p:spPr>
      </p:pic>
      <p:sp>
        <p:nvSpPr>
          <p:cNvPr id="313"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Impressão Digital</a:t>
            </a:r>
            <a:endParaRPr b="1" lang="en-US" sz="4400" spc="-1" strike="noStrike">
              <a:solidFill>
                <a:srgbClr val="3333cc"/>
              </a:solidFill>
              <a:latin typeface="Times New Roman"/>
            </a:endParaRPr>
          </a:p>
        </p:txBody>
      </p:sp>
      <p:sp>
        <p:nvSpPr>
          <p:cNvPr id="3" name="PlaceHolder 2"/>
          <p:cNvSpPr>
            <a:spLocks noGrp="1"/>
          </p:cNvSpPr>
          <p:nvPr>
            <p:ph type="ftr" idx="2"/>
          </p:nvPr>
        </p:nvSpPr>
        <p:spPr/>
        <p:txBody>
          <a:bodyPr/>
          <a:p>
            <a:r>
              <a:t>Carlos Augusto P. S. Martins - Edward David Moreno - SCR'2001</a:t>
            </a:r>
          </a:p>
        </p:txBody>
      </p:sp>
      <p:sp>
        <p:nvSpPr>
          <p:cNvPr id="4" name="PlaceHolder 3"/>
          <p:cNvSpPr>
            <a:spLocks noGrp="1"/>
          </p:cNvSpPr>
          <p:nvPr>
            <p:ph type="sldNum" idx="3"/>
          </p:nvPr>
        </p:nvSpPr>
        <p:spPr/>
        <p:txBody>
          <a:bodyPr/>
          <a:p>
            <a:fld id="{9785A0EF-C950-4EFF-AEE6-F24B5C8AB2F7}" type="slidenum">
              <a:t>59</a:t>
            </a:fld>
          </a:p>
        </p:txBody>
      </p:sp>
      <p:sp>
        <p:nvSpPr>
          <p:cNvPr id="5" name="PlaceHolder 4"/>
          <p:cNvSpPr>
            <a:spLocks noGrp="1"/>
          </p:cNvSpPr>
          <p:nvPr>
            <p:ph type="dt" idx="1"/>
          </p:nvPr>
        </p:nvSpPr>
        <p:spPr/>
        <p:txBody>
          <a:bodyPr/>
          <a:p>
            <a:fld id="{E1B8AD1E-71BE-4165-904A-0C9569E6982F}"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 Introdução</a:t>
            </a:r>
            <a:endParaRPr b="1" lang="en-US" sz="4400" spc="-1" strike="noStrike">
              <a:solidFill>
                <a:srgbClr val="3333cc"/>
              </a:solidFill>
              <a:latin typeface="Times New Roman"/>
            </a:endParaRPr>
          </a:p>
        </p:txBody>
      </p:sp>
      <p:sp>
        <p:nvSpPr>
          <p:cNvPr id="188" name="PlaceHolder 2"/>
          <p:cNvSpPr>
            <a:spLocks noGrp="1"/>
          </p:cNvSpPr>
          <p:nvPr>
            <p:ph/>
          </p:nvPr>
        </p:nvSpPr>
        <p:spPr>
          <a:xfrm>
            <a:off x="1625400" y="1523520"/>
            <a:ext cx="8234280" cy="4714920"/>
          </a:xfrm>
          <a:prstGeom prst="rect">
            <a:avLst/>
          </a:prstGeom>
          <a:noFill/>
          <a:ln w="0">
            <a:noFill/>
          </a:ln>
        </p:spPr>
        <p:txBody>
          <a:bodyPr lIns="92160" rIns="92160" tIns="46080" bIns="46080" anchor="t">
            <a:normAutofit fontScale="98000"/>
          </a:bodyPr>
          <a:p>
            <a:pPr marL="335880" indent="-3358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Quais são as principais vantagens e desvantagens dos modelos de computação existentes ? </a:t>
            </a:r>
            <a:endParaRPr b="1" lang="en-US" sz="3200" spc="-1" strike="noStrike">
              <a:solidFill>
                <a:srgbClr val="000000"/>
              </a:solidFill>
              <a:latin typeface="Arial"/>
            </a:endParaRPr>
          </a:p>
          <a:p>
            <a:pPr marL="335880" indent="-3358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Existe necessidade de desenvolver-se novos modelos de computação ? E quais são as características desejáveis desses novos modelos ?</a:t>
            </a:r>
            <a:endParaRPr b="1"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35880" indent="-3358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Existe motivação ?</a:t>
            </a: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D892C04B-3AED-40FF-A165-97DDB7C16FF6}" type="slidenum">
              <a:t>6</a:t>
            </a:fld>
          </a:p>
        </p:txBody>
      </p:sp>
      <p:sp>
        <p:nvSpPr>
          <p:cNvPr id="6" name="PlaceHolder 5"/>
          <p:cNvSpPr>
            <a:spLocks noGrp="1"/>
          </p:cNvSpPr>
          <p:nvPr>
            <p:ph type="dt" idx="1"/>
          </p:nvPr>
        </p:nvSpPr>
        <p:spPr/>
        <p:txBody>
          <a:bodyPr/>
          <a:p>
            <a:fld id="{94D86DC5-4D87-4685-98D2-14AA6918B801}" type="datetime1">
              <a:rPr lang="en-US"/>
              <a:t>07/30/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825120" y="-36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âmera com movimento</a:t>
            </a:r>
            <a:endParaRPr b="1" lang="en-US" sz="4400" spc="-1" strike="noStrike">
              <a:solidFill>
                <a:srgbClr val="3333cc"/>
              </a:solidFill>
              <a:latin typeface="Times New Roman"/>
            </a:endParaRPr>
          </a:p>
        </p:txBody>
      </p:sp>
      <p:pic>
        <p:nvPicPr>
          <p:cNvPr id="315" name="camera" descr=""/>
          <p:cNvPicPr/>
          <p:nvPr/>
        </p:nvPicPr>
        <p:blipFill>
          <a:blip r:embed="rId1"/>
          <a:stretch/>
        </p:blipFill>
        <p:spPr>
          <a:xfrm>
            <a:off x="1600200" y="1371600"/>
            <a:ext cx="7848720" cy="4483080"/>
          </a:xfrm>
          <a:prstGeom prst="rect">
            <a:avLst/>
          </a:prstGeom>
          <a:ln w="0">
            <a:noFill/>
          </a:ln>
        </p:spPr>
      </p:pic>
      <p:sp>
        <p:nvSpPr>
          <p:cNvPr id="3" name="PlaceHolder 2"/>
          <p:cNvSpPr>
            <a:spLocks noGrp="1"/>
          </p:cNvSpPr>
          <p:nvPr>
            <p:ph type="ftr" idx="2"/>
          </p:nvPr>
        </p:nvSpPr>
        <p:spPr/>
        <p:txBody>
          <a:bodyPr/>
          <a:p>
            <a:r>
              <a:t>Carlos Augusto P. S. Martins - Edward David Moreno - SCR'2001</a:t>
            </a:r>
          </a:p>
        </p:txBody>
      </p:sp>
      <p:sp>
        <p:nvSpPr>
          <p:cNvPr id="4" name="PlaceHolder 3"/>
          <p:cNvSpPr>
            <a:spLocks noGrp="1"/>
          </p:cNvSpPr>
          <p:nvPr>
            <p:ph type="sldNum" idx="3"/>
          </p:nvPr>
        </p:nvSpPr>
        <p:spPr/>
        <p:txBody>
          <a:bodyPr/>
          <a:p>
            <a:fld id="{FE6B51AB-29B2-4600-AD14-4D9AC64B36A4}" type="slidenum">
              <a:t>60</a:t>
            </a:fld>
          </a:p>
        </p:txBody>
      </p:sp>
      <p:sp>
        <p:nvSpPr>
          <p:cNvPr id="5" name="PlaceHolder 4"/>
          <p:cNvSpPr>
            <a:spLocks noGrp="1"/>
          </p:cNvSpPr>
          <p:nvPr>
            <p:ph type="dt" idx="1"/>
          </p:nvPr>
        </p:nvSpPr>
        <p:spPr/>
        <p:txBody>
          <a:bodyPr/>
          <a:p>
            <a:fld id="{31D9F02B-D5E8-4CA0-A79D-0DC93A3ACB5D}" type="datetime1">
              <a:rPr lang="en-US"/>
              <a:t>07/30/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txBox="1"/>
          <p:nvPr/>
        </p:nvSpPr>
        <p:spPr>
          <a:xfrm>
            <a:off x="2438280" y="990720"/>
            <a:ext cx="5867640" cy="3886200"/>
          </a:xfrm>
          <a:prstGeom prst="rect">
            <a:avLst/>
          </a:prstGeom>
        </p:spPr>
        <p:txBody>
          <a:bodyPr wrap="none" lIns="91800" rIns="91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Transformada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e Filtro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2" name="PlaceHolder 1"/>
          <p:cNvSpPr>
            <a:spLocks noGrp="1"/>
          </p:cNvSpPr>
          <p:nvPr>
            <p:ph type="ftr" idx="2"/>
          </p:nvPr>
        </p:nvSpPr>
        <p:spPr/>
        <p:txBody>
          <a:bodyPr/>
          <a:p>
            <a:r>
              <a:t>Carlos Augusto P. S. Martins - Edward David Moreno - SCR'2001</a:t>
            </a:r>
          </a:p>
        </p:txBody>
      </p:sp>
      <p:sp>
        <p:nvSpPr>
          <p:cNvPr id="3" name="PlaceHolder 2"/>
          <p:cNvSpPr>
            <a:spLocks noGrp="1"/>
          </p:cNvSpPr>
          <p:nvPr>
            <p:ph type="sldNum" idx="3"/>
          </p:nvPr>
        </p:nvSpPr>
        <p:spPr/>
        <p:txBody>
          <a:bodyPr/>
          <a:p>
            <a:fld id="{457B8C25-D227-49E0-81E8-5DC2EE44FE45}" type="slidenum">
              <a:t>61</a:t>
            </a:fld>
          </a:p>
        </p:txBody>
      </p:sp>
      <p:sp>
        <p:nvSpPr>
          <p:cNvPr id="4" name="PlaceHolder 3"/>
          <p:cNvSpPr>
            <a:spLocks noGrp="1"/>
          </p:cNvSpPr>
          <p:nvPr>
            <p:ph type="dt" idx="1"/>
          </p:nvPr>
        </p:nvSpPr>
        <p:spPr/>
        <p:txBody>
          <a:bodyPr/>
          <a:p>
            <a:fld id="{36A2FE51-6992-40D0-A843-0C3C0FA6AE82}" type="datetime1">
              <a:rPr lang="en-US"/>
              <a:t>07/30/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33cc"/>
                </a:solidFill>
                <a:latin typeface="Times New Roman"/>
                <a:ea typeface="Times New Roman"/>
              </a:rPr>
              <a:t>Transformada de Fourier</a:t>
            </a:r>
            <a:r>
              <a:rPr b="1" lang="pt-BR" sz="4400" spc="-1" strike="noStrike">
                <a:solidFill>
                  <a:srgbClr val="3333cc"/>
                </a:solidFill>
                <a:latin typeface="Times New Roman"/>
              </a:rPr>
              <a:t> </a:t>
            </a:r>
            <a:endParaRPr b="1" lang="en-US" sz="4400" spc="-1" strike="noStrike">
              <a:solidFill>
                <a:srgbClr val="3333cc"/>
              </a:solidFill>
              <a:latin typeface="Times New Roman"/>
            </a:endParaRPr>
          </a:p>
        </p:txBody>
      </p:sp>
      <p:sp>
        <p:nvSpPr>
          <p:cNvPr id="318" name="PlaceHolder 2"/>
          <p:cNvSpPr>
            <a:spLocks noGrp="1"/>
          </p:cNvSpPr>
          <p:nvPr>
            <p:ph/>
          </p:nvPr>
        </p:nvSpPr>
        <p:spPr>
          <a:xfrm>
            <a:off x="1828800" y="1600200"/>
            <a:ext cx="7848720" cy="457200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Times New Roman"/>
              </a:rPr>
              <a:t>Na freqüência é possível pois parâmetros da senóide: amplitude e freqüência.</a:t>
            </a:r>
            <a:r>
              <a:rPr b="1" lang="pt-BR"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Times New Roman"/>
              </a:rPr>
              <a:t>Construir filtros: remova/aumenta ruídos na  freqüências em imagens ou sinais - efeitos de realce ou de restauração</a:t>
            </a:r>
            <a:r>
              <a:rPr b="1" lang="pt-BR"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A Transformada de Fourier Discreta (2D)</a:t>
            </a:r>
            <a:endParaRPr b="1" lang="en-US" sz="2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2057400" y="4800600"/>
                <a:ext cx="7099200" cy="903240"/>
              </a:xfrm>
              <a:prstGeom prst="rect">
                <a:avLst/>
              </a:prstGeom>
            </p:spPr>
            <p:txBody>
              <a:bodyPr/>
              <a:p>
                <a14:m>
                  <m:oMath xmlns:m="http://schemas.openxmlformats.org/officeDocument/2006/math">
                    <m:r>
                      <m:t xml:space="preserve">F</m:t>
                    </m:r>
                    <m:r>
                      <m:t xml:space="preserve">(</m:t>
                    </m:r>
                    <m:r>
                      <m:t xml:space="preserve">u</m:t>
                    </m:r>
                    <m:r>
                      <m:t xml:space="preserve">,</m:t>
                    </m:r>
                    <m:r>
                      <m:t xml:space="preserve">v</m:t>
                    </m:r>
                    <m:r>
                      <m:t xml:space="preserve">)</m:t>
                    </m:r>
                    <m:r>
                      <m:t xml:space="preserve">=</m:t>
                    </m:r>
                    <m:f>
                      <m:num>
                        <m:r>
                          <m:t xml:space="preserve">1</m:t>
                        </m:r>
                      </m:num>
                      <m:den>
                        <m:r>
                          <m:rPr>
                            <m:lit/>
                            <m:nor/>
                          </m:rPr>
                          <m:t xml:space="preserve">MN</m:t>
                        </m:r>
                      </m:den>
                    </m:f>
                    <m:nary>
                      <m:naryPr>
                        <m:chr m:val="∑"/>
                      </m:naryPr>
                      <m:sub>
                        <m:r>
                          <m:t xml:space="preserve">x</m:t>
                        </m:r>
                        <m:r>
                          <m:t xml:space="preserve">=</m:t>
                        </m:r>
                        <m:r>
                          <m:t xml:space="preserve">0</m:t>
                        </m:r>
                      </m:sub>
                      <m:sup>
                        <m:r>
                          <m:t xml:space="preserve">M</m:t>
                        </m:r>
                        <m:r>
                          <m:t xml:space="preserve">−</m:t>
                        </m:r>
                        <m:r>
                          <m:t xml:space="preserve">1</m:t>
                        </m:r>
                      </m:sup>
                      <m:e/>
                    </m:nary>
                    <m:nary>
                      <m:naryPr>
                        <m:chr m:val="∑"/>
                      </m:naryPr>
                      <m:sub>
                        <m:r>
                          <m:t xml:space="preserve">y</m:t>
                        </m:r>
                        <m:r>
                          <m:t xml:space="preserve">=</m:t>
                        </m:r>
                        <m:r>
                          <m:t xml:space="preserve">0</m:t>
                        </m:r>
                      </m:sub>
                      <m:sup>
                        <m:r>
                          <m:t xml:space="preserve">N</m:t>
                        </m:r>
                        <m:r>
                          <m:t xml:space="preserve">−</m:t>
                        </m:r>
                        <m:r>
                          <m:t xml:space="preserve">1</m:t>
                        </m:r>
                      </m:sup>
                      <m:e>
                        <m:r>
                          <m:t xml:space="preserve">f</m:t>
                        </m:r>
                        <m:r>
                          <m:t xml:space="preserve">(</m:t>
                        </m:r>
                        <m:r>
                          <m:t xml:space="preserve">x</m:t>
                        </m:r>
                        <m:r>
                          <m:t xml:space="preserve">,</m:t>
                        </m:r>
                        <m:r>
                          <m:t xml:space="preserve">y</m:t>
                        </m:r>
                        <m:r>
                          <m:t xml:space="preserve">)</m:t>
                        </m:r>
                        <m:r>
                          <m:rPr>
                            <m:lit/>
                            <m:nor/>
                          </m:rPr>
                          <m:t xml:space="preserve">exp</m:t>
                        </m:r>
                        <m:r>
                          <m:t xml:space="preserve">[</m:t>
                        </m:r>
                        <m:r>
                          <m:t xml:space="preserve">−</m:t>
                        </m:r>
                        <m:r>
                          <m:t xml:space="preserve">j</m:t>
                        </m:r>
                        <m:r>
                          <m:t xml:space="preserve">2</m:t>
                        </m:r>
                        <m:r>
                          <m:t xml:space="preserve">p</m:t>
                        </m:r>
                        <m:r>
                          <m:t xml:space="preserve">(</m:t>
                        </m:r>
                        <m:r>
                          <m:rPr>
                            <m:lit/>
                            <m:nor/>
                          </m:rPr>
                          <m:t xml:space="preserve">ux</m:t>
                        </m:r>
                        <m:r>
                          <m:t xml:space="preserve">M</m:t>
                        </m:r>
                        <m:r>
                          <m:t xml:space="preserve">+</m:t>
                        </m:r>
                        <m:r>
                          <m:rPr>
                            <m:lit/>
                            <m:nor/>
                          </m:rPr>
                          <m:t xml:space="preserve">vy</m:t>
                        </m:r>
                        <m:r>
                          <m:t xml:space="preserve">N</m:t>
                        </m:r>
                        <m:r>
                          <m:t xml:space="preserve">)</m:t>
                        </m:r>
                        <m:r>
                          <m:t xml:space="preserve">]</m:t>
                        </m:r>
                      </m:e>
                    </m:nary>
                  </m:oMath>
                </a14:m>
              </a:p>
            </p:txBody>
          </p:sp>
        </mc:Choice>
        <mc:Fallback/>
      </mc:AlternateContent>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B49E7F7E-CBF9-4B4E-85CF-474FD17BAF1C}" type="slidenum">
              <a:t>62</a:t>
            </a:fld>
          </a:p>
        </p:txBody>
      </p:sp>
      <p:sp>
        <p:nvSpPr>
          <p:cNvPr id="6" name="PlaceHolder 5"/>
          <p:cNvSpPr>
            <a:spLocks noGrp="1"/>
          </p:cNvSpPr>
          <p:nvPr>
            <p:ph type="dt" idx="1"/>
          </p:nvPr>
        </p:nvSpPr>
        <p:spPr/>
        <p:txBody>
          <a:bodyPr/>
          <a:p>
            <a:fld id="{761243C4-77F3-439D-8911-323ED26F53D5}" type="datetime1">
              <a:rPr lang="en-US"/>
              <a:t>07/30/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Fast Fourier Transform (FFT)</a:t>
            </a:r>
            <a:endParaRPr b="1" lang="en-US" sz="4400" spc="-1" strike="noStrike">
              <a:solidFill>
                <a:srgbClr val="3333cc"/>
              </a:solidFill>
              <a:latin typeface="Times New Roman"/>
            </a:endParaRPr>
          </a:p>
        </p:txBody>
      </p:sp>
      <p:sp>
        <p:nvSpPr>
          <p:cNvPr id="321" name="PlaceHolder 2"/>
          <p:cNvSpPr>
            <a:spLocks noGrp="1"/>
          </p:cNvSpPr>
          <p:nvPr>
            <p:ph/>
          </p:nvPr>
        </p:nvSpPr>
        <p:spPr>
          <a:xfrm>
            <a:off x="1447560" y="1752480"/>
            <a:ext cx="8172360" cy="411480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Pode ser processada como a 1D pela propriedade separável (em linha e coluna)</a:t>
            </a:r>
            <a:endParaRPr b="1" lang="en-US" sz="3200" spc="-1" strike="noStrike">
              <a:solidFill>
                <a:srgbClr val="000000"/>
              </a:solidFill>
              <a:latin typeface="Arial"/>
            </a:endParaRPr>
          </a:p>
        </p:txBody>
      </p:sp>
      <p:sp>
        <p:nvSpPr>
          <p:cNvPr id="322" name=""/>
          <p:cNvSpPr/>
          <p:nvPr/>
        </p:nvSpPr>
        <p:spPr>
          <a:xfrm>
            <a:off x="2281320" y="276696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graphicFrame>
        <p:nvGraphicFramePr>
          <p:cNvPr id="323" name=""/>
          <p:cNvGraphicFramePr/>
          <p:nvPr/>
        </p:nvGraphicFramePr>
        <p:xfrm>
          <a:off x="1676520" y="3276720"/>
          <a:ext cx="6654600" cy="1785960"/>
        </p:xfrm>
        <a:graphic>
          <a:graphicData uri="http://schemas.openxmlformats.org/presentationml/2006/ole">
            <p:oleObj r:id="rId1" spid="">
              <p:embed/>
              <p:pic>
                <p:nvPicPr>
                  <p:cNvPr id="324" name="" descr=""/>
                  <p:cNvPicPr/>
                  <p:nvPr/>
                </p:nvPicPr>
                <p:blipFill>
                  <a:blip r:embed="rId2"/>
                  <a:stretch/>
                </p:blipFill>
                <p:spPr>
                  <a:xfrm>
                    <a:off x="1676520" y="3276720"/>
                    <a:ext cx="6654600" cy="1785960"/>
                  </a:xfrm>
                  <a:prstGeom prst="rect">
                    <a:avLst/>
                  </a:prstGeom>
                  <a:ln w="0">
                    <a:noFill/>
                  </a:ln>
                </p:spPr>
              </p:pic>
            </p:oleObj>
          </a:graphicData>
        </a:graphic>
      </p:graphicFrame>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4E52FFE6-C24F-4001-A2CB-B604119AE10A}" type="slidenum">
              <a:t>63</a:t>
            </a:fld>
          </a:p>
        </p:txBody>
      </p:sp>
      <p:sp>
        <p:nvSpPr>
          <p:cNvPr id="6" name="PlaceHolder 5"/>
          <p:cNvSpPr>
            <a:spLocks noGrp="1"/>
          </p:cNvSpPr>
          <p:nvPr>
            <p:ph type="dt" idx="1"/>
          </p:nvPr>
        </p:nvSpPr>
        <p:spPr/>
        <p:txBody>
          <a:bodyPr/>
          <a:p>
            <a:fld id="{04ACE4CD-4BD1-43BA-BF40-BD8E8097773E}" type="datetime1">
              <a:rPr lang="en-US"/>
              <a:t>07/30/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33cc"/>
                </a:solidFill>
                <a:latin typeface="Times New Roman"/>
                <a:ea typeface="Times New Roman"/>
              </a:rPr>
              <a:t>Algumas propriedades DFT:</a:t>
            </a:r>
            <a:endParaRPr b="1" lang="en-US" sz="4400" spc="-1" strike="noStrike">
              <a:solidFill>
                <a:srgbClr val="3333cc"/>
              </a:solidFill>
              <a:latin typeface="Times New Roman"/>
            </a:endParaRPr>
          </a:p>
        </p:txBody>
      </p:sp>
      <p:sp>
        <p:nvSpPr>
          <p:cNvPr id="326" name=""/>
          <p:cNvSpPr/>
          <p:nvPr/>
        </p:nvSpPr>
        <p:spPr>
          <a:xfrm>
            <a:off x="2976480" y="320508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mc:AlternateContent>
        <mc:Choice xmlns:a14="http://schemas.microsoft.com/office/drawing/2010/main" Requires="a14">
          <p:sp>
            <p:nvSpPr>
              <p:cNvPr id="327" name=""/>
              <p:cNvSpPr txBox="1"/>
              <p:nvPr/>
            </p:nvSpPr>
            <p:spPr>
              <a:xfrm>
                <a:off x="1752480" y="2209680"/>
                <a:ext cx="7512120" cy="852480"/>
              </a:xfrm>
              <a:prstGeom prst="rect">
                <a:avLst/>
              </a:prstGeom>
            </p:spPr>
            <p:txBody>
              <a:bodyPr/>
              <a:p>
                <a14:m>
                  <m:oMath xmlns:m="http://schemas.openxmlformats.org/officeDocument/2006/math">
                    <m:r>
                      <m:t xml:space="preserve">F</m:t>
                    </m:r>
                    <m:r>
                      <m:t xml:space="preserve">(</m:t>
                    </m:r>
                    <m:r>
                      <m:t xml:space="preserve">u</m:t>
                    </m:r>
                    <m:r>
                      <m:t xml:space="preserve">,</m:t>
                    </m:r>
                    <m:r>
                      <m:t xml:space="preserve">v</m:t>
                    </m:r>
                    <m:r>
                      <m:t xml:space="preserve">)</m:t>
                    </m:r>
                    <m:r>
                      <m:t xml:space="preserve">=</m:t>
                    </m:r>
                    <m:f>
                      <m:num>
                        <m:r>
                          <m:t xml:space="preserve">1</m:t>
                        </m:r>
                      </m:num>
                      <m:den>
                        <m:r>
                          <m:t xml:space="preserve">N</m:t>
                        </m:r>
                      </m:den>
                    </m:f>
                    <m:nary>
                      <m:naryPr>
                        <m:chr m:val="∑"/>
                      </m:naryPr>
                      <m:sub>
                        <m:r>
                          <m:t xml:space="preserve">x</m:t>
                        </m:r>
                        <m:r>
                          <m:t xml:space="preserve">=</m:t>
                        </m:r>
                        <m:r>
                          <m:t xml:space="preserve">0</m:t>
                        </m:r>
                      </m:sub>
                      <m:sup>
                        <m:r>
                          <m:t xml:space="preserve">N</m:t>
                        </m:r>
                        <m:r>
                          <m:t xml:space="preserve">−</m:t>
                        </m:r>
                        <m:r>
                          <m:t xml:space="preserve">1</m:t>
                        </m:r>
                      </m:sup>
                      <m:e>
                        <m:r>
                          <m:rPr>
                            <m:lit/>
                            <m:nor/>
                          </m:rPr>
                          <m:t xml:space="preserve">exp</m:t>
                        </m:r>
                        <m:d>
                          <m:dPr>
                            <m:begChr m:val="["/>
                            <m:endChr m:val="]"/>
                          </m:dPr>
                          <m:e>
                            <m:r>
                              <m:t xml:space="preserve">−</m:t>
                            </m:r>
                            <m:r>
                              <m:t xml:space="preserve">j</m:t>
                            </m:r>
                            <m:r>
                              <m:t xml:space="preserve">2</m:t>
                            </m:r>
                            <m:r>
                              <m:t xml:space="preserve">π</m:t>
                            </m:r>
                            <m:f>
                              <m:fPr>
                                <m:type m:val="lin"/>
                              </m:fPr>
                              <m:num>
                                <m:r>
                                  <m:rPr>
                                    <m:lit/>
                                    <m:nor/>
                                  </m:rPr>
                                  <m:t xml:space="preserve">ux</m:t>
                                </m:r>
                              </m:num>
                              <m:den>
                                <m:r>
                                  <m:t xml:space="preserve">N</m:t>
                                </m:r>
                              </m:den>
                            </m:f>
                          </m:e>
                        </m:d>
                      </m:e>
                    </m:nary>
                    <m:nary>
                      <m:naryPr>
                        <m:chr m:val="∑"/>
                      </m:naryPr>
                      <m:sub>
                        <m:r>
                          <m:t xml:space="preserve">y</m:t>
                        </m:r>
                        <m:r>
                          <m:t xml:space="preserve">=</m:t>
                        </m:r>
                        <m:r>
                          <m:t xml:space="preserve">0</m:t>
                        </m:r>
                      </m:sub>
                      <m:sup>
                        <m:r>
                          <m:t xml:space="preserve">N</m:t>
                        </m:r>
                        <m:r>
                          <m:t xml:space="preserve">−</m:t>
                        </m:r>
                        <m:r>
                          <m:t xml:space="preserve">1</m:t>
                        </m:r>
                      </m:sup>
                      <m:e>
                        <m:r>
                          <m:t xml:space="preserve">f</m:t>
                        </m:r>
                        <m:d>
                          <m:dPr>
                            <m:begChr m:val="("/>
                            <m:endChr m:val=")"/>
                          </m:dPr>
                          <m:e>
                            <m:r>
                              <m:t xml:space="preserve">x</m:t>
                            </m:r>
                            <m:r>
                              <m:t xml:space="preserve">,</m:t>
                            </m:r>
                            <m:r>
                              <m:t xml:space="preserve">y</m:t>
                            </m:r>
                          </m:e>
                        </m:d>
                        <m:r>
                          <m:rPr>
                            <m:lit/>
                            <m:nor/>
                          </m:rPr>
                          <m:t xml:space="preserve">exp</m:t>
                        </m:r>
                        <m:d>
                          <m:dPr>
                            <m:begChr m:val="["/>
                            <m:endChr m:val="]"/>
                          </m:dPr>
                          <m:e>
                            <m:r>
                              <m:t xml:space="preserve">−</m:t>
                            </m:r>
                            <m:r>
                              <m:t xml:space="preserve">j</m:t>
                            </m:r>
                            <m:r>
                              <m:t xml:space="preserve">2</m:t>
                            </m:r>
                            <m:r>
                              <m:t xml:space="preserve">π</m:t>
                            </m:r>
                            <m:f>
                              <m:fPr>
                                <m:type m:val="lin"/>
                              </m:fPr>
                              <m:num>
                                <m:r>
                                  <m:rPr>
                                    <m:lit/>
                                    <m:nor/>
                                  </m:rPr>
                                  <m:t xml:space="preserve">vy</m:t>
                                </m:r>
                              </m:num>
                              <m:den>
                                <m:r>
                                  <m:t xml:space="preserve">N</m:t>
                                </m:r>
                              </m:den>
                            </m:f>
                          </m:e>
                        </m:d>
                      </m:e>
                    </m:nary>
                  </m:oMath>
                </a14:m>
              </a:p>
            </p:txBody>
          </p:sp>
        </mc:Choice>
        <mc:Fallback/>
      </mc:AlternateContent>
      <p:sp>
        <p:nvSpPr>
          <p:cNvPr id="328" name="PlaceHolder 2"/>
          <p:cNvSpPr>
            <a:spLocks noGrp="1"/>
          </p:cNvSpPr>
          <p:nvPr>
            <p:ph/>
          </p:nvPr>
        </p:nvSpPr>
        <p:spPr>
          <a:xfrm>
            <a:off x="1371240" y="1600200"/>
            <a:ext cx="8007480" cy="44956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 </a:t>
            </a:r>
            <a:r>
              <a:rPr b="1" lang="pt-BR" sz="3200" spc="-1" strike="noStrike">
                <a:solidFill>
                  <a:srgbClr val="000000"/>
                </a:solidFill>
                <a:latin typeface="Arial"/>
              </a:rPr>
              <a:t>Separabilidade:</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Corelação e Convolução:</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Laplaciano:</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9" name=""/>
          <p:cNvSpPr/>
          <p:nvPr/>
        </p:nvSpPr>
        <p:spPr>
          <a:xfrm>
            <a:off x="3244680" y="319572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mc:AlternateContent>
        <mc:Choice xmlns:a14="http://schemas.microsoft.com/office/drawing/2010/main" Requires="a14">
          <p:sp>
            <p:nvSpPr>
              <p:cNvPr id="330" name=""/>
              <p:cNvSpPr txBox="1"/>
              <p:nvPr/>
            </p:nvSpPr>
            <p:spPr>
              <a:xfrm>
                <a:off x="2286000" y="3962520"/>
                <a:ext cx="5943600" cy="812520"/>
              </a:xfrm>
              <a:prstGeom prst="rect">
                <a:avLst/>
              </a:prstGeom>
            </p:spPr>
            <p:txBody>
              <a:bodyPr/>
              <a:p>
                <a14:m>
                  <m:oMath xmlns:m="http://schemas.openxmlformats.org/officeDocument/2006/math">
                    <m:r>
                      <m:t xml:space="preserve">f</m:t>
                    </m:r>
                    <m:r>
                      <m:t xml:space="preserve">(</m:t>
                    </m:r>
                    <m:r>
                      <m:t xml:space="preserve">x</m:t>
                    </m:r>
                    <m:r>
                      <m:t xml:space="preserve">,</m:t>
                    </m:r>
                    <m:r>
                      <m:t xml:space="preserve">y</m:t>
                    </m:r>
                    <m:r>
                      <m:t xml:space="preserve">)</m:t>
                    </m:r>
                    <m:r>
                      <m:t xml:space="preserve">∗</m:t>
                    </m:r>
                    <m:r>
                      <m:t xml:space="preserve">g</m:t>
                    </m:r>
                    <m:r>
                      <m:t xml:space="preserve">(</m:t>
                    </m:r>
                    <m:r>
                      <m:t xml:space="preserve">x</m:t>
                    </m:r>
                    <m:r>
                      <m:t xml:space="preserve">,</m:t>
                    </m:r>
                    <m:r>
                      <m:t xml:space="preserve">y</m:t>
                    </m:r>
                    <m:r>
                      <m:t xml:space="preserve">)</m:t>
                    </m:r>
                    <m:r>
                      <m:t xml:space="preserve">=</m:t>
                    </m:r>
                    <m:nary>
                      <m:naryPr>
                        <m:chr m:val="∫"/>
                      </m:naryPr>
                      <m:sub>
                        <m:r>
                          <m:t xml:space="preserve">−</m:t>
                        </m:r>
                        <m:r>
                          <m:t xml:space="preserve">∞</m:t>
                        </m:r>
                      </m:sub>
                      <m:sup>
                        <m:r>
                          <m:t xml:space="preserve">∞</m:t>
                        </m:r>
                      </m:sup>
                      <m:e>
                        <m:nary>
                          <m:naryPr>
                            <m:chr m:val="∫"/>
                            <m:subHide m:val="1"/>
                            <m:supHide m:val="1"/>
                          </m:naryPr>
                          <m:sub/>
                          <m:sup/>
                          <m:e>
                            <m:r>
                              <m:t xml:space="preserve">f</m:t>
                            </m:r>
                            <m:d>
                              <m:dPr>
                                <m:begChr m:val="("/>
                                <m:endChr m:val=")"/>
                              </m:dPr>
                              <m:e>
                                <m:r>
                                  <m:t xml:space="preserve">α</m:t>
                                </m:r>
                                <m:r>
                                  <m:t xml:space="preserve">,</m:t>
                                </m:r>
                                <m:r>
                                  <m:t xml:space="preserve">β</m:t>
                                </m:r>
                              </m:e>
                            </m:d>
                          </m:e>
                        </m:nary>
                      </m:e>
                    </m:nary>
                    <m:r>
                      <m:t xml:space="preserve">g</m:t>
                    </m:r>
                    <m:d>
                      <m:dPr>
                        <m:begChr m:val="("/>
                        <m:endChr m:val=")"/>
                      </m:dPr>
                      <m:e>
                        <m:r>
                          <m:t xml:space="preserve">x</m:t>
                        </m:r>
                        <m:r>
                          <m:t xml:space="preserve">−</m:t>
                        </m:r>
                        <m:r>
                          <m:t xml:space="preserve">α</m:t>
                        </m:r>
                        <m:r>
                          <m:t xml:space="preserve">,</m:t>
                        </m:r>
                        <m:r>
                          <m:t xml:space="preserve">y</m:t>
                        </m:r>
                        <m:r>
                          <m:t xml:space="preserve">−</m:t>
                        </m:r>
                        <m:r>
                          <m:t xml:space="preserve">β</m:t>
                        </m:r>
                      </m:e>
                    </m:d>
                    <m:r>
                      <m:t xml:space="preserve">dαdβ</m:t>
                    </m:r>
                  </m:oMath>
                </a14:m>
              </a:p>
            </p:txBody>
          </p:sp>
        </mc:Choice>
        <mc:Fallback/>
      </mc:AlternateContent>
      <p:sp>
        <p:nvSpPr>
          <p:cNvPr id="331" name=""/>
          <p:cNvSpPr/>
          <p:nvPr/>
        </p:nvSpPr>
        <p:spPr>
          <a:xfrm>
            <a:off x="4111560" y="320508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mc:AlternateContent>
        <mc:Choice xmlns:a14="http://schemas.microsoft.com/office/drawing/2010/main" Requires="a14">
          <p:sp>
            <p:nvSpPr>
              <p:cNvPr id="332" name=""/>
              <p:cNvSpPr txBox="1"/>
              <p:nvPr/>
            </p:nvSpPr>
            <p:spPr>
              <a:xfrm>
                <a:off x="4419720" y="5029200"/>
                <a:ext cx="3549600" cy="944640"/>
              </a:xfrm>
              <a:prstGeom prst="rect">
                <a:avLst/>
              </a:prstGeom>
            </p:spPr>
            <p:txBody>
              <a:bodyPr/>
              <a:p>
                <a14:m>
                  <m:oMath xmlns:m="http://schemas.openxmlformats.org/officeDocument/2006/math">
                    <m:sSup>
                      <m:e>
                        <m:r>
                          <m:t xml:space="preserve">Ñ</m:t>
                        </m:r>
                      </m:e>
                      <m:sup>
                        <m:r>
                          <m:t xml:space="preserve">2</m:t>
                        </m:r>
                      </m:sup>
                    </m:sSup>
                    <m:r>
                      <m:t xml:space="preserve">f</m:t>
                    </m:r>
                    <m:r>
                      <m:t xml:space="preserve">(</m:t>
                    </m:r>
                    <m:r>
                      <m:t xml:space="preserve">x</m:t>
                    </m:r>
                    <m:r>
                      <m:t xml:space="preserve">,</m:t>
                    </m:r>
                    <m:r>
                      <m:t xml:space="preserve">y</m:t>
                    </m:r>
                    <m:r>
                      <m:t xml:space="preserve">)</m:t>
                    </m:r>
                    <m:r>
                      <m:t xml:space="preserve">=</m:t>
                    </m:r>
                    <m:f>
                      <m:num>
                        <m:sSup>
                          <m:e>
                            <m:r>
                              <m:t xml:space="preserve">¶</m:t>
                            </m:r>
                          </m:e>
                          <m:sup>
                            <m:r>
                              <m:t xml:space="preserve">2</m:t>
                            </m:r>
                          </m:sup>
                        </m:sSup>
                        <m:r>
                          <m:t xml:space="preserve">f</m:t>
                        </m:r>
                      </m:num>
                      <m:den>
                        <m:r>
                          <m:t xml:space="preserve">¶</m:t>
                        </m:r>
                        <m:sSup>
                          <m:e>
                            <m:r>
                              <m:t xml:space="preserve">x</m:t>
                            </m:r>
                          </m:e>
                          <m:sup>
                            <m:r>
                              <m:t xml:space="preserve">2</m:t>
                            </m:r>
                          </m:sup>
                        </m:sSup>
                      </m:den>
                    </m:f>
                    <m:r>
                      <m:t xml:space="preserve">+</m:t>
                    </m:r>
                    <m:f>
                      <m:num>
                        <m:sSup>
                          <m:e>
                            <m:r>
                              <m:t xml:space="preserve">¶</m:t>
                            </m:r>
                          </m:e>
                          <m:sup>
                            <m:r>
                              <m:t xml:space="preserve">2</m:t>
                            </m:r>
                          </m:sup>
                        </m:sSup>
                        <m:r>
                          <m:t xml:space="preserve">f</m:t>
                        </m:r>
                      </m:num>
                      <m:den>
                        <m:r>
                          <m:t xml:space="preserve">¶</m:t>
                        </m:r>
                        <m:sSup>
                          <m:e>
                            <m:r>
                              <m:t xml:space="preserve">y</m:t>
                            </m:r>
                          </m:e>
                          <m:sup>
                            <m:r>
                              <m:t xml:space="preserve">2</m:t>
                            </m:r>
                          </m:sup>
                        </m:sSup>
                      </m:den>
                    </m:f>
                  </m:oMath>
                </a14:m>
              </a:p>
            </p:txBody>
          </p:sp>
        </mc:Choice>
        <mc:Fallback/>
      </mc:AlternateContent>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CEE961E0-119C-4ABB-BA97-9CB4618D87AF}" type="slidenum">
              <a:t>64</a:t>
            </a:fld>
          </a:p>
        </p:txBody>
      </p:sp>
      <p:sp>
        <p:nvSpPr>
          <p:cNvPr id="6" name="PlaceHolder 5"/>
          <p:cNvSpPr>
            <a:spLocks noGrp="1"/>
          </p:cNvSpPr>
          <p:nvPr>
            <p:ph type="dt" idx="1"/>
          </p:nvPr>
        </p:nvSpPr>
        <p:spPr/>
        <p:txBody>
          <a:bodyPr/>
          <a:p>
            <a:fld id="{A3B24E6D-0224-422B-8FDE-6A7CFC11D33C}" type="datetime1">
              <a:rPr lang="en-US"/>
              <a:t>07/30/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29760" y="-360"/>
            <a:ext cx="800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Filtros ideal</a:t>
            </a:r>
            <a:endParaRPr b="1" lang="en-US" sz="4400" spc="-1" strike="noStrike">
              <a:solidFill>
                <a:srgbClr val="3333cc"/>
              </a:solidFill>
              <a:latin typeface="Times New Roman"/>
            </a:endParaRPr>
          </a:p>
        </p:txBody>
      </p:sp>
      <p:sp>
        <p:nvSpPr>
          <p:cNvPr id="334" name="PlaceHolder 2"/>
          <p:cNvSpPr>
            <a:spLocks noGrp="1"/>
          </p:cNvSpPr>
          <p:nvPr>
            <p:ph/>
          </p:nvPr>
        </p:nvSpPr>
        <p:spPr>
          <a:xfrm>
            <a:off x="1599840" y="1142640"/>
            <a:ext cx="8007480" cy="4800600"/>
          </a:xfrm>
          <a:prstGeom prst="rect">
            <a:avLst/>
          </a:prstGeom>
          <a:noFill/>
          <a:ln w="0">
            <a:noFill/>
          </a:ln>
        </p:spPr>
        <p:txBody>
          <a:bodyPr lIns="92160" rIns="92160" tIns="46080" bIns="46080" anchor="t">
            <a:normAutofit/>
          </a:bodyPr>
          <a:p>
            <a:pPr marL="343080" indent="-343080" algn="just">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Times New Roman"/>
              </a:rPr>
              <a:t>F(u,v) FFT da imagem f(x,y) e G(u,v) a imagem filtrada que se deseja à saída (com componentes de alta freqüência atenuados), a filtragem passa – baixas consiste em encontrar um H(u,v) tal que:</a:t>
            </a:r>
            <a:endParaRPr b="1"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lgn="just">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Times New Roman"/>
              </a:rPr>
              <a:t>Filtro Ideal:</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5" name=""/>
          <p:cNvSpPr/>
          <p:nvPr/>
        </p:nvSpPr>
        <p:spPr>
          <a:xfrm>
            <a:off x="4132440" y="332892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mc:AlternateContent>
        <mc:Choice xmlns:a14="http://schemas.microsoft.com/office/drawing/2010/main" Requires="a14">
          <p:sp>
            <p:nvSpPr>
              <p:cNvPr id="336" name=""/>
              <p:cNvSpPr txBox="1"/>
              <p:nvPr/>
            </p:nvSpPr>
            <p:spPr>
              <a:xfrm>
                <a:off x="3276720" y="3962520"/>
                <a:ext cx="3879720" cy="473040"/>
              </a:xfrm>
              <a:prstGeom prst="rect">
                <a:avLst/>
              </a:prstGeom>
            </p:spPr>
            <p:txBody>
              <a:bodyPr/>
              <a:p>
                <a14:m>
                  <m:oMath xmlns:m="http://schemas.openxmlformats.org/officeDocument/2006/math">
                    <m:r>
                      <m:t xml:space="preserve">G</m:t>
                    </m:r>
                    <m:r>
                      <m:t xml:space="preserve">(</m:t>
                    </m:r>
                    <m:r>
                      <m:t xml:space="preserve">u</m:t>
                    </m:r>
                    <m:r>
                      <m:t xml:space="preserve">,</m:t>
                    </m:r>
                    <m:r>
                      <m:t xml:space="preserve">v</m:t>
                    </m:r>
                    <m:r>
                      <m:t xml:space="preserve">)</m:t>
                    </m:r>
                    <m:r>
                      <m:t xml:space="preserve">=</m:t>
                    </m:r>
                    <m:r>
                      <m:t xml:space="preserve">F</m:t>
                    </m:r>
                    <m:r>
                      <m:t xml:space="preserve">(</m:t>
                    </m:r>
                    <m:r>
                      <m:t xml:space="preserve">u</m:t>
                    </m:r>
                    <m:r>
                      <m:t xml:space="preserve">,</m:t>
                    </m:r>
                    <m:r>
                      <m:t xml:space="preserve">v</m:t>
                    </m:r>
                    <m:r>
                      <m:t xml:space="preserve">)</m:t>
                    </m:r>
                    <m:r>
                      <m:t xml:space="preserve">H</m:t>
                    </m:r>
                    <m:r>
                      <m:t xml:space="preserve">(</m:t>
                    </m:r>
                    <m:r>
                      <m:t xml:space="preserve">u</m:t>
                    </m:r>
                    <m:r>
                      <m:t xml:space="preserve">,</m:t>
                    </m:r>
                    <m:r>
                      <m:t xml:space="preserve">v</m:t>
                    </m:r>
                    <m:r>
                      <m:t xml:space="preserve">)</m:t>
                    </m:r>
                  </m:oMath>
                </a14:m>
              </a:p>
            </p:txBody>
          </p:sp>
        </mc:Choice>
        <mc:Fallback/>
      </mc:AlternateContent>
      <p:sp>
        <p:nvSpPr>
          <p:cNvPr id="337" name=""/>
          <p:cNvSpPr/>
          <p:nvPr/>
        </p:nvSpPr>
        <p:spPr>
          <a:xfrm>
            <a:off x="3978360" y="318600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mc:AlternateContent>
        <mc:Choice xmlns:a14="http://schemas.microsoft.com/office/drawing/2010/main" Requires="a14">
          <p:sp>
            <p:nvSpPr>
              <p:cNvPr id="338" name=""/>
              <p:cNvSpPr txBox="1"/>
              <p:nvPr/>
            </p:nvSpPr>
            <p:spPr>
              <a:xfrm>
                <a:off x="4495680" y="4724280"/>
                <a:ext cx="4044960" cy="1008360"/>
              </a:xfrm>
              <a:prstGeom prst="rect">
                <a:avLst/>
              </a:prstGeom>
            </p:spPr>
            <p:txBody>
              <a:bodyPr/>
              <a:p>
                <a14:m>
                  <m:oMath xmlns:m="http://schemas.openxmlformats.org/officeDocument/2006/math">
                    <m:r>
                      <m:t xml:space="preserve">H</m:t>
                    </m:r>
                    <m:r>
                      <m:t xml:space="preserve">(</m:t>
                    </m:r>
                    <m:r>
                      <m:t xml:space="preserve">u</m:t>
                    </m:r>
                    <m:r>
                      <m:t xml:space="preserve">,</m:t>
                    </m:r>
                    <m:r>
                      <m:t xml:space="preserve">v</m:t>
                    </m:r>
                    <m:r>
                      <m:t xml:space="preserve">)</m:t>
                    </m:r>
                    <m:r>
                      <m:t xml:space="preserve">=</m:t>
                    </m:r>
                    <m:eqArr>
                      <m:e>
                        <m:d>
                          <m:dPr>
                            <m:begChr m:val="{"/>
                            <m:endChr m:val=""/>
                          </m:dPr>
                          <m:e>
                            <m:r>
                              <m:t xml:space="preserve">1</m:t>
                            </m:r>
                            <m:r>
                              <m:t xml:space="preserve"> </m:t>
                            </m:r>
                            <m:r>
                              <m:rPr>
                                <m:lit/>
                                <m:nor/>
                              </m:rPr>
                              <m:t xml:space="preserve">se</m:t>
                            </m:r>
                            <m:r>
                              <m:t xml:space="preserve"> </m:t>
                            </m:r>
                            <m:r>
                              <m:t xml:space="preserve">D</m:t>
                            </m:r>
                            <m:r>
                              <m:t xml:space="preserve">(</m:t>
                            </m:r>
                            <m:r>
                              <m:t xml:space="preserve">u</m:t>
                            </m:r>
                            <m:r>
                              <m:t xml:space="preserve">,</m:t>
                            </m:r>
                            <m:r>
                              <m:t xml:space="preserve">v</m:t>
                            </m:r>
                            <m:r>
                              <m:t xml:space="preserve">)</m:t>
                            </m:r>
                            <m:r>
                              <m:t xml:space="preserve">≤</m:t>
                            </m:r>
                            <m:sSub>
                              <m:e>
                                <m:r>
                                  <m:t xml:space="preserve">D</m:t>
                                </m:r>
                              </m:e>
                              <m:sub>
                                <m:r>
                                  <m:t xml:space="preserve">0</m:t>
                                </m:r>
                              </m:sub>
                            </m:sSub>
                          </m:e>
                          <m:e/>
                        </m:d>
                      </m:e>
                    </m:eqArr>
                  </m:oMath>
                </a14:m>
              </a:p>
            </p:txBody>
          </p:sp>
        </mc:Choice>
        <mc:Fallback/>
      </mc:AlternateContent>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925AA835-19B5-4900-BCD4-D0AB3EB673CF}" type="slidenum">
              <a:t>65</a:t>
            </a:fld>
          </a:p>
        </p:txBody>
      </p:sp>
      <p:sp>
        <p:nvSpPr>
          <p:cNvPr id="6" name="PlaceHolder 5"/>
          <p:cNvSpPr>
            <a:spLocks noGrp="1"/>
          </p:cNvSpPr>
          <p:nvPr>
            <p:ph type="dt" idx="1"/>
          </p:nvPr>
        </p:nvSpPr>
        <p:spPr/>
        <p:txBody>
          <a:bodyPr/>
          <a:p>
            <a:fld id="{A4EC81CF-EBCA-408C-BF18-E9D6AB74CFA9}" type="datetime1">
              <a:rPr lang="en-US"/>
              <a:t>07/30/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29760" y="-360"/>
            <a:ext cx="800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Filtros ideal</a:t>
            </a:r>
            <a:endParaRPr b="1" lang="en-US" sz="4400" spc="-1" strike="noStrike">
              <a:solidFill>
                <a:srgbClr val="3333cc"/>
              </a:solidFill>
              <a:latin typeface="Times New Roman"/>
            </a:endParaRPr>
          </a:p>
        </p:txBody>
      </p:sp>
      <p:sp>
        <p:nvSpPr>
          <p:cNvPr id="340" name="PlaceHolder 2"/>
          <p:cNvSpPr>
            <a:spLocks noGrp="1"/>
          </p:cNvSpPr>
          <p:nvPr>
            <p:ph/>
          </p:nvPr>
        </p:nvSpPr>
        <p:spPr>
          <a:xfrm>
            <a:off x="1523520" y="1218960"/>
            <a:ext cx="8007480" cy="4800600"/>
          </a:xfrm>
          <a:prstGeom prst="rect">
            <a:avLst/>
          </a:prstGeom>
          <a:noFill/>
          <a:ln w="0">
            <a:noFill/>
          </a:ln>
        </p:spPr>
        <p:txBody>
          <a:bodyPr lIns="92160" rIns="92160" tIns="46080" bIns="46080" anchor="t">
            <a:normAutofit/>
          </a:bodyPr>
          <a:p>
            <a:pPr marL="343080" indent="-343080" algn="just">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Times New Roman"/>
              </a:rPr>
              <a:t>F(u,v) FFT da imagem f(x,y) e G(u,v) a imagem filtrada que se deseja à saída (com componentes baixa freqüência atenuados), a filtragem passa – altas consiste em encontrar um H(u,v) tal que :</a:t>
            </a:r>
            <a:endParaRPr b="1"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lgn="just">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Times New Roman"/>
              </a:rPr>
              <a:t>Filtro Ideal:</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1" name=""/>
          <p:cNvSpPr/>
          <p:nvPr/>
        </p:nvSpPr>
        <p:spPr>
          <a:xfrm>
            <a:off x="4132440" y="332892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mc:AlternateContent>
        <mc:Choice xmlns:a14="http://schemas.microsoft.com/office/drawing/2010/main" Requires="a14">
          <p:sp>
            <p:nvSpPr>
              <p:cNvPr id="342" name=""/>
              <p:cNvSpPr txBox="1"/>
              <p:nvPr/>
            </p:nvSpPr>
            <p:spPr>
              <a:xfrm>
                <a:off x="3733920" y="3962520"/>
                <a:ext cx="3879720" cy="473040"/>
              </a:xfrm>
              <a:prstGeom prst="rect">
                <a:avLst/>
              </a:prstGeom>
            </p:spPr>
            <p:txBody>
              <a:bodyPr/>
              <a:p>
                <a14:m>
                  <m:oMath xmlns:m="http://schemas.openxmlformats.org/officeDocument/2006/math">
                    <m:r>
                      <m:t xml:space="preserve">G</m:t>
                    </m:r>
                    <m:r>
                      <m:t xml:space="preserve">(</m:t>
                    </m:r>
                    <m:r>
                      <m:t xml:space="preserve">u</m:t>
                    </m:r>
                    <m:r>
                      <m:t xml:space="preserve">,</m:t>
                    </m:r>
                    <m:r>
                      <m:t xml:space="preserve">v</m:t>
                    </m:r>
                    <m:r>
                      <m:t xml:space="preserve">)</m:t>
                    </m:r>
                    <m:r>
                      <m:t xml:space="preserve">=</m:t>
                    </m:r>
                    <m:r>
                      <m:t xml:space="preserve">F</m:t>
                    </m:r>
                    <m:r>
                      <m:t xml:space="preserve">(</m:t>
                    </m:r>
                    <m:r>
                      <m:t xml:space="preserve">u</m:t>
                    </m:r>
                    <m:r>
                      <m:t xml:space="preserve">,</m:t>
                    </m:r>
                    <m:r>
                      <m:t xml:space="preserve">v</m:t>
                    </m:r>
                    <m:r>
                      <m:t xml:space="preserve">)</m:t>
                    </m:r>
                    <m:r>
                      <m:t xml:space="preserve">H</m:t>
                    </m:r>
                    <m:r>
                      <m:t xml:space="preserve">(</m:t>
                    </m:r>
                    <m:r>
                      <m:t xml:space="preserve">u</m:t>
                    </m:r>
                    <m:r>
                      <m:t xml:space="preserve">,</m:t>
                    </m:r>
                    <m:r>
                      <m:t xml:space="preserve">v</m:t>
                    </m:r>
                    <m:r>
                      <m:t xml:space="preserve">)</m:t>
                    </m:r>
                  </m:oMath>
                </a14:m>
              </a:p>
            </p:txBody>
          </p:sp>
        </mc:Choice>
        <mc:Fallback/>
      </mc:AlternateContent>
      <p:sp>
        <p:nvSpPr>
          <p:cNvPr id="343" name=""/>
          <p:cNvSpPr/>
          <p:nvPr/>
        </p:nvSpPr>
        <p:spPr>
          <a:xfrm>
            <a:off x="3978360" y="318600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344" name=""/>
          <p:cNvSpPr/>
          <p:nvPr/>
        </p:nvSpPr>
        <p:spPr>
          <a:xfrm>
            <a:off x="3978360" y="318600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mc:AlternateContent>
        <mc:Choice xmlns:a14="http://schemas.microsoft.com/office/drawing/2010/main" Requires="a14">
          <p:sp>
            <p:nvSpPr>
              <p:cNvPr id="345" name=""/>
              <p:cNvSpPr txBox="1"/>
              <p:nvPr/>
            </p:nvSpPr>
            <p:spPr>
              <a:xfrm>
                <a:off x="4876920" y="5029200"/>
                <a:ext cx="3879720" cy="965160"/>
              </a:xfrm>
              <a:prstGeom prst="rect">
                <a:avLst/>
              </a:prstGeom>
            </p:spPr>
            <p:txBody>
              <a:bodyPr/>
              <a:p>
                <a14:m>
                  <m:oMath xmlns:m="http://schemas.openxmlformats.org/officeDocument/2006/math">
                    <m:r>
                      <m:t xml:space="preserve">H</m:t>
                    </m:r>
                    <m:r>
                      <m:t xml:space="preserve">(</m:t>
                    </m:r>
                    <m:r>
                      <m:t xml:space="preserve">u</m:t>
                    </m:r>
                    <m:r>
                      <m:t xml:space="preserve">,</m:t>
                    </m:r>
                    <m:r>
                      <m:t xml:space="preserve">v</m:t>
                    </m:r>
                    <m:r>
                      <m:t xml:space="preserve">)</m:t>
                    </m:r>
                    <m:r>
                      <m:t xml:space="preserve">=</m:t>
                    </m:r>
                    <m:eqArr>
                      <m:e>
                        <m:d>
                          <m:dPr>
                            <m:begChr m:val="{"/>
                            <m:endChr m:val=""/>
                          </m:dPr>
                          <m:e>
                            <m:r>
                              <m:t xml:space="preserve">0</m:t>
                            </m:r>
                            <m:r>
                              <m:t xml:space="preserve"> </m:t>
                            </m:r>
                            <m:r>
                              <m:rPr>
                                <m:lit/>
                                <m:nor/>
                              </m:rPr>
                              <m:t xml:space="preserve">se</m:t>
                            </m:r>
                            <m:r>
                              <m:t xml:space="preserve"> </m:t>
                            </m:r>
                            <m:r>
                              <m:t xml:space="preserve">D</m:t>
                            </m:r>
                            <m:r>
                              <m:t xml:space="preserve">(</m:t>
                            </m:r>
                            <m:r>
                              <m:t xml:space="preserve">u</m:t>
                            </m:r>
                            <m:r>
                              <m:t xml:space="preserve">,</m:t>
                            </m:r>
                            <m:r>
                              <m:t xml:space="preserve">v</m:t>
                            </m:r>
                            <m:r>
                              <m:t xml:space="preserve">)</m:t>
                            </m:r>
                            <m:r>
                              <m:t xml:space="preserve">≤</m:t>
                            </m:r>
                            <m:sSub>
                              <m:e>
                                <m:r>
                                  <m:t xml:space="preserve">D</m:t>
                                </m:r>
                              </m:e>
                              <m:sub>
                                <m:r>
                                  <m:t xml:space="preserve">0</m:t>
                                </m:r>
                              </m:sub>
                            </m:sSub>
                          </m:e>
                          <m:e/>
                        </m:d>
                      </m:e>
                    </m:eqArr>
                  </m:oMath>
                </a14:m>
              </a:p>
            </p:txBody>
          </p:sp>
        </mc:Choice>
        <mc:Fallback/>
      </mc:AlternateContent>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45F7B0A1-05C5-45CC-8AFE-7C1907F6A3E7}" type="slidenum">
              <a:t>66</a:t>
            </a:fld>
          </a:p>
        </p:txBody>
      </p:sp>
      <p:sp>
        <p:nvSpPr>
          <p:cNvPr id="6" name="PlaceHolder 5"/>
          <p:cNvSpPr>
            <a:spLocks noGrp="1"/>
          </p:cNvSpPr>
          <p:nvPr>
            <p:ph type="dt" idx="1"/>
          </p:nvPr>
        </p:nvSpPr>
        <p:spPr/>
        <p:txBody>
          <a:bodyPr/>
          <a:p>
            <a:fld id="{465EADC9-7B82-4AA6-8B40-CEF6D6B68AB5}" type="datetime1">
              <a:rPr lang="en-US"/>
              <a:t>07/30/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0" y="-360"/>
            <a:ext cx="8832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ea typeface="Times New Roman"/>
              </a:rPr>
              <a:t>Filtros Butterworth</a:t>
            </a:r>
            <a:r>
              <a:rPr b="1" lang="pt-BR" sz="4400" spc="-1" strike="noStrike">
                <a:solidFill>
                  <a:srgbClr val="3333cc"/>
                </a:solidFill>
                <a:latin typeface="Times New Roman"/>
              </a:rPr>
              <a:t> </a:t>
            </a:r>
            <a:endParaRPr b="1" lang="en-US" sz="4400" spc="-1" strike="noStrike">
              <a:solidFill>
                <a:srgbClr val="3333cc"/>
              </a:solidFill>
              <a:latin typeface="Times New Roman"/>
            </a:endParaRPr>
          </a:p>
        </p:txBody>
      </p:sp>
      <p:sp>
        <p:nvSpPr>
          <p:cNvPr id="347" name="PlaceHolder 2"/>
          <p:cNvSpPr>
            <a:spLocks noGrp="1"/>
          </p:cNvSpPr>
          <p:nvPr>
            <p:ph/>
          </p:nvPr>
        </p:nvSpPr>
        <p:spPr>
          <a:xfrm>
            <a:off x="1599840" y="1218960"/>
            <a:ext cx="8007480" cy="4724280"/>
          </a:xfrm>
          <a:prstGeom prst="rect">
            <a:avLst/>
          </a:prstGeom>
          <a:noFill/>
          <a:ln w="0">
            <a:noFill/>
          </a:ln>
        </p:spPr>
        <p:txBody>
          <a:bodyPr lIns="92160" rIns="92160" tIns="46080" bIns="46080" anchor="t">
            <a:normAutofit/>
          </a:bodyPr>
          <a:p>
            <a:pPr marL="343080" indent="-343080" algn="just">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Times New Roman"/>
              </a:rPr>
              <a:t>Um filtro Butterworth, de ordem n e com freqüência de corte a uma distancia D</a:t>
            </a:r>
            <a:r>
              <a:rPr b="1" lang="pt-BR" sz="3200" spc="-1" strike="noStrike" baseline="-30000">
                <a:solidFill>
                  <a:srgbClr val="000000"/>
                </a:solidFill>
                <a:latin typeface="Arial"/>
                <a:ea typeface="Times New Roman"/>
              </a:rPr>
              <a:t>0</a:t>
            </a:r>
            <a:r>
              <a:rPr b="1" lang="pt-BR" sz="3200" spc="-1" strike="noStrike">
                <a:solidFill>
                  <a:srgbClr val="000000"/>
                </a:solidFill>
                <a:latin typeface="Arial"/>
                <a:ea typeface="Times New Roman"/>
              </a:rPr>
              <a:t> da origem, possui função de transferência dada pela equação </a:t>
            </a:r>
            <a:endParaRPr b="1"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lgn="just">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Times New Roman"/>
              </a:rPr>
              <a:t>onde:</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8" name=""/>
          <p:cNvSpPr/>
          <p:nvPr/>
        </p:nvSpPr>
        <p:spPr>
          <a:xfrm>
            <a:off x="4132440" y="332892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349" name=""/>
          <p:cNvSpPr/>
          <p:nvPr/>
        </p:nvSpPr>
        <p:spPr>
          <a:xfrm>
            <a:off x="3978360" y="318600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350" name=""/>
          <p:cNvSpPr/>
          <p:nvPr/>
        </p:nvSpPr>
        <p:spPr>
          <a:xfrm>
            <a:off x="3978360" y="318600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351" name=""/>
          <p:cNvSpPr/>
          <p:nvPr/>
        </p:nvSpPr>
        <p:spPr>
          <a:xfrm>
            <a:off x="3978360" y="320508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mc:AlternateContent>
        <mc:Choice xmlns:a14="http://schemas.microsoft.com/office/drawing/2010/main" Requires="a14">
          <p:sp>
            <p:nvSpPr>
              <p:cNvPr id="352" name=""/>
              <p:cNvSpPr txBox="1"/>
              <p:nvPr/>
            </p:nvSpPr>
            <p:spPr>
              <a:xfrm>
                <a:off x="3200400" y="3429000"/>
                <a:ext cx="3038400" cy="698400"/>
              </a:xfrm>
              <a:prstGeom prst="rect">
                <a:avLst/>
              </a:prstGeom>
            </p:spPr>
            <p:txBody>
              <a:bodyPr/>
              <a:p>
                <a14:m>
                  <m:oMath xmlns:m="http://schemas.openxmlformats.org/officeDocument/2006/math">
                    <m:r>
                      <m:t xml:space="preserve">H</m:t>
                    </m:r>
                    <m:r>
                      <m:t xml:space="preserve">(</m:t>
                    </m:r>
                    <m:r>
                      <m:t xml:space="preserve">u</m:t>
                    </m:r>
                    <m:r>
                      <m:t xml:space="preserve">,</m:t>
                    </m:r>
                    <m:r>
                      <m:t xml:space="preserve">v</m:t>
                    </m:r>
                    <m:r>
                      <m:t xml:space="preserve">)</m:t>
                    </m:r>
                    <m:r>
                      <m:t xml:space="preserve">=</m:t>
                    </m:r>
                    <m:f>
                      <m:num>
                        <m:r>
                          <m:t xml:space="preserve">1</m:t>
                        </m:r>
                      </m:num>
                      <m:den>
                        <m:r>
                          <m:t xml:space="preserve">1</m:t>
                        </m:r>
                        <m:r>
                          <m:t xml:space="preserve">+</m:t>
                        </m:r>
                        <m:sSup>
                          <m:e>
                            <m:d>
                              <m:dPr>
                                <m:begChr m:val="["/>
                                <m:endChr m:val="]"/>
                              </m:dPr>
                              <m:e>
                                <m:r>
                                  <m:t xml:space="preserve">D</m:t>
                                </m:r>
                                <m:r>
                                  <m:t xml:space="preserve">(</m:t>
                                </m:r>
                                <m:r>
                                  <m:t xml:space="preserve">u</m:t>
                                </m:r>
                                <m:r>
                                  <m:t xml:space="preserve">,</m:t>
                                </m:r>
                                <m:r>
                                  <m:t xml:space="preserve">v</m:t>
                                </m:r>
                                <m:f>
                                  <m:fPr>
                                    <m:type m:val="lin"/>
                                  </m:fPr>
                                  <m:num>
                                    <m:r>
                                      <m:t xml:space="preserve">)</m:t>
                                    </m:r>
                                  </m:num>
                                  <m:den>
                                    <m:sSub>
                                      <m:e>
                                        <m:r>
                                          <m:t xml:space="preserve">D</m:t>
                                        </m:r>
                                      </m:e>
                                      <m:sub>
                                        <m:r>
                                          <m:t xml:space="preserve">0</m:t>
                                        </m:r>
                                      </m:sub>
                                    </m:sSub>
                                  </m:den>
                                </m:f>
                              </m:e>
                            </m:d>
                          </m:e>
                          <m:sup>
                            <m:r>
                              <m:t xml:space="preserve">2</m:t>
                            </m:r>
                            <m:r>
                              <m:t xml:space="preserve">n</m:t>
                            </m:r>
                          </m:sup>
                        </m:sSup>
                      </m:den>
                    </m:f>
                  </m:oMath>
                </a14:m>
              </a:p>
            </p:txBody>
          </p:sp>
        </mc:Choice>
        <mc:Fallback/>
      </mc:AlternateContent>
      <p:sp>
        <p:nvSpPr>
          <p:cNvPr id="353" name=""/>
          <p:cNvSpPr/>
          <p:nvPr/>
        </p:nvSpPr>
        <p:spPr>
          <a:xfrm>
            <a:off x="4235400" y="331488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mc:AlternateContent>
        <mc:Choice xmlns:a14="http://schemas.microsoft.com/office/drawing/2010/main" Requires="a14">
          <p:sp>
            <p:nvSpPr>
              <p:cNvPr id="354" name=""/>
              <p:cNvSpPr txBox="1"/>
              <p:nvPr/>
            </p:nvSpPr>
            <p:spPr>
              <a:xfrm>
                <a:off x="2514600" y="5181480"/>
                <a:ext cx="3549600" cy="565200"/>
              </a:xfrm>
              <a:prstGeom prst="rect">
                <a:avLst/>
              </a:prstGeom>
            </p:spPr>
            <p:txBody>
              <a:bodyPr/>
              <a:p>
                <a14:m>
                  <m:oMath xmlns:m="http://schemas.openxmlformats.org/officeDocument/2006/math">
                    <m:r>
                      <m:t xml:space="preserve">D</m:t>
                    </m:r>
                    <m:r>
                      <m:t xml:space="preserve">(</m:t>
                    </m:r>
                    <m:r>
                      <m:t xml:space="preserve">u</m:t>
                    </m:r>
                    <m:r>
                      <m:t xml:space="preserve">,</m:t>
                    </m:r>
                    <m:r>
                      <m:t xml:space="preserve">v</m:t>
                    </m:r>
                    <m:r>
                      <m:t xml:space="preserve">)</m:t>
                    </m:r>
                    <m:r>
                      <m:t xml:space="preserve">=</m:t>
                    </m:r>
                    <m:r>
                      <m:t xml:space="preserve">(</m:t>
                    </m:r>
                    <m:sSup>
                      <m:e>
                        <m:r>
                          <m:t xml:space="preserve">u</m:t>
                        </m:r>
                      </m:e>
                      <m:sup>
                        <m:r>
                          <m:t xml:space="preserve">2</m:t>
                        </m:r>
                      </m:sup>
                    </m:sSup>
                    <m:r>
                      <m:t xml:space="preserve">+</m:t>
                    </m:r>
                    <m:sSup>
                      <m:e>
                        <m:r>
                          <m:t xml:space="preserve">v</m:t>
                        </m:r>
                      </m:e>
                      <m:sup>
                        <m:r>
                          <m:t xml:space="preserve">2</m:t>
                        </m:r>
                      </m:sup>
                    </m:sSup>
                    <m:sSup>
                      <m:e>
                        <m:r>
                          <m:t xml:space="preserve">)</m:t>
                        </m:r>
                      </m:e>
                      <m:sup>
                        <m:f>
                          <m:fPr>
                            <m:type m:val="lin"/>
                          </m:fPr>
                          <m:num>
                            <m:r>
                              <m:t xml:space="preserve">1</m:t>
                            </m:r>
                          </m:num>
                          <m:den>
                            <m:r>
                              <m:t xml:space="preserve">2</m:t>
                            </m:r>
                          </m:den>
                        </m:f>
                      </m:sup>
                    </m:sSup>
                  </m:oMath>
                </a14:m>
              </a:p>
            </p:txBody>
          </p:sp>
        </mc:Choice>
        <mc:Fallback/>
      </mc:AlternateContent>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476866A8-F8A2-49B5-8119-BFF3ECA75D48}" type="slidenum">
              <a:t>67</a:t>
            </a:fld>
          </a:p>
        </p:txBody>
      </p:sp>
      <p:sp>
        <p:nvSpPr>
          <p:cNvPr id="6" name="PlaceHolder 5"/>
          <p:cNvSpPr>
            <a:spLocks noGrp="1"/>
          </p:cNvSpPr>
          <p:nvPr>
            <p:ph type="dt" idx="1"/>
          </p:nvPr>
        </p:nvSpPr>
        <p:spPr/>
        <p:txBody>
          <a:bodyPr/>
          <a:p>
            <a:fld id="{B32B2654-6322-4176-B579-DEA5806E84AF}" type="datetime1">
              <a:rPr lang="en-US"/>
              <a:t>07/30/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143000" y="228240"/>
            <a:ext cx="8337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ea typeface="Times New Roman"/>
              </a:rPr>
              <a:t>Filtro passa – altas Butterworth</a:t>
            </a:r>
            <a:endParaRPr b="1" lang="en-US" sz="4400" spc="-1" strike="noStrike">
              <a:solidFill>
                <a:srgbClr val="3333cc"/>
              </a:solidFill>
              <a:latin typeface="Times New Roman"/>
            </a:endParaRPr>
          </a:p>
        </p:txBody>
      </p:sp>
      <p:sp>
        <p:nvSpPr>
          <p:cNvPr id="356" name="PlaceHolder 2"/>
          <p:cNvSpPr>
            <a:spLocks noGrp="1"/>
          </p:cNvSpPr>
          <p:nvPr>
            <p:ph/>
          </p:nvPr>
        </p:nvSpPr>
        <p:spPr>
          <a:xfrm>
            <a:off x="1294920" y="1447560"/>
            <a:ext cx="8007480" cy="4800600"/>
          </a:xfrm>
          <a:prstGeom prst="rect">
            <a:avLst/>
          </a:prstGeom>
          <a:noFill/>
          <a:ln w="0">
            <a:noFill/>
          </a:ln>
        </p:spPr>
        <p:txBody>
          <a:bodyPr lIns="92160" rIns="92160" tIns="46080" bIns="46080" anchor="t">
            <a:normAutofit/>
          </a:bodyPr>
          <a:p>
            <a:pPr marL="343080" indent="-343080" algn="just">
              <a:spcBef>
                <a:spcPts val="7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000000"/>
                </a:solidFill>
                <a:latin typeface="Arial"/>
                <a:ea typeface="Times New Roman"/>
              </a:rPr>
              <a:t>Um filtro Butterworth, de ordem n e com freqüência de corte a uma distancia D</a:t>
            </a:r>
            <a:r>
              <a:rPr b="1" lang="pt-BR" sz="3000" spc="-1" strike="noStrike" baseline="-30000">
                <a:solidFill>
                  <a:srgbClr val="000000"/>
                </a:solidFill>
                <a:latin typeface="Arial"/>
                <a:ea typeface="Times New Roman"/>
              </a:rPr>
              <a:t>0</a:t>
            </a:r>
            <a:r>
              <a:rPr b="1" lang="pt-BR" sz="3000" spc="-1" strike="noStrike">
                <a:solidFill>
                  <a:srgbClr val="000000"/>
                </a:solidFill>
                <a:latin typeface="Arial"/>
                <a:ea typeface="Times New Roman"/>
              </a:rPr>
              <a:t> da origem, possui função de transferência dada pela equação: </a:t>
            </a:r>
            <a:endParaRPr b="1"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gn="just">
              <a:spcBef>
                <a:spcPts val="7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000000"/>
                </a:solidFill>
                <a:latin typeface="Arial"/>
                <a:ea typeface="Times New Roman"/>
              </a:rPr>
              <a:t>Filtro Ideal:</a:t>
            </a:r>
            <a:endParaRPr b="1"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7" name=""/>
          <p:cNvSpPr/>
          <p:nvPr/>
        </p:nvSpPr>
        <p:spPr>
          <a:xfrm>
            <a:off x="4132440" y="332892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mc:AlternateContent>
        <mc:Choice xmlns:a14="http://schemas.microsoft.com/office/drawing/2010/main" Requires="a14">
          <p:sp>
            <p:nvSpPr>
              <p:cNvPr id="358" name=""/>
              <p:cNvSpPr txBox="1"/>
              <p:nvPr/>
            </p:nvSpPr>
            <p:spPr>
              <a:xfrm>
                <a:off x="3809880" y="3581280"/>
                <a:ext cx="3880080" cy="473040"/>
              </a:xfrm>
              <a:prstGeom prst="rect">
                <a:avLst/>
              </a:prstGeom>
            </p:spPr>
            <p:txBody>
              <a:bodyPr/>
              <a:p>
                <a14:m>
                  <m:oMath xmlns:m="http://schemas.openxmlformats.org/officeDocument/2006/math">
                    <m:r>
                      <m:t xml:space="preserve">G</m:t>
                    </m:r>
                    <m:r>
                      <m:t xml:space="preserve">(</m:t>
                    </m:r>
                    <m:r>
                      <m:t xml:space="preserve">u</m:t>
                    </m:r>
                    <m:r>
                      <m:t xml:space="preserve">,</m:t>
                    </m:r>
                    <m:r>
                      <m:t xml:space="preserve">v</m:t>
                    </m:r>
                    <m:r>
                      <m:t xml:space="preserve">)</m:t>
                    </m:r>
                    <m:r>
                      <m:t xml:space="preserve">=</m:t>
                    </m:r>
                    <m:r>
                      <m:t xml:space="preserve">F</m:t>
                    </m:r>
                    <m:r>
                      <m:t xml:space="preserve">(</m:t>
                    </m:r>
                    <m:r>
                      <m:t xml:space="preserve">u</m:t>
                    </m:r>
                    <m:r>
                      <m:t xml:space="preserve">,</m:t>
                    </m:r>
                    <m:r>
                      <m:t xml:space="preserve">v</m:t>
                    </m:r>
                    <m:r>
                      <m:t xml:space="preserve">)</m:t>
                    </m:r>
                    <m:r>
                      <m:t xml:space="preserve">H</m:t>
                    </m:r>
                    <m:r>
                      <m:t xml:space="preserve">(</m:t>
                    </m:r>
                    <m:r>
                      <m:t xml:space="preserve">u</m:t>
                    </m:r>
                    <m:r>
                      <m:t xml:space="preserve">,</m:t>
                    </m:r>
                    <m:r>
                      <m:t xml:space="preserve">v</m:t>
                    </m:r>
                    <m:r>
                      <m:t xml:space="preserve">)</m:t>
                    </m:r>
                  </m:oMath>
                </a14:m>
              </a:p>
            </p:txBody>
          </p:sp>
        </mc:Choice>
        <mc:Fallback/>
      </mc:AlternateContent>
      <p:sp>
        <p:nvSpPr>
          <p:cNvPr id="359" name=""/>
          <p:cNvSpPr/>
          <p:nvPr/>
        </p:nvSpPr>
        <p:spPr>
          <a:xfrm>
            <a:off x="3978360" y="318600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360" name=""/>
          <p:cNvSpPr/>
          <p:nvPr/>
        </p:nvSpPr>
        <p:spPr>
          <a:xfrm>
            <a:off x="3978360" y="318600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mc:AlternateContent>
        <mc:Choice xmlns:a14="http://schemas.microsoft.com/office/drawing/2010/main" Requires="a14">
          <p:sp>
            <p:nvSpPr>
              <p:cNvPr id="361" name=""/>
              <p:cNvSpPr txBox="1"/>
              <p:nvPr/>
            </p:nvSpPr>
            <p:spPr>
              <a:xfrm>
                <a:off x="1752480" y="4952880"/>
                <a:ext cx="3880080" cy="965160"/>
              </a:xfrm>
              <a:prstGeom prst="rect">
                <a:avLst/>
              </a:prstGeom>
            </p:spPr>
            <p:txBody>
              <a:bodyPr/>
              <a:p>
                <a14:m>
                  <m:oMath xmlns:m="http://schemas.openxmlformats.org/officeDocument/2006/math">
                    <m:r>
                      <m:t xml:space="preserve">H</m:t>
                    </m:r>
                    <m:r>
                      <m:t xml:space="preserve">(</m:t>
                    </m:r>
                    <m:r>
                      <m:t xml:space="preserve">u</m:t>
                    </m:r>
                    <m:r>
                      <m:t xml:space="preserve">,</m:t>
                    </m:r>
                    <m:r>
                      <m:t xml:space="preserve">v</m:t>
                    </m:r>
                    <m:r>
                      <m:t xml:space="preserve">)</m:t>
                    </m:r>
                    <m:r>
                      <m:t xml:space="preserve">=</m:t>
                    </m:r>
                    <m:eqArr>
                      <m:e>
                        <m:d>
                          <m:dPr>
                            <m:begChr m:val="{"/>
                            <m:endChr m:val=""/>
                          </m:dPr>
                          <m:e>
                            <m:r>
                              <m:t xml:space="preserve">0</m:t>
                            </m:r>
                            <m:r>
                              <m:t xml:space="preserve"> </m:t>
                            </m:r>
                            <m:r>
                              <m:rPr>
                                <m:lit/>
                                <m:nor/>
                              </m:rPr>
                              <m:t xml:space="preserve">se</m:t>
                            </m:r>
                            <m:r>
                              <m:t xml:space="preserve"> </m:t>
                            </m:r>
                            <m:r>
                              <m:t xml:space="preserve">D</m:t>
                            </m:r>
                            <m:r>
                              <m:t xml:space="preserve">(</m:t>
                            </m:r>
                            <m:r>
                              <m:t xml:space="preserve">u</m:t>
                            </m:r>
                            <m:r>
                              <m:t xml:space="preserve">,</m:t>
                            </m:r>
                            <m:r>
                              <m:t xml:space="preserve">v</m:t>
                            </m:r>
                            <m:r>
                              <m:t xml:space="preserve">)</m:t>
                            </m:r>
                            <m:r>
                              <m:t xml:space="preserve">≤</m:t>
                            </m:r>
                            <m:sSub>
                              <m:e>
                                <m:r>
                                  <m:t xml:space="preserve">D</m:t>
                                </m:r>
                              </m:e>
                              <m:sub>
                                <m:r>
                                  <m:t xml:space="preserve">0</m:t>
                                </m:r>
                              </m:sub>
                            </m:sSub>
                          </m:e>
                          <m:e/>
                        </m:d>
                      </m:e>
                    </m:eqArr>
                  </m:oMath>
                </a14:m>
              </a:p>
            </p:txBody>
          </p:sp>
        </mc:Choice>
        <mc:Fallback/>
      </mc:AlternateContent>
      <p:sp>
        <p:nvSpPr>
          <p:cNvPr id="362" name=""/>
          <p:cNvSpPr/>
          <p:nvPr/>
        </p:nvSpPr>
        <p:spPr>
          <a:xfrm>
            <a:off x="3978360" y="320508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mc:AlternateContent>
        <mc:Choice xmlns:a14="http://schemas.microsoft.com/office/drawing/2010/main" Requires="a14">
          <p:sp>
            <p:nvSpPr>
              <p:cNvPr id="363" name=""/>
              <p:cNvSpPr txBox="1"/>
              <p:nvPr/>
            </p:nvSpPr>
            <p:spPr>
              <a:xfrm>
                <a:off x="5715000" y="4191120"/>
                <a:ext cx="3962520" cy="1218960"/>
              </a:xfrm>
              <a:prstGeom prst="rect">
                <a:avLst/>
              </a:prstGeom>
            </p:spPr>
            <p:txBody>
              <a:bodyPr/>
              <a:p>
                <a14:m>
                  <m:oMath xmlns:m="http://schemas.openxmlformats.org/officeDocument/2006/math">
                    <m:r>
                      <m:t xml:space="preserve">H</m:t>
                    </m:r>
                    <m:r>
                      <m:t xml:space="preserve">(</m:t>
                    </m:r>
                    <m:r>
                      <m:t xml:space="preserve">u</m:t>
                    </m:r>
                    <m:r>
                      <m:t xml:space="preserve">,</m:t>
                    </m:r>
                    <m:r>
                      <m:t xml:space="preserve">v</m:t>
                    </m:r>
                    <m:r>
                      <m:t xml:space="preserve">)</m:t>
                    </m:r>
                    <m:r>
                      <m:t xml:space="preserve">=</m:t>
                    </m:r>
                    <m:f>
                      <m:num>
                        <m:r>
                          <m:t xml:space="preserve">1</m:t>
                        </m:r>
                      </m:num>
                      <m:den>
                        <m:r>
                          <m:t xml:space="preserve">1</m:t>
                        </m:r>
                        <m:r>
                          <m:t xml:space="preserve">+</m:t>
                        </m:r>
                        <m:sSup>
                          <m:e>
                            <m:d>
                              <m:dPr>
                                <m:begChr m:val="["/>
                                <m:endChr m:val="]"/>
                              </m:dPr>
                              <m:e>
                                <m:r>
                                  <m:t xml:space="preserve">D</m:t>
                                </m:r>
                                <m:r>
                                  <m:t xml:space="preserve">(</m:t>
                                </m:r>
                                <m:r>
                                  <m:t xml:space="preserve">u</m:t>
                                </m:r>
                                <m:r>
                                  <m:t xml:space="preserve">,</m:t>
                                </m:r>
                                <m:r>
                                  <m:t xml:space="preserve">v</m:t>
                                </m:r>
                                <m:f>
                                  <m:fPr>
                                    <m:type m:val="lin"/>
                                  </m:fPr>
                                  <m:num>
                                    <m:r>
                                      <m:t xml:space="preserve">)</m:t>
                                    </m:r>
                                  </m:num>
                                  <m:den>
                                    <m:sSub>
                                      <m:e>
                                        <m:r>
                                          <m:t xml:space="preserve">D</m:t>
                                        </m:r>
                                      </m:e>
                                      <m:sub>
                                        <m:r>
                                          <m:t xml:space="preserve">0</m:t>
                                        </m:r>
                                      </m:sub>
                                    </m:sSub>
                                  </m:den>
                                </m:f>
                              </m:e>
                            </m:d>
                          </m:e>
                          <m:sup>
                            <m:r>
                              <m:t xml:space="preserve">2</m:t>
                            </m:r>
                            <m:r>
                              <m:t xml:space="preserve">n</m:t>
                            </m:r>
                          </m:sup>
                        </m:sSup>
                      </m:den>
                    </m:f>
                  </m:oMath>
                </a14:m>
              </a:p>
            </p:txBody>
          </p:sp>
        </mc:Choice>
        <mc:Fallback/>
      </mc:AlternateContent>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5B768EFB-83CF-4C8C-9AE1-7D13FA5623D1}" type="slidenum">
              <a:t>68</a:t>
            </a:fld>
          </a:p>
        </p:txBody>
      </p:sp>
      <p:sp>
        <p:nvSpPr>
          <p:cNvPr id="6" name="PlaceHolder 5"/>
          <p:cNvSpPr>
            <a:spLocks noGrp="1"/>
          </p:cNvSpPr>
          <p:nvPr>
            <p:ph type="dt" idx="1"/>
          </p:nvPr>
        </p:nvSpPr>
        <p:spPr/>
        <p:txBody>
          <a:bodyPr/>
          <a:p>
            <a:fld id="{482699EA-B1F5-4B8F-A61D-15DA52125C13}" type="datetime1">
              <a:rPr lang="en-US"/>
              <a:t>07/30/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247320" y="-360"/>
            <a:ext cx="800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Filtros Wiener </a:t>
            </a:r>
            <a:endParaRPr b="1" lang="en-US" sz="4400" spc="-1" strike="noStrike">
              <a:solidFill>
                <a:srgbClr val="3333cc"/>
              </a:solidFill>
              <a:latin typeface="Times New Roman"/>
            </a:endParaRPr>
          </a:p>
        </p:txBody>
      </p:sp>
      <p:sp>
        <p:nvSpPr>
          <p:cNvPr id="365" name="PlaceHolder 2"/>
          <p:cNvSpPr>
            <a:spLocks noGrp="1"/>
          </p:cNvSpPr>
          <p:nvPr>
            <p:ph/>
          </p:nvPr>
        </p:nvSpPr>
        <p:spPr>
          <a:xfrm>
            <a:off x="1523880" y="1828440"/>
            <a:ext cx="8089920" cy="4267080"/>
          </a:xfrm>
          <a:prstGeom prst="rect">
            <a:avLst/>
          </a:prstGeom>
          <a:noFill/>
          <a:ln w="0">
            <a:noFill/>
          </a:ln>
        </p:spPr>
        <p:txBody>
          <a:bodyPr lIns="92160" rIns="92160" tIns="46080" bIns="46080" anchor="t">
            <a:normAutofit/>
          </a:bodyPr>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Times New Roman"/>
              </a:rPr>
              <a:t>Filtro de Wiener e suas variantes são para em casos onde o ruído é significativo, uma boa aproximação pode ser expressa por:</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Onde:</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Times New Roman"/>
              </a:rPr>
              <a:t>   </a:t>
            </a:r>
            <a:r>
              <a:rPr b="1" lang="pt-BR" sz="2400" spc="-1" strike="noStrike">
                <a:solidFill>
                  <a:srgbClr val="000000"/>
                </a:solidFill>
                <a:latin typeface="Arial"/>
                <a:ea typeface="Times New Roman"/>
              </a:rPr>
              <a:t>||H||</a:t>
            </a:r>
            <a:r>
              <a:rPr b="1" lang="pt-BR" sz="2400" spc="-1" strike="noStrike" baseline="30000">
                <a:solidFill>
                  <a:srgbClr val="000000"/>
                </a:solidFill>
                <a:latin typeface="Arial"/>
                <a:ea typeface="Times New Roman"/>
              </a:rPr>
              <a:t>2</a:t>
            </a:r>
            <a:r>
              <a:rPr b="1" lang="pt-BR" sz="2400" spc="-1" strike="noStrike">
                <a:solidFill>
                  <a:srgbClr val="000000"/>
                </a:solidFill>
                <a:latin typeface="Arial"/>
                <a:ea typeface="Times New Roman"/>
              </a:rPr>
              <a:t> é a norma do número complexo H, e K uma constante. Sugestão:  [González (1992)] para um valor de K é 2</a:t>
            </a:r>
            <a:r>
              <a:rPr b="1" lang="pt-BR" sz="2400" spc="-1" strike="noStrike">
                <a:solidFill>
                  <a:srgbClr val="000000"/>
                </a:solidFill>
                <a:latin typeface="Symbol"/>
                <a:ea typeface="Symbol"/>
              </a:rPr>
              <a:t></a:t>
            </a:r>
            <a:r>
              <a:rPr b="1" lang="pt-BR" sz="2400" spc="-1" strike="noStrike" baseline="30000">
                <a:solidFill>
                  <a:srgbClr val="000000"/>
                </a:solidFill>
                <a:latin typeface="Arial"/>
                <a:ea typeface="Times New Roman"/>
              </a:rPr>
              <a:t>2</a:t>
            </a:r>
            <a:r>
              <a:rPr b="1" lang="pt-BR" sz="2400" spc="-1" strike="noStrike">
                <a:solidFill>
                  <a:srgbClr val="000000"/>
                </a:solidFill>
                <a:latin typeface="Arial"/>
                <a:ea typeface="Times New Roman"/>
              </a:rPr>
              <a:t>, onde </a:t>
            </a:r>
            <a:r>
              <a:rPr b="1" lang="pt-BR" sz="2400" spc="-1" strike="noStrike">
                <a:solidFill>
                  <a:srgbClr val="000000"/>
                </a:solidFill>
                <a:latin typeface="Symbol"/>
                <a:ea typeface="Symbol"/>
              </a:rPr>
              <a:t></a:t>
            </a:r>
            <a:r>
              <a:rPr b="1" lang="pt-BR" sz="2400" spc="-1" strike="noStrike" baseline="30000">
                <a:solidFill>
                  <a:srgbClr val="000000"/>
                </a:solidFill>
                <a:latin typeface="Arial"/>
                <a:ea typeface="Times New Roman"/>
              </a:rPr>
              <a:t>2 </a:t>
            </a:r>
            <a:r>
              <a:rPr b="1" lang="pt-BR" sz="2400" spc="-1" strike="noStrike">
                <a:solidFill>
                  <a:srgbClr val="000000"/>
                </a:solidFill>
                <a:latin typeface="Arial"/>
                <a:ea typeface="Times New Roman"/>
              </a:rPr>
              <a:t>é a variância do ruído.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mc:AlternateContent>
        <mc:Choice xmlns:a14="http://schemas.microsoft.com/office/drawing/2010/main" Requires="a14">
          <p:sp>
            <p:nvSpPr>
              <p:cNvPr id="366" name=""/>
              <p:cNvSpPr txBox="1"/>
              <p:nvPr/>
            </p:nvSpPr>
            <p:spPr>
              <a:xfrm>
                <a:off x="3219480" y="3200400"/>
                <a:ext cx="2265480" cy="853920"/>
              </a:xfrm>
              <a:prstGeom prst="rect">
                <a:avLst/>
              </a:prstGeom>
            </p:spPr>
            <p:txBody>
              <a:bodyPr/>
              <a:p>
                <a14:m>
                  <m:oMath xmlns:m="http://schemas.openxmlformats.org/officeDocument/2006/math">
                    <m:r>
                      <m:t xml:space="preserve">I</m:t>
                    </m:r>
                    <m:r>
                      <m:t xml:space="preserve">»</m:t>
                    </m:r>
                    <m:d>
                      <m:dPr>
                        <m:begChr m:val="["/>
                        <m:endChr m:val="]"/>
                      </m:dPr>
                      <m:e>
                        <m:f>
                          <m:num>
                            <m:r>
                              <m:t xml:space="preserve">1</m:t>
                            </m:r>
                          </m:num>
                          <m:den>
                            <m:r>
                              <m:t xml:space="preserve">H</m:t>
                            </m:r>
                          </m:den>
                        </m:f>
                        <m:f>
                          <m:num>
                            <m:sSup>
                              <m:e>
                                <m:d>
                                  <m:dPr>
                                    <m:begChr m:val="‖"/>
                                    <m:endChr m:val="‖"/>
                                  </m:dPr>
                                  <m:e>
                                    <m:r>
                                      <m:t xml:space="preserve">H</m:t>
                                    </m:r>
                                  </m:e>
                                </m:d>
                              </m:e>
                              <m:sup>
                                <m:r>
                                  <m:t xml:space="preserve">2</m:t>
                                </m:r>
                              </m:sup>
                            </m:sSup>
                          </m:num>
                          <m:den>
                            <m:sSup>
                              <m:e>
                                <m:d>
                                  <m:dPr>
                                    <m:begChr m:val="‖"/>
                                    <m:endChr m:val="‖"/>
                                  </m:dPr>
                                  <m:e>
                                    <m:r>
                                      <m:t xml:space="preserve">H</m:t>
                                    </m:r>
                                  </m:e>
                                </m:d>
                              </m:e>
                              <m:sup>
                                <m:r>
                                  <m:t xml:space="preserve">2</m:t>
                                </m:r>
                              </m:sup>
                            </m:sSup>
                            <m:r>
                              <m:t xml:space="preserve">+</m:t>
                            </m:r>
                            <m:r>
                              <m:t xml:space="preserve">K</m:t>
                            </m:r>
                          </m:den>
                        </m:f>
                      </m:e>
                    </m:d>
                    <m:r>
                      <m:t xml:space="preserve">F</m:t>
                    </m:r>
                  </m:oMath>
                </a14:m>
              </a:p>
            </p:txBody>
          </p:sp>
        </mc:Choice>
        <mc:Fallback/>
      </mc:AlternateContent>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B7BEE3A4-26B4-4537-B14C-261A3F842730}" type="slidenum">
              <a:t>69</a:t>
            </a:fld>
          </a:p>
        </p:txBody>
      </p:sp>
      <p:sp>
        <p:nvSpPr>
          <p:cNvPr id="6" name="PlaceHolder 5"/>
          <p:cNvSpPr>
            <a:spLocks noGrp="1"/>
          </p:cNvSpPr>
          <p:nvPr>
            <p:ph type="dt" idx="1"/>
          </p:nvPr>
        </p:nvSpPr>
        <p:spPr/>
        <p:txBody>
          <a:bodyPr/>
          <a:p>
            <a:fld id="{84478051-7D06-4396-99F9-6BF70D0DCEF8}"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 Conceitos básicos</a:t>
            </a:r>
            <a:endParaRPr b="1" lang="en-US" sz="4400" spc="-1" strike="noStrike">
              <a:solidFill>
                <a:srgbClr val="3333cc"/>
              </a:solidFill>
              <a:latin typeface="Times New Roman"/>
            </a:endParaRPr>
          </a:p>
        </p:txBody>
      </p:sp>
      <p:sp>
        <p:nvSpPr>
          <p:cNvPr id="190" name="PlaceHolder 2"/>
          <p:cNvSpPr>
            <a:spLocks noGrp="1"/>
          </p:cNvSpPr>
          <p:nvPr>
            <p:ph/>
          </p:nvPr>
        </p:nvSpPr>
        <p:spPr>
          <a:xfrm>
            <a:off x="1625400" y="1523520"/>
            <a:ext cx="823428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O que é computação reconfigurável ?</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Computação, hardware fixo (</a:t>
            </a:r>
            <a:r>
              <a:rPr b="1" i="1" lang="pt-BR" sz="3200" spc="-1" strike="noStrike">
                <a:solidFill>
                  <a:srgbClr val="000000"/>
                </a:solidFill>
                <a:latin typeface="Arial"/>
              </a:rPr>
              <a:t>hardwired</a:t>
            </a:r>
            <a:r>
              <a:rPr b="1" lang="pt-BR" sz="3200" spc="-1" strike="noStrike">
                <a:solidFill>
                  <a:srgbClr val="000000"/>
                </a:solidFill>
                <a:latin typeface="Arial"/>
              </a:rPr>
              <a:t>)</a:t>
            </a:r>
            <a:endParaRPr b="1" lang="en-US" sz="3200" spc="-1" strike="noStrike">
              <a:solidFill>
                <a:srgbClr val="0000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Computação, hardware programável </a:t>
            </a:r>
            <a:endParaRPr b="1" lang="en-US" sz="32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Propósito geral ou dedicado </a:t>
            </a:r>
            <a:endParaRPr b="1"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Computação, hardware reconfigurável</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8CDCC2E0-07FD-478E-A3EE-F6EADB75A8F3}" type="slidenum">
              <a:t>7</a:t>
            </a:fld>
          </a:p>
        </p:txBody>
      </p:sp>
      <p:sp>
        <p:nvSpPr>
          <p:cNvPr id="6" name="PlaceHolder 5"/>
          <p:cNvSpPr>
            <a:spLocks noGrp="1"/>
          </p:cNvSpPr>
          <p:nvPr>
            <p:ph type="dt" idx="1"/>
          </p:nvPr>
        </p:nvSpPr>
        <p:spPr/>
        <p:txBody>
          <a:bodyPr/>
          <a:p>
            <a:fld id="{1B0EFF60-506D-49B8-8CF5-EECBB83E5091}" type="datetime1">
              <a:rPr lang="en-US"/>
              <a:t>07/30/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txBox="1"/>
          <p:nvPr/>
        </p:nvSpPr>
        <p:spPr>
          <a:xfrm>
            <a:off x="2057400" y="762120"/>
            <a:ext cx="6629400" cy="4800600"/>
          </a:xfrm>
          <a:prstGeom prst="rect">
            <a:avLst/>
          </a:prstGeom>
        </p:spPr>
        <p:txBody>
          <a:bodyPr wrap="none" lIns="91800" rIns="91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Exemplos 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Desempenho</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2" name="PlaceHolder 1"/>
          <p:cNvSpPr>
            <a:spLocks noGrp="1"/>
          </p:cNvSpPr>
          <p:nvPr>
            <p:ph type="ftr" idx="2"/>
          </p:nvPr>
        </p:nvSpPr>
        <p:spPr/>
        <p:txBody>
          <a:bodyPr/>
          <a:p>
            <a:r>
              <a:t>Carlos Augusto P. S. Martins - Edward David Moreno - SCR'2001</a:t>
            </a:r>
          </a:p>
        </p:txBody>
      </p:sp>
      <p:sp>
        <p:nvSpPr>
          <p:cNvPr id="3" name="PlaceHolder 2"/>
          <p:cNvSpPr>
            <a:spLocks noGrp="1"/>
          </p:cNvSpPr>
          <p:nvPr>
            <p:ph type="sldNum" idx="3"/>
          </p:nvPr>
        </p:nvSpPr>
        <p:spPr/>
        <p:txBody>
          <a:bodyPr/>
          <a:p>
            <a:fld id="{0B4962DD-228A-4A3F-8327-886AF17F5D17}" type="slidenum">
              <a:t>70</a:t>
            </a:fld>
          </a:p>
        </p:txBody>
      </p:sp>
      <p:sp>
        <p:nvSpPr>
          <p:cNvPr id="4" name="PlaceHolder 3"/>
          <p:cNvSpPr>
            <a:spLocks noGrp="1"/>
          </p:cNvSpPr>
          <p:nvPr>
            <p:ph type="dt" idx="1"/>
          </p:nvPr>
        </p:nvSpPr>
        <p:spPr/>
        <p:txBody>
          <a:bodyPr/>
          <a:p>
            <a:fld id="{2673E3BA-117D-4E0E-8F5A-27E079D18734}" type="datetime1">
              <a:rPr lang="en-US"/>
              <a:t>07/30/26</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980720" y="380520"/>
            <a:ext cx="75186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Problemas Combinatórios - 1-</a:t>
            </a:r>
            <a:endParaRPr b="1" lang="en-US" sz="4400" spc="-1" strike="noStrike">
              <a:solidFill>
                <a:srgbClr val="3333cc"/>
              </a:solidFill>
              <a:latin typeface="Times New Roman"/>
            </a:endParaRPr>
          </a:p>
        </p:txBody>
      </p:sp>
      <p:sp>
        <p:nvSpPr>
          <p:cNvPr id="369" name="PlaceHolder 2"/>
          <p:cNvSpPr>
            <a:spLocks noGrp="1"/>
          </p:cNvSpPr>
          <p:nvPr>
            <p:ph/>
          </p:nvPr>
        </p:nvSpPr>
        <p:spPr>
          <a:xfrm>
            <a:off x="1676520" y="1371240"/>
            <a:ext cx="7929360" cy="4714920"/>
          </a:xfrm>
          <a:prstGeom prst="rect">
            <a:avLst/>
          </a:prstGeom>
          <a:noFill/>
          <a:ln w="0">
            <a:noFill/>
          </a:ln>
        </p:spPr>
        <p:txBody>
          <a:bodyPr lIns="92160" rIns="92160" tIns="46080" bIns="46080" anchor="t">
            <a:normAutofit/>
          </a:bodyPr>
          <a:p>
            <a:pPr marL="343080" indent="-343080">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t>
            </a:r>
            <a:r>
              <a:rPr b="0" lang="pt-BR" sz="1800" spc="-1" strike="noStrike">
                <a:solidFill>
                  <a:srgbClr val="000000"/>
                </a:solidFill>
                <a:latin typeface="Arial"/>
              </a:rPr>
              <a:t>Reconfigurable Accelerators for Combinatorial Problems, Marcos Platzner, IEEE Computer, Mai, 2000</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celeradores Reconfiguráveis podem melhorar o tempo de processo em problemas combinatórios com paralelismo de granulosidade fina.</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sses problemas contém um grande número de operações lógicas (NOT, AND, OR) que podem ser avaliadas simultaneamente.  Essa característica depende da aplicação (de problema a problema).</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Por essa </a:t>
            </a:r>
            <a:r>
              <a:rPr b="0" lang="pt-BR" sz="2400" spc="-1" strike="noStrike">
                <a:solidFill>
                  <a:srgbClr val="990099"/>
                </a:solidFill>
                <a:latin typeface="Arial"/>
              </a:rPr>
              <a:t>variabilidade</a:t>
            </a:r>
            <a:r>
              <a:rPr b="0" lang="pt-BR" sz="1800" spc="-1" strike="noStrike">
                <a:solidFill>
                  <a:srgbClr val="000000"/>
                </a:solidFill>
                <a:latin typeface="Arial"/>
              </a:rPr>
              <a:t>, hardware sintonizado a um algoritmo específico e a um conjunto específico de dados de entrada fazem que reconfiguração seja a melhor opção. </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056A7C62-236E-4C5A-AC8D-8A36AA2CEEFB}" type="slidenum">
              <a:t>71</a:t>
            </a:fld>
          </a:p>
        </p:txBody>
      </p:sp>
      <p:sp>
        <p:nvSpPr>
          <p:cNvPr id="6" name="PlaceHolder 5"/>
          <p:cNvSpPr>
            <a:spLocks noGrp="1"/>
          </p:cNvSpPr>
          <p:nvPr>
            <p:ph type="dt" idx="1"/>
          </p:nvPr>
        </p:nvSpPr>
        <p:spPr/>
        <p:txBody>
          <a:bodyPr/>
          <a:p>
            <a:fld id="{84074B7A-60D8-467B-9D2C-E6C61146B6C4}" type="datetime1">
              <a:rPr lang="en-US"/>
              <a:t>07/30/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980720" y="380520"/>
            <a:ext cx="75186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Problemas Combinatórios - 2-</a:t>
            </a:r>
            <a:endParaRPr b="1" lang="en-US" sz="4400" spc="-1" strike="noStrike">
              <a:solidFill>
                <a:srgbClr val="3333cc"/>
              </a:solidFill>
              <a:latin typeface="Times New Roman"/>
            </a:endParaRPr>
          </a:p>
        </p:txBody>
      </p:sp>
      <p:sp>
        <p:nvSpPr>
          <p:cNvPr id="371" name="PlaceHolder 2"/>
          <p:cNvSpPr>
            <a:spLocks noGrp="1"/>
          </p:cNvSpPr>
          <p:nvPr>
            <p:ph/>
          </p:nvPr>
        </p:nvSpPr>
        <p:spPr>
          <a:xfrm>
            <a:off x="1676520" y="1219320"/>
            <a:ext cx="7929360" cy="5029200"/>
          </a:xfrm>
          <a:prstGeom prst="rect">
            <a:avLst/>
          </a:prstGeom>
          <a:noFill/>
          <a:ln w="0">
            <a:noFill/>
          </a:ln>
        </p:spPr>
        <p:txBody>
          <a:bodyPr lIns="92160" rIns="92160" tIns="46080" bIns="46080" anchor="t">
            <a:normAutofit/>
          </a:bodyPr>
          <a:p>
            <a:pPr marL="343080" indent="-343080">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Um problema combinatório típico é o SAT (Solving Boolean Satisfiability).</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SAT é um problema fundamental em Lógica Matemática e Teoria da Computação e possui várias aplicações práticas.</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Inteligência Artificial, Projeto e Manufatura por Computador, Banco de Dados, Robótica, Visão Computacional, Arquitetura e redes de Computadores.</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xemplo: engenheiros usam SAT na geração automática de padrões de teste para verificar circuitos digitais (em falhas).</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O problema é encontrar uma assignação de valores de verdadeiros (0,1) a um determinado conjunto de variáveis booleanas X1, X2, .....Xn de maneira que uma determinada fórmula booleana seja UM (1).</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6BD38245-BE82-4997-956F-2821F7940063}" type="slidenum">
              <a:t>72</a:t>
            </a:fld>
          </a:p>
        </p:txBody>
      </p:sp>
      <p:sp>
        <p:nvSpPr>
          <p:cNvPr id="6" name="PlaceHolder 5"/>
          <p:cNvSpPr>
            <a:spLocks noGrp="1"/>
          </p:cNvSpPr>
          <p:nvPr>
            <p:ph type="dt" idx="1"/>
          </p:nvPr>
        </p:nvSpPr>
        <p:spPr/>
        <p:txBody>
          <a:bodyPr/>
          <a:p>
            <a:fld id="{3E1F1B55-F7C5-4705-9808-A89FEFC3AAA9}" type="datetime1">
              <a:rPr lang="en-US"/>
              <a:t>07/30/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980720" y="380520"/>
            <a:ext cx="75186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Problemas Combinatórios - 3-</a:t>
            </a:r>
            <a:endParaRPr b="1" lang="en-US" sz="4400" spc="-1" strike="noStrike">
              <a:solidFill>
                <a:srgbClr val="3333cc"/>
              </a:solidFill>
              <a:latin typeface="Times New Roman"/>
            </a:endParaRPr>
          </a:p>
        </p:txBody>
      </p:sp>
      <p:sp>
        <p:nvSpPr>
          <p:cNvPr id="373" name="PlaceHolder 2"/>
          <p:cNvSpPr>
            <a:spLocks noGrp="1"/>
          </p:cNvSpPr>
          <p:nvPr>
            <p:ph/>
          </p:nvPr>
        </p:nvSpPr>
        <p:spPr>
          <a:xfrm>
            <a:off x="1676520" y="1371240"/>
            <a:ext cx="7929360" cy="4714920"/>
          </a:xfrm>
          <a:prstGeom prst="rect">
            <a:avLst/>
          </a:prstGeom>
          <a:noFill/>
          <a:ln w="0">
            <a:noFill/>
          </a:ln>
        </p:spPr>
        <p:txBody>
          <a:bodyPr lIns="92160" rIns="92160" tIns="46080" bIns="46080" anchor="t">
            <a:normAutofit/>
          </a:bodyPr>
          <a:p>
            <a:pPr marL="343080" indent="-343080">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Um problema combinatório típico é o SAT (Solving Boolean Satisfiability).</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 sua solução é um candidato ideal para utilização de reconfiguração específica, obtendo-se grandes melhoramentos.</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Marco Platzner do “Swiss Federal Institute of Technology ETH de Zurich, mostrou speedups de até 140,000 no tempo de execução (Via simulação).  Mas usando um protótipo com tecnologia FPGA sobre soluções em implementadas em Software encontrou também um melhor desempenho.</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 arquitetura básica de um SAT é a seguinte: </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131408C0-6A2A-4E78-B1AD-F365F69F0D30}" type="slidenum">
              <a:t>73</a:t>
            </a:fld>
          </a:p>
        </p:txBody>
      </p:sp>
      <p:sp>
        <p:nvSpPr>
          <p:cNvPr id="6" name="PlaceHolder 5"/>
          <p:cNvSpPr>
            <a:spLocks noGrp="1"/>
          </p:cNvSpPr>
          <p:nvPr>
            <p:ph type="dt" idx="1"/>
          </p:nvPr>
        </p:nvSpPr>
        <p:spPr/>
        <p:txBody>
          <a:bodyPr/>
          <a:p>
            <a:fld id="{065ED681-290F-454E-B947-D3AB5CC7F2EA}" type="datetime1">
              <a:rPr lang="en-US"/>
              <a:t>07/30/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752120" y="304920"/>
            <a:ext cx="75186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Problemas Combinatórios - 4-</a:t>
            </a:r>
            <a:endParaRPr b="1" lang="en-US" sz="4400" spc="-1" strike="noStrike">
              <a:solidFill>
                <a:srgbClr val="3333cc"/>
              </a:solidFill>
              <a:latin typeface="Times New Roman"/>
            </a:endParaRPr>
          </a:p>
        </p:txBody>
      </p:sp>
      <p:sp>
        <p:nvSpPr>
          <p:cNvPr id="375" name="PlaceHolder 2"/>
          <p:cNvSpPr>
            <a:spLocks noGrp="1"/>
          </p:cNvSpPr>
          <p:nvPr>
            <p:ph/>
          </p:nvPr>
        </p:nvSpPr>
        <p:spPr>
          <a:xfrm>
            <a:off x="1447920" y="1219320"/>
            <a:ext cx="7929360" cy="1371600"/>
          </a:xfrm>
          <a:prstGeom prst="rect">
            <a:avLst/>
          </a:prstGeom>
          <a:noFill/>
          <a:ln w="0">
            <a:noFill/>
          </a:ln>
        </p:spPr>
        <p:txBody>
          <a:bodyPr lIns="92160" rIns="92160" tIns="46080" bIns="46080" anchor="t">
            <a:normAutofit/>
          </a:bodyPr>
          <a:p>
            <a:pPr marL="343080" indent="-343080">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Consiste de 3 blocos:</a:t>
            </a:r>
            <a:endParaRPr b="1" lang="en-US" sz="1800" spc="-1" strike="noStrike">
              <a:solidFill>
                <a:srgbClr val="000000"/>
              </a:solidFill>
              <a:latin typeface="Arial"/>
            </a:endParaRPr>
          </a:p>
          <a:p>
            <a:pPr lvl="1" marL="743040" indent="-285840">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uma cadeia de FSM (Finite State Machines) </a:t>
            </a:r>
            <a:endParaRPr b="1" lang="en-US" sz="1600" spc="-1" strike="noStrike">
              <a:solidFill>
                <a:srgbClr val="000000"/>
              </a:solidFill>
              <a:latin typeface="Arial"/>
            </a:endParaRPr>
          </a:p>
          <a:p>
            <a:pPr lvl="1" marL="743040" indent="-285840">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Um DL (deduction logico) </a:t>
            </a:r>
            <a:endParaRPr b="1" lang="en-US" sz="1600" spc="-1" strike="noStrike">
              <a:solidFill>
                <a:srgbClr val="000000"/>
              </a:solidFill>
              <a:latin typeface="Arial"/>
            </a:endParaRPr>
          </a:p>
          <a:p>
            <a:pPr lvl="1" marL="743040" indent="-285840">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um GC (Global Controller)</a:t>
            </a:r>
            <a:endParaRPr b="1" lang="en-US" sz="1600" spc="-1" strike="noStrike">
              <a:solidFill>
                <a:srgbClr val="000000"/>
              </a:solidFill>
              <a:latin typeface="Arial"/>
            </a:endParaRPr>
          </a:p>
        </p:txBody>
      </p:sp>
      <p:sp>
        <p:nvSpPr>
          <p:cNvPr id="376" name=""/>
          <p:cNvSpPr/>
          <p:nvPr/>
        </p:nvSpPr>
        <p:spPr>
          <a:xfrm>
            <a:off x="1523880" y="3505320"/>
            <a:ext cx="3886200" cy="20574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sta arquitetura é de instância específica pois o problema do SAT que se deseja resolver determina o número de FSMs e o DL (que é um circuito combinacional).</a:t>
            </a:r>
            <a:endParaRPr b="0" lang="en-US" sz="1800" spc="-1" strike="noStrike">
              <a:solidFill>
                <a:srgbClr val="333300"/>
              </a:solidFill>
              <a:latin typeface="Times New Roman"/>
            </a:endParaRPr>
          </a:p>
          <a:p>
            <a:pPr lvl="1" marL="743040" indent="-285840">
              <a:lnSpc>
                <a:spcPct val="10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a:p>
            <a:pPr marL="343080" indent="-343080">
              <a:lnSpc>
                <a:spcPct val="10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grpSp>
        <p:nvGrpSpPr>
          <p:cNvPr id="377" name=""/>
          <p:cNvGrpSpPr/>
          <p:nvPr/>
        </p:nvGrpSpPr>
        <p:grpSpPr>
          <a:xfrm>
            <a:off x="5790960" y="990720"/>
            <a:ext cx="3810240" cy="5136840"/>
            <a:chOff x="5790960" y="990720"/>
            <a:chExt cx="3810240" cy="5136840"/>
          </a:xfrm>
        </p:grpSpPr>
        <p:sp>
          <p:nvSpPr>
            <p:cNvPr id="378" name=""/>
            <p:cNvSpPr/>
            <p:nvPr/>
          </p:nvSpPr>
          <p:spPr>
            <a:xfrm>
              <a:off x="6411600" y="2570040"/>
              <a:ext cx="916560" cy="508680"/>
            </a:xfrm>
            <a:prstGeom prst="rect">
              <a:avLst/>
            </a:prstGeom>
            <a:noFill/>
            <a:ln w="9360">
              <a:solidFill>
                <a:srgbClr val="333300"/>
              </a:solidFill>
              <a:miter/>
            </a:ln>
          </p:spPr>
          <p:style>
            <a:lnRef idx="0"/>
            <a:fillRef idx="0"/>
            <a:effectRef idx="0"/>
            <a:fontRef idx="minor"/>
          </p:style>
          <p:txBody>
            <a:bodyPr wrap="none" lIns="92160" rIns="92160" tIns="46080" bIns="460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FSM</a:t>
              </a:r>
              <a:r>
                <a:rPr b="1" lang="pt-BR" sz="2400" spc="-1" strike="noStrike" baseline="-25000">
                  <a:solidFill>
                    <a:srgbClr val="3333cc"/>
                  </a:solidFill>
                  <a:latin typeface="Times New Roman"/>
                </a:rPr>
                <a:t>1</a:t>
              </a:r>
              <a:endParaRPr b="0" lang="en-US" sz="2400" spc="-1" strike="noStrike">
                <a:solidFill>
                  <a:srgbClr val="333300"/>
                </a:solidFill>
                <a:latin typeface="Times New Roman"/>
              </a:endParaRPr>
            </a:p>
          </p:txBody>
        </p:sp>
        <p:sp>
          <p:nvSpPr>
            <p:cNvPr id="379" name=""/>
            <p:cNvSpPr/>
            <p:nvPr/>
          </p:nvSpPr>
          <p:spPr>
            <a:xfrm>
              <a:off x="6411600" y="3408120"/>
              <a:ext cx="916560" cy="508680"/>
            </a:xfrm>
            <a:prstGeom prst="rect">
              <a:avLst/>
            </a:prstGeom>
            <a:noFill/>
            <a:ln w="9360">
              <a:solidFill>
                <a:srgbClr val="333300"/>
              </a:solidFill>
              <a:miter/>
            </a:ln>
          </p:spPr>
          <p:style>
            <a:lnRef idx="0"/>
            <a:fillRef idx="0"/>
            <a:effectRef idx="0"/>
            <a:fontRef idx="minor"/>
          </p:style>
          <p:txBody>
            <a:bodyPr wrap="none" lIns="92160" rIns="92160" tIns="46080" bIns="460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FSM</a:t>
              </a:r>
              <a:r>
                <a:rPr b="1" lang="pt-BR" sz="2400" spc="-1" strike="noStrike" baseline="-25000">
                  <a:solidFill>
                    <a:srgbClr val="3333cc"/>
                  </a:solidFill>
                  <a:latin typeface="Times New Roman"/>
                </a:rPr>
                <a:t>2</a:t>
              </a:r>
              <a:endParaRPr b="0" lang="en-US" sz="2400" spc="-1" strike="noStrike">
                <a:solidFill>
                  <a:srgbClr val="333300"/>
                </a:solidFill>
                <a:latin typeface="Times New Roman"/>
              </a:endParaRPr>
            </a:p>
          </p:txBody>
        </p:sp>
        <p:sp>
          <p:nvSpPr>
            <p:cNvPr id="380" name=""/>
            <p:cNvSpPr/>
            <p:nvPr/>
          </p:nvSpPr>
          <p:spPr>
            <a:xfrm>
              <a:off x="6483240" y="4856040"/>
              <a:ext cx="927000" cy="508680"/>
            </a:xfrm>
            <a:prstGeom prst="rect">
              <a:avLst/>
            </a:prstGeom>
            <a:noFill/>
            <a:ln w="9360">
              <a:solidFill>
                <a:srgbClr val="333300"/>
              </a:solidFill>
              <a:miter/>
            </a:ln>
          </p:spPr>
          <p:style>
            <a:lnRef idx="0"/>
            <a:fillRef idx="0"/>
            <a:effectRef idx="0"/>
            <a:fontRef idx="minor"/>
          </p:style>
          <p:txBody>
            <a:bodyPr wrap="none" lIns="92160" rIns="92160" tIns="46080" bIns="460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FSM</a:t>
              </a:r>
              <a:r>
                <a:rPr b="1" lang="pt-BR" sz="2400" spc="-1" strike="noStrike" baseline="-25000">
                  <a:solidFill>
                    <a:srgbClr val="3333cc"/>
                  </a:solidFill>
                  <a:latin typeface="Times New Roman"/>
                </a:rPr>
                <a:t>n</a:t>
              </a:r>
              <a:endParaRPr b="0" lang="en-US" sz="2400" spc="-1" strike="noStrike">
                <a:solidFill>
                  <a:srgbClr val="333300"/>
                </a:solidFill>
                <a:latin typeface="Times New Roman"/>
              </a:endParaRPr>
            </a:p>
          </p:txBody>
        </p:sp>
        <p:sp>
          <p:nvSpPr>
            <p:cNvPr id="381" name=""/>
            <p:cNvSpPr/>
            <p:nvPr/>
          </p:nvSpPr>
          <p:spPr>
            <a:xfrm>
              <a:off x="6705720" y="3048120"/>
              <a:ext cx="0" cy="380880"/>
            </a:xfrm>
            <a:prstGeom prst="line">
              <a:avLst/>
            </a:prstGeom>
            <a:ln w="28440">
              <a:solidFill>
                <a:srgbClr val="3333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333300"/>
                </a:solidFill>
                <a:latin typeface="Times New Roman"/>
              </a:endParaRPr>
            </a:p>
          </p:txBody>
        </p:sp>
        <p:sp>
          <p:nvSpPr>
            <p:cNvPr id="382" name=""/>
            <p:cNvSpPr/>
            <p:nvPr/>
          </p:nvSpPr>
          <p:spPr>
            <a:xfrm>
              <a:off x="6705720" y="3886200"/>
              <a:ext cx="0" cy="304920"/>
            </a:xfrm>
            <a:prstGeom prst="line">
              <a:avLst/>
            </a:prstGeom>
            <a:ln w="28440">
              <a:solidFill>
                <a:srgbClr val="3333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333300"/>
                </a:solidFill>
                <a:latin typeface="Times New Roman"/>
              </a:endParaRPr>
            </a:p>
          </p:txBody>
        </p:sp>
        <p:sp>
          <p:nvSpPr>
            <p:cNvPr id="383" name=""/>
            <p:cNvSpPr/>
            <p:nvPr/>
          </p:nvSpPr>
          <p:spPr>
            <a:xfrm>
              <a:off x="6705720" y="4572000"/>
              <a:ext cx="0" cy="304920"/>
            </a:xfrm>
            <a:prstGeom prst="line">
              <a:avLst/>
            </a:prstGeom>
            <a:ln w="28440">
              <a:solidFill>
                <a:srgbClr val="3333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333300"/>
                </a:solidFill>
                <a:latin typeface="Times New Roman"/>
              </a:endParaRPr>
            </a:p>
          </p:txBody>
        </p:sp>
        <p:sp>
          <p:nvSpPr>
            <p:cNvPr id="384" name=""/>
            <p:cNvSpPr/>
            <p:nvPr/>
          </p:nvSpPr>
          <p:spPr>
            <a:xfrm flipV="1">
              <a:off x="7162920" y="3048120"/>
              <a:ext cx="0" cy="380880"/>
            </a:xfrm>
            <a:prstGeom prst="line">
              <a:avLst/>
            </a:prstGeom>
            <a:ln w="28440">
              <a:solidFill>
                <a:srgbClr val="3333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333300"/>
                </a:solidFill>
                <a:latin typeface="Times New Roman"/>
              </a:endParaRPr>
            </a:p>
          </p:txBody>
        </p:sp>
        <p:sp>
          <p:nvSpPr>
            <p:cNvPr id="385" name=""/>
            <p:cNvSpPr/>
            <p:nvPr/>
          </p:nvSpPr>
          <p:spPr>
            <a:xfrm flipV="1">
              <a:off x="7162920" y="3885840"/>
              <a:ext cx="0" cy="304920"/>
            </a:xfrm>
            <a:prstGeom prst="line">
              <a:avLst/>
            </a:prstGeom>
            <a:ln w="28440">
              <a:solidFill>
                <a:srgbClr val="3333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333300"/>
                </a:solidFill>
                <a:latin typeface="Times New Roman"/>
              </a:endParaRPr>
            </a:p>
          </p:txBody>
        </p:sp>
        <p:sp>
          <p:nvSpPr>
            <p:cNvPr id="386" name=""/>
            <p:cNvSpPr/>
            <p:nvPr/>
          </p:nvSpPr>
          <p:spPr>
            <a:xfrm flipV="1">
              <a:off x="7162920" y="4495320"/>
              <a:ext cx="0" cy="381240"/>
            </a:xfrm>
            <a:prstGeom prst="line">
              <a:avLst/>
            </a:prstGeom>
            <a:ln w="28440">
              <a:solidFill>
                <a:srgbClr val="3333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333300"/>
                </a:solidFill>
                <a:latin typeface="Times New Roman"/>
              </a:endParaRPr>
            </a:p>
          </p:txBody>
        </p:sp>
        <p:sp>
          <p:nvSpPr>
            <p:cNvPr id="387" name=""/>
            <p:cNvSpPr/>
            <p:nvPr/>
          </p:nvSpPr>
          <p:spPr>
            <a:xfrm>
              <a:off x="8229600" y="2590920"/>
              <a:ext cx="838080" cy="2819160"/>
            </a:xfrm>
            <a:prstGeom prst="rect">
              <a:avLst/>
            </a:prstGeom>
            <a:solidFill>
              <a:srgbClr val="f2f8be"/>
            </a:solidFill>
            <a:ln w="9360">
              <a:solidFill>
                <a:srgbClr val="333300"/>
              </a:solidFill>
              <a:miter/>
            </a:ln>
          </p:spPr>
          <p:style>
            <a:lnRef idx="0"/>
            <a:fillRef idx="0"/>
            <a:effectRef idx="0"/>
            <a:fontRef idx="minor"/>
          </p:style>
          <p:txBody>
            <a:bodyPr wrap="none" lIns="91800" rIns="91800" anchor="ctr">
              <a:noAutofit/>
            </a:bodyPr>
            <a:p>
              <a:endParaRPr b="0" lang="en-US" sz="2400" spc="-1" strike="noStrike">
                <a:solidFill>
                  <a:srgbClr val="333300"/>
                </a:solidFill>
                <a:latin typeface="Times New Roman"/>
              </a:endParaRPr>
            </a:p>
          </p:txBody>
        </p:sp>
        <p:sp>
          <p:nvSpPr>
            <p:cNvPr id="388" name=""/>
            <p:cNvSpPr/>
            <p:nvPr/>
          </p:nvSpPr>
          <p:spPr>
            <a:xfrm>
              <a:off x="8307720" y="3809520"/>
              <a:ext cx="607320" cy="45828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DL</a:t>
              </a:r>
              <a:endParaRPr b="0" lang="en-US" sz="2400" spc="-1" strike="noStrike">
                <a:solidFill>
                  <a:srgbClr val="333300"/>
                </a:solidFill>
                <a:latin typeface="Times New Roman"/>
              </a:endParaRPr>
            </a:p>
          </p:txBody>
        </p:sp>
        <p:sp>
          <p:nvSpPr>
            <p:cNvPr id="389" name=""/>
            <p:cNvSpPr/>
            <p:nvPr/>
          </p:nvSpPr>
          <p:spPr>
            <a:xfrm>
              <a:off x="6400800" y="1752480"/>
              <a:ext cx="2590920" cy="533520"/>
            </a:xfrm>
            <a:prstGeom prst="rect">
              <a:avLst/>
            </a:prstGeom>
            <a:noFill/>
            <a:ln w="9360">
              <a:solidFill>
                <a:srgbClr val="333300"/>
              </a:solidFill>
              <a:miter/>
            </a:ln>
          </p:spPr>
          <p:style>
            <a:lnRef idx="0"/>
            <a:fillRef idx="0"/>
            <a:effectRef idx="0"/>
            <a:fontRef idx="minor"/>
          </p:style>
          <p:txBody>
            <a:bodyPr wrap="none" lIns="91800" rIns="91800" anchor="ctr">
              <a:noAutofit/>
            </a:bodyPr>
            <a:p>
              <a:endParaRPr b="0" lang="en-US" sz="2400" spc="-1" strike="noStrike">
                <a:solidFill>
                  <a:srgbClr val="333300"/>
                </a:solidFill>
                <a:latin typeface="Times New Roman"/>
              </a:endParaRPr>
            </a:p>
          </p:txBody>
        </p:sp>
        <p:sp>
          <p:nvSpPr>
            <p:cNvPr id="390" name=""/>
            <p:cNvSpPr/>
            <p:nvPr/>
          </p:nvSpPr>
          <p:spPr>
            <a:xfrm>
              <a:off x="7314840" y="1828440"/>
              <a:ext cx="642240" cy="45828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GC</a:t>
              </a:r>
              <a:endParaRPr b="0" lang="en-US" sz="2400" spc="-1" strike="noStrike">
                <a:solidFill>
                  <a:srgbClr val="333300"/>
                </a:solidFill>
                <a:latin typeface="Times New Roman"/>
              </a:endParaRPr>
            </a:p>
          </p:txBody>
        </p:sp>
        <p:sp>
          <p:nvSpPr>
            <p:cNvPr id="391" name=""/>
            <p:cNvSpPr/>
            <p:nvPr/>
          </p:nvSpPr>
          <p:spPr>
            <a:xfrm>
              <a:off x="9067680" y="3809880"/>
              <a:ext cx="533520" cy="0"/>
            </a:xfrm>
            <a:prstGeom prst="line">
              <a:avLst/>
            </a:prstGeom>
            <a:ln w="9360">
              <a:solidFill>
                <a:srgbClr val="333300"/>
              </a:solidFill>
              <a:miter/>
            </a:ln>
          </p:spPr>
          <p:style>
            <a:lnRef idx="0"/>
            <a:fillRef idx="0"/>
            <a:effectRef idx="0"/>
            <a:fontRef idx="minor"/>
          </p:style>
          <p:txBody>
            <a:bodyPr lIns="91800" rIns="91800" tIns="-45720" bIns="-45720" anchor="ctr">
              <a:noAutofit/>
            </a:bodyPr>
            <a:p>
              <a:endParaRPr b="0" lang="en-US" sz="2400" spc="-1" strike="noStrike">
                <a:solidFill>
                  <a:srgbClr val="333300"/>
                </a:solidFill>
                <a:latin typeface="Times New Roman"/>
              </a:endParaRPr>
            </a:p>
          </p:txBody>
        </p:sp>
        <p:sp>
          <p:nvSpPr>
            <p:cNvPr id="392" name=""/>
            <p:cNvSpPr/>
            <p:nvPr/>
          </p:nvSpPr>
          <p:spPr>
            <a:xfrm>
              <a:off x="9601200" y="3809880"/>
              <a:ext cx="0" cy="1905120"/>
            </a:xfrm>
            <a:prstGeom prst="line">
              <a:avLst/>
            </a:prstGeom>
            <a:ln w="6480">
              <a:solidFill>
                <a:srgbClr val="333300"/>
              </a:solidFill>
              <a:miter/>
            </a:ln>
          </p:spPr>
          <p:style>
            <a:lnRef idx="0"/>
            <a:fillRef idx="0"/>
            <a:effectRef idx="0"/>
            <a:fontRef idx="minor"/>
          </p:style>
          <p:txBody>
            <a:bodyPr lIns="91800" rIns="91800" anchor="ctr">
              <a:noAutofit/>
            </a:bodyPr>
            <a:p>
              <a:endParaRPr b="0" lang="en-US" sz="2400" spc="-1" strike="noStrike">
                <a:solidFill>
                  <a:srgbClr val="333300"/>
                </a:solidFill>
                <a:latin typeface="Times New Roman"/>
              </a:endParaRPr>
            </a:p>
          </p:txBody>
        </p:sp>
        <p:sp>
          <p:nvSpPr>
            <p:cNvPr id="393" name=""/>
            <p:cNvSpPr/>
            <p:nvPr/>
          </p:nvSpPr>
          <p:spPr>
            <a:xfrm flipH="1">
              <a:off x="5790960" y="5715000"/>
              <a:ext cx="3809880" cy="0"/>
            </a:xfrm>
            <a:prstGeom prst="line">
              <a:avLst/>
            </a:prstGeom>
            <a:ln w="3240">
              <a:solidFill>
                <a:srgbClr val="333300"/>
              </a:solidFill>
              <a:miter/>
            </a:ln>
          </p:spPr>
          <p:style>
            <a:lnRef idx="0"/>
            <a:fillRef idx="0"/>
            <a:effectRef idx="0"/>
            <a:fontRef idx="minor"/>
          </p:style>
          <p:txBody>
            <a:bodyPr lIns="91800" rIns="91800" tIns="-45720" bIns="-45720" anchor="ctr">
              <a:noAutofit/>
            </a:bodyPr>
            <a:p>
              <a:endParaRPr b="0" lang="en-US" sz="2400" spc="-1" strike="noStrike">
                <a:solidFill>
                  <a:srgbClr val="333300"/>
                </a:solidFill>
                <a:latin typeface="Times New Roman"/>
              </a:endParaRPr>
            </a:p>
          </p:txBody>
        </p:sp>
        <p:sp>
          <p:nvSpPr>
            <p:cNvPr id="394" name=""/>
            <p:cNvSpPr/>
            <p:nvPr/>
          </p:nvSpPr>
          <p:spPr>
            <a:xfrm flipV="1">
              <a:off x="5791320" y="2133720"/>
              <a:ext cx="0" cy="3581280"/>
            </a:xfrm>
            <a:prstGeom prst="line">
              <a:avLst/>
            </a:prstGeom>
            <a:ln w="6480">
              <a:solidFill>
                <a:srgbClr val="333300"/>
              </a:solidFill>
              <a:miter/>
            </a:ln>
          </p:spPr>
          <p:style>
            <a:lnRef idx="0"/>
            <a:fillRef idx="0"/>
            <a:effectRef idx="0"/>
            <a:fontRef idx="minor"/>
          </p:style>
          <p:txBody>
            <a:bodyPr lIns="91800" rIns="91800" anchor="ctr">
              <a:noAutofit/>
            </a:bodyPr>
            <a:p>
              <a:endParaRPr b="0" lang="en-US" sz="2400" spc="-1" strike="noStrike">
                <a:solidFill>
                  <a:srgbClr val="333300"/>
                </a:solidFill>
                <a:latin typeface="Times New Roman"/>
              </a:endParaRPr>
            </a:p>
          </p:txBody>
        </p:sp>
        <p:sp>
          <p:nvSpPr>
            <p:cNvPr id="395" name=""/>
            <p:cNvSpPr/>
            <p:nvPr/>
          </p:nvSpPr>
          <p:spPr>
            <a:xfrm>
              <a:off x="5791320" y="2133720"/>
              <a:ext cx="609480" cy="0"/>
            </a:xfrm>
            <a:prstGeom prst="line">
              <a:avLst/>
            </a:prstGeom>
            <a:ln w="28440">
              <a:solidFill>
                <a:srgbClr val="3333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333300"/>
                </a:solidFill>
                <a:latin typeface="Times New Roman"/>
              </a:endParaRPr>
            </a:p>
          </p:txBody>
        </p:sp>
        <p:sp>
          <p:nvSpPr>
            <p:cNvPr id="396" name=""/>
            <p:cNvSpPr/>
            <p:nvPr/>
          </p:nvSpPr>
          <p:spPr>
            <a:xfrm>
              <a:off x="5791320" y="2895480"/>
              <a:ext cx="609480" cy="0"/>
            </a:xfrm>
            <a:prstGeom prst="line">
              <a:avLst/>
            </a:prstGeom>
            <a:ln w="28440">
              <a:solidFill>
                <a:srgbClr val="3333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333300"/>
                </a:solidFill>
                <a:latin typeface="Times New Roman"/>
              </a:endParaRPr>
            </a:p>
          </p:txBody>
        </p:sp>
        <p:sp>
          <p:nvSpPr>
            <p:cNvPr id="397" name=""/>
            <p:cNvSpPr/>
            <p:nvPr/>
          </p:nvSpPr>
          <p:spPr>
            <a:xfrm>
              <a:off x="5791320" y="3657600"/>
              <a:ext cx="609480" cy="0"/>
            </a:xfrm>
            <a:prstGeom prst="line">
              <a:avLst/>
            </a:prstGeom>
            <a:ln w="28440">
              <a:solidFill>
                <a:srgbClr val="3333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333300"/>
                </a:solidFill>
                <a:latin typeface="Times New Roman"/>
              </a:endParaRPr>
            </a:p>
          </p:txBody>
        </p:sp>
        <p:sp>
          <p:nvSpPr>
            <p:cNvPr id="398" name=""/>
            <p:cNvSpPr/>
            <p:nvPr/>
          </p:nvSpPr>
          <p:spPr>
            <a:xfrm>
              <a:off x="5791320" y="5105520"/>
              <a:ext cx="685800" cy="0"/>
            </a:xfrm>
            <a:prstGeom prst="line">
              <a:avLst/>
            </a:prstGeom>
            <a:ln w="28440">
              <a:solidFill>
                <a:srgbClr val="3333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333300"/>
                </a:solidFill>
                <a:latin typeface="Times New Roman"/>
              </a:endParaRPr>
            </a:p>
          </p:txBody>
        </p:sp>
        <p:sp>
          <p:nvSpPr>
            <p:cNvPr id="399" name=""/>
            <p:cNvSpPr/>
            <p:nvPr/>
          </p:nvSpPr>
          <p:spPr>
            <a:xfrm>
              <a:off x="7391520" y="2819520"/>
              <a:ext cx="914400" cy="0"/>
            </a:xfrm>
            <a:prstGeom prst="line">
              <a:avLst/>
            </a:prstGeom>
            <a:ln w="28440">
              <a:solidFill>
                <a:srgbClr val="3333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333300"/>
                </a:solidFill>
                <a:latin typeface="Times New Roman"/>
              </a:endParaRPr>
            </a:p>
          </p:txBody>
        </p:sp>
        <p:sp>
          <p:nvSpPr>
            <p:cNvPr id="400" name=""/>
            <p:cNvSpPr/>
            <p:nvPr/>
          </p:nvSpPr>
          <p:spPr>
            <a:xfrm>
              <a:off x="7315200" y="3657600"/>
              <a:ext cx="914400" cy="0"/>
            </a:xfrm>
            <a:prstGeom prst="line">
              <a:avLst/>
            </a:prstGeom>
            <a:ln w="28440">
              <a:solidFill>
                <a:srgbClr val="3333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333300"/>
                </a:solidFill>
                <a:latin typeface="Times New Roman"/>
              </a:endParaRPr>
            </a:p>
          </p:txBody>
        </p:sp>
        <p:sp>
          <p:nvSpPr>
            <p:cNvPr id="401" name=""/>
            <p:cNvSpPr/>
            <p:nvPr/>
          </p:nvSpPr>
          <p:spPr>
            <a:xfrm>
              <a:off x="7467480" y="5105520"/>
              <a:ext cx="762120" cy="0"/>
            </a:xfrm>
            <a:prstGeom prst="line">
              <a:avLst/>
            </a:prstGeom>
            <a:ln w="28440">
              <a:solidFill>
                <a:srgbClr val="3333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333300"/>
                </a:solidFill>
                <a:latin typeface="Times New Roman"/>
              </a:endParaRPr>
            </a:p>
          </p:txBody>
        </p:sp>
        <p:sp>
          <p:nvSpPr>
            <p:cNvPr id="402" name=""/>
            <p:cNvSpPr/>
            <p:nvPr/>
          </p:nvSpPr>
          <p:spPr>
            <a:xfrm flipV="1">
              <a:off x="7467480" y="990720"/>
              <a:ext cx="0" cy="761760"/>
            </a:xfrm>
            <a:prstGeom prst="line">
              <a:avLst/>
            </a:prstGeom>
            <a:ln w="28440">
              <a:solidFill>
                <a:srgbClr val="333300"/>
              </a:solidFill>
              <a:miter/>
              <a:headEnd len="med" type="triangle" w="med"/>
              <a:tailEnd len="med" type="triangle" w="med"/>
            </a:ln>
          </p:spPr>
          <p:style>
            <a:lnRef idx="0"/>
            <a:fillRef idx="0"/>
            <a:effectRef idx="0"/>
            <a:fontRef idx="minor"/>
          </p:style>
          <p:txBody>
            <a:bodyPr lIns="91800" rIns="91800" anchor="ctr">
              <a:noAutofit/>
            </a:bodyPr>
            <a:p>
              <a:endParaRPr b="0" lang="en-US" sz="2400" spc="-1" strike="noStrike">
                <a:solidFill>
                  <a:srgbClr val="333300"/>
                </a:solidFill>
                <a:latin typeface="Times New Roman"/>
              </a:endParaRPr>
            </a:p>
          </p:txBody>
        </p:sp>
        <p:sp>
          <p:nvSpPr>
            <p:cNvPr id="403" name=""/>
            <p:cNvSpPr/>
            <p:nvPr/>
          </p:nvSpPr>
          <p:spPr>
            <a:xfrm>
              <a:off x="7623000" y="1143360"/>
              <a:ext cx="1338840" cy="33588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990099"/>
                  </a:solidFill>
                  <a:latin typeface="Times New Roman"/>
                </a:rPr>
                <a:t>Host Interface</a:t>
              </a:r>
              <a:endParaRPr b="0" lang="en-US" sz="1600" spc="-1" strike="noStrike">
                <a:solidFill>
                  <a:srgbClr val="333300"/>
                </a:solidFill>
                <a:latin typeface="Times New Roman"/>
              </a:endParaRPr>
            </a:p>
          </p:txBody>
        </p:sp>
        <p:sp>
          <p:nvSpPr>
            <p:cNvPr id="404" name=""/>
            <p:cNvSpPr/>
            <p:nvPr/>
          </p:nvSpPr>
          <p:spPr>
            <a:xfrm>
              <a:off x="7773480" y="5791680"/>
              <a:ext cx="636120" cy="33588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990099"/>
                  </a:solidFill>
                  <a:latin typeface="Times New Roman"/>
                </a:rPr>
                <a:t>result</a:t>
              </a:r>
              <a:endParaRPr b="0" lang="en-US" sz="1600" spc="-1" strike="noStrike">
                <a:solidFill>
                  <a:srgbClr val="333300"/>
                </a:solidFill>
                <a:latin typeface="Times New Roman"/>
              </a:endParaRPr>
            </a:p>
          </p:txBody>
        </p:sp>
        <p:sp>
          <p:nvSpPr>
            <p:cNvPr id="405" name=""/>
            <p:cNvSpPr/>
            <p:nvPr/>
          </p:nvSpPr>
          <p:spPr>
            <a:xfrm>
              <a:off x="7543080" y="2438640"/>
              <a:ext cx="433440" cy="33588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990099"/>
                  </a:solidFill>
                  <a:latin typeface="Times New Roman"/>
                </a:rPr>
                <a:t>X1</a:t>
              </a:r>
              <a:endParaRPr b="0" lang="en-US" sz="1600" spc="-1" strike="noStrike">
                <a:solidFill>
                  <a:srgbClr val="333300"/>
                </a:solidFill>
                <a:latin typeface="Times New Roman"/>
              </a:endParaRPr>
            </a:p>
          </p:txBody>
        </p:sp>
        <p:sp>
          <p:nvSpPr>
            <p:cNvPr id="406" name=""/>
            <p:cNvSpPr/>
            <p:nvPr/>
          </p:nvSpPr>
          <p:spPr>
            <a:xfrm>
              <a:off x="7543080" y="3200760"/>
              <a:ext cx="433440" cy="33588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990099"/>
                  </a:solidFill>
                  <a:latin typeface="Times New Roman"/>
                </a:rPr>
                <a:t>X2</a:t>
              </a:r>
              <a:endParaRPr b="0" lang="en-US" sz="1600" spc="-1" strike="noStrike">
                <a:solidFill>
                  <a:srgbClr val="333300"/>
                </a:solidFill>
                <a:latin typeface="Times New Roman"/>
              </a:endParaRPr>
            </a:p>
          </p:txBody>
        </p:sp>
        <p:sp>
          <p:nvSpPr>
            <p:cNvPr id="407" name=""/>
            <p:cNvSpPr/>
            <p:nvPr/>
          </p:nvSpPr>
          <p:spPr>
            <a:xfrm>
              <a:off x="7619400" y="4648680"/>
              <a:ext cx="433440" cy="33588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990099"/>
                  </a:solidFill>
                  <a:latin typeface="Times New Roman"/>
                </a:rPr>
                <a:t>Xn</a:t>
              </a:r>
              <a:endParaRPr b="0" lang="en-US" sz="1600" spc="-1" strike="noStrike">
                <a:solidFill>
                  <a:srgbClr val="333300"/>
                </a:solidFill>
                <a:latin typeface="Times New Roman"/>
              </a:endParaRPr>
            </a:p>
          </p:txBody>
        </p:sp>
      </p:grpSp>
      <p:sp>
        <p:nvSpPr>
          <p:cNvPr id="408" name=""/>
          <p:cNvSpPr/>
          <p:nvPr/>
        </p:nvSpPr>
        <p:spPr>
          <a:xfrm>
            <a:off x="3048120" y="5334120"/>
            <a:ext cx="609480" cy="838080"/>
          </a:xfrm>
          <a:prstGeom prst="upArrow">
            <a:avLst>
              <a:gd name="adj1" fmla="val 50000"/>
              <a:gd name="adj2" fmla="val 34377"/>
            </a:avLst>
          </a:prstGeom>
          <a:solidFill>
            <a:srgbClr val="99ccff"/>
          </a:solidFill>
          <a:ln w="28440">
            <a:solidFill>
              <a:srgbClr val="333300"/>
            </a:solidFill>
            <a:miter/>
          </a:ln>
        </p:spPr>
        <p:style>
          <a:lnRef idx="0"/>
          <a:fillRef idx="0"/>
          <a:effectRef idx="0"/>
          <a:fontRef idx="minor"/>
        </p:style>
        <p:txBody>
          <a:bodyPr wrap="none" lIns="91800" rIns="91800" anchor="ctr">
            <a:noAutofit/>
          </a:bodyPr>
          <a:p>
            <a:endParaRPr b="0" lang="en-US" sz="2400" spc="-1" strike="noStrike">
              <a:solidFill>
                <a:srgbClr val="333300"/>
              </a:solidFill>
              <a:latin typeface="Times New Roman"/>
            </a:endParaRPr>
          </a:p>
        </p:txBody>
      </p:sp>
      <p:sp>
        <p:nvSpPr>
          <p:cNvPr id="409" name=""/>
          <p:cNvSpPr/>
          <p:nvPr/>
        </p:nvSpPr>
        <p:spPr>
          <a:xfrm>
            <a:off x="3732120" y="5486400"/>
            <a:ext cx="1451520" cy="57996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cc"/>
                </a:solidFill>
                <a:latin typeface="Times New Roman"/>
              </a:rPr>
              <a:t>FPGAs</a:t>
            </a:r>
            <a:endParaRPr b="0" lang="en-US" sz="3200" spc="-1" strike="noStrike">
              <a:solidFill>
                <a:srgbClr val="333300"/>
              </a:solidFill>
              <a:latin typeface="Times New Roman"/>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AAFE9501-E5C7-4022-8BFB-B618ABE0CA73}" type="slidenum">
              <a:t>74</a:t>
            </a:fld>
          </a:p>
        </p:txBody>
      </p:sp>
      <p:sp>
        <p:nvSpPr>
          <p:cNvPr id="6" name="PlaceHolder 5"/>
          <p:cNvSpPr>
            <a:spLocks noGrp="1"/>
          </p:cNvSpPr>
          <p:nvPr>
            <p:ph type="dt" idx="1"/>
          </p:nvPr>
        </p:nvSpPr>
        <p:spPr/>
        <p:txBody>
          <a:bodyPr/>
          <a:p>
            <a:fld id="{35CD2B4A-6395-423C-9B1F-4DDD8594B715}" type="datetime1">
              <a:rPr lang="en-US"/>
              <a:t>07/30/26</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752120" y="380520"/>
            <a:ext cx="7518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Problemas Combinatórios - 5-</a:t>
            </a:r>
            <a:endParaRPr b="1" lang="en-US" sz="4400" spc="-1" strike="noStrike">
              <a:solidFill>
                <a:srgbClr val="3333cc"/>
              </a:solidFill>
              <a:latin typeface="Times New Roman"/>
            </a:endParaRPr>
          </a:p>
        </p:txBody>
      </p:sp>
      <p:sp>
        <p:nvSpPr>
          <p:cNvPr id="411" name="PlaceHolder 2"/>
          <p:cNvSpPr>
            <a:spLocks noGrp="1"/>
          </p:cNvSpPr>
          <p:nvPr>
            <p:ph/>
          </p:nvPr>
        </p:nvSpPr>
        <p:spPr>
          <a:xfrm>
            <a:off x="1523520" y="1143000"/>
            <a:ext cx="7929720" cy="5105520"/>
          </a:xfrm>
          <a:prstGeom prst="rect">
            <a:avLst/>
          </a:prstGeom>
          <a:noFill/>
          <a:ln w="0">
            <a:noFill/>
          </a:ln>
        </p:spPr>
        <p:txBody>
          <a:bodyPr lIns="92160" rIns="92160" tIns="46080" bIns="46080" anchor="t">
            <a:normAutofit/>
          </a:bodyPr>
          <a:p>
            <a:pPr marL="343080" indent="-343080">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Simulações dessa arquitetura com problemas obtidos do Benchmark DIMACS (Center for Discrete Mathematics and Theoretical Computer Science) mostraram speedups de 10 a 140,000 vezes mais rápidos quando comparados às melhores implementações em SOFTWARE.</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sses resultados mostram o gran de potencial de utilizar soluções com mecanismos aceleradores específicos a cada problema.</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Platzner quis obter dados mais reais considerando os tempos de configuração e de geração do hardware, e construiu um protótipo usando FPGAs.  </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O protótipo lê um problema SAT e gera um circuito específico, depois compila a uma configuração BITSTREAM para uma FPGA.  O protótipo carrega o bitstream a uma FPGA (gera o circuito físico).  Inicia-se a computação e se a FPGA encontra uma solução, então o protótipo lê os valores das variáveis retornados pela FPGA.</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3BDDB345-C12F-401F-9867-4713014A1B5C}" type="slidenum">
              <a:t>75</a:t>
            </a:fld>
          </a:p>
        </p:txBody>
      </p:sp>
      <p:sp>
        <p:nvSpPr>
          <p:cNvPr id="6" name="PlaceHolder 5"/>
          <p:cNvSpPr>
            <a:spLocks noGrp="1"/>
          </p:cNvSpPr>
          <p:nvPr>
            <p:ph type="dt" idx="1"/>
          </p:nvPr>
        </p:nvSpPr>
        <p:spPr/>
        <p:txBody>
          <a:bodyPr/>
          <a:p>
            <a:fld id="{8E62D5B3-289E-436E-A239-97EA54B7D13C}" type="datetime1">
              <a:rPr lang="en-US"/>
              <a:t>07/30/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752120" y="380520"/>
            <a:ext cx="7518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Problemas Combinatórios - 6-</a:t>
            </a:r>
            <a:endParaRPr b="1" lang="en-US" sz="4400" spc="-1" strike="noStrike">
              <a:solidFill>
                <a:srgbClr val="3333cc"/>
              </a:solidFill>
              <a:latin typeface="Times New Roman"/>
            </a:endParaRPr>
          </a:p>
        </p:txBody>
      </p:sp>
      <p:sp>
        <p:nvSpPr>
          <p:cNvPr id="413" name="PlaceHolder 2"/>
          <p:cNvSpPr>
            <a:spLocks noGrp="1"/>
          </p:cNvSpPr>
          <p:nvPr>
            <p:ph/>
          </p:nvPr>
        </p:nvSpPr>
        <p:spPr>
          <a:xfrm>
            <a:off x="1523520" y="1142640"/>
            <a:ext cx="7929720" cy="1066680"/>
          </a:xfrm>
          <a:prstGeom prst="rect">
            <a:avLst/>
          </a:prstGeom>
          <a:noFill/>
          <a:ln w="0">
            <a:noFill/>
          </a:ln>
        </p:spPr>
        <p:txBody>
          <a:bodyPr lIns="92160" rIns="92160" tIns="46080" bIns="46080" anchor="t">
            <a:normAutofit/>
          </a:bodyPr>
          <a:p>
            <a:pPr marL="343080" indent="-343080">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 implementação dessa solução foi num sistema de baixo custo?</a:t>
            </a:r>
            <a:endParaRPr b="1" lang="en-US" sz="1800" spc="-1" strike="noStrike">
              <a:solidFill>
                <a:srgbClr val="000000"/>
              </a:solidFill>
              <a:latin typeface="Arial"/>
            </a:endParaRPr>
          </a:p>
          <a:p>
            <a:pPr lvl="1" marL="743040" indent="-285840">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PC com Windows NT</a:t>
            </a:r>
            <a:endParaRPr b="1" lang="en-US" sz="1600" spc="-1" strike="noStrike">
              <a:solidFill>
                <a:srgbClr val="000000"/>
              </a:solidFill>
              <a:latin typeface="Arial"/>
            </a:endParaRPr>
          </a:p>
          <a:p>
            <a:pPr lvl="1" marL="743040" indent="-285840">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Um board contendo 4 FPGAs XC4028 (Xilinx)</a:t>
            </a:r>
            <a:endParaRPr b="1" lang="en-US" sz="1600" spc="-1" strike="noStrike">
              <a:solidFill>
                <a:srgbClr val="000000"/>
              </a:solidFill>
              <a:latin typeface="Arial"/>
            </a:endParaRPr>
          </a:p>
        </p:txBody>
      </p:sp>
      <p:graphicFrame>
        <p:nvGraphicFramePr>
          <p:cNvPr id="414" name=""/>
          <p:cNvGraphicFramePr/>
          <p:nvPr/>
        </p:nvGraphicFramePr>
        <p:xfrm>
          <a:off x="1905120" y="3581280"/>
          <a:ext cx="7619760" cy="2590920"/>
        </p:xfrm>
        <a:graphic>
          <a:graphicData uri="http://schemas.openxmlformats.org/presentationml/2006/ole">
            <p:oleObj progId="Word.Document.12" r:id="rId1" spid="">
              <p:embed/>
              <p:pic>
                <p:nvPicPr>
                  <p:cNvPr id="415" name="" descr=""/>
                  <p:cNvPicPr/>
                  <p:nvPr/>
                </p:nvPicPr>
                <p:blipFill>
                  <a:blip r:embed="rId2"/>
                  <a:stretch/>
                </p:blipFill>
                <p:spPr>
                  <a:xfrm>
                    <a:off x="1905120" y="3581280"/>
                    <a:ext cx="7619760" cy="2590920"/>
                  </a:xfrm>
                  <a:prstGeom prst="rect">
                    <a:avLst/>
                  </a:prstGeom>
                  <a:ln w="0">
                    <a:noFill/>
                  </a:ln>
                </p:spPr>
              </p:pic>
            </p:oleObj>
          </a:graphicData>
        </a:graphic>
      </p:graphicFrame>
      <p:sp>
        <p:nvSpPr>
          <p:cNvPr id="416" name=""/>
          <p:cNvSpPr/>
          <p:nvPr/>
        </p:nvSpPr>
        <p:spPr>
          <a:xfrm>
            <a:off x="1523880" y="2438280"/>
            <a:ext cx="7929720" cy="10670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xemplo?  O problema PHP (Pigeon Hole Poblem), pergunta se é possível colocar n+1 marcas em N buracos sem ter duas marcas no mesmo buraco.  Esse é um dos programas do DIMACS.</a:t>
            </a:r>
            <a:endParaRPr b="0" lang="en-US" sz="1800" spc="-1" strike="noStrike">
              <a:solidFill>
                <a:srgbClr val="333300"/>
              </a:solidFill>
              <a:latin typeface="Times New Roman"/>
            </a:endParaRPr>
          </a:p>
        </p:txBody>
      </p:sp>
      <p:sp>
        <p:nvSpPr>
          <p:cNvPr id="417" name=""/>
          <p:cNvSpPr/>
          <p:nvPr/>
        </p:nvSpPr>
        <p:spPr>
          <a:xfrm>
            <a:off x="7691040" y="4038120"/>
            <a:ext cx="1934640" cy="161712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Times New Roman"/>
              </a:rPr>
              <a:t>HOLE 10</a:t>
            </a:r>
            <a:endParaRPr b="0" lang="en-US" sz="20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Times New Roman"/>
              </a:rPr>
              <a:t>2Hr e 7 minutos</a:t>
            </a:r>
            <a:endParaRPr b="0" lang="en-US" sz="20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Times New Roman"/>
              </a:rPr>
              <a:t>diminui para</a:t>
            </a:r>
            <a:endParaRPr b="0" lang="en-US" sz="20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Times New Roman"/>
              </a:rPr>
              <a:t>17 minutos.</a:t>
            </a:r>
            <a:endParaRPr b="0" lang="en-US" sz="2000" spc="-1" strike="noStrike">
              <a:solidFill>
                <a:srgbClr val="333300"/>
              </a:solidFill>
              <a:latin typeface="Times New Roman"/>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A6F86DEE-BFDE-4395-ACBB-F52A3B35A6FD}" type="slidenum">
              <a:t>76</a:t>
            </a:fld>
          </a:p>
        </p:txBody>
      </p:sp>
      <p:sp>
        <p:nvSpPr>
          <p:cNvPr id="6" name="PlaceHolder 5"/>
          <p:cNvSpPr>
            <a:spLocks noGrp="1"/>
          </p:cNvSpPr>
          <p:nvPr>
            <p:ph type="dt" idx="1"/>
          </p:nvPr>
        </p:nvSpPr>
        <p:spPr/>
        <p:txBody>
          <a:bodyPr/>
          <a:p>
            <a:fld id="{3BCB1CE3-F0E4-4CD1-91E3-85CC76B44AAF}" type="datetime1">
              <a:rPr lang="en-US"/>
              <a:t>07/30/2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1447920" y="1371600"/>
            <a:ext cx="5486400" cy="6094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Small-Scale—Shared Memory</a:t>
            </a:r>
            <a:endParaRPr b="0" lang="en-US" sz="2800" spc="-1" strike="noStrike">
              <a:solidFill>
                <a:srgbClr val="333300"/>
              </a:solidFill>
              <a:latin typeface="Times New Roman"/>
            </a:endParaRPr>
          </a:p>
        </p:txBody>
      </p:sp>
      <p:sp>
        <p:nvSpPr>
          <p:cNvPr id="419" name=""/>
          <p:cNvSpPr/>
          <p:nvPr/>
        </p:nvSpPr>
        <p:spPr>
          <a:xfrm>
            <a:off x="5638680" y="1905120"/>
            <a:ext cx="3880080" cy="4038480"/>
          </a:xfrm>
          <a:prstGeom prst="rect">
            <a:avLst/>
          </a:prstGeom>
          <a:noFill/>
          <a:ln w="0">
            <a:noFill/>
          </a:ln>
        </p:spPr>
        <p:style>
          <a:lnRef idx="0"/>
          <a:fillRef idx="0"/>
          <a:effectRef idx="0"/>
          <a:fontRef idx="minor"/>
        </p:style>
        <p:txBody>
          <a:bodyPr lIns="90360" rIns="90360" tIns="44280" bIns="44280" anchor="t">
            <a:normAutofit fontScale="99000"/>
          </a:bodyPr>
          <a:p>
            <a:pPr marL="339480" indent="-339480">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hes serve to:</a:t>
            </a:r>
            <a:endParaRPr b="0" lang="en-US" sz="2400" spc="-1" strike="noStrike">
              <a:solidFill>
                <a:srgbClr val="333300"/>
              </a:solidFill>
              <a:latin typeface="Times New Roman"/>
            </a:endParaRPr>
          </a:p>
          <a:p>
            <a:pPr lvl="1" marL="735480" indent="-282960">
              <a:lnSpc>
                <a:spcPct val="10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bandwidth versus bus/memory</a:t>
            </a:r>
            <a:endParaRPr b="0" lang="en-US" sz="2400" spc="-1" strike="noStrike">
              <a:solidFill>
                <a:srgbClr val="333300"/>
              </a:solidFill>
              <a:latin typeface="Times New Roman"/>
            </a:endParaRPr>
          </a:p>
          <a:p>
            <a:pPr lvl="1" marL="735480" indent="-282960">
              <a:lnSpc>
                <a:spcPct val="10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latency of access</a:t>
            </a:r>
            <a:endParaRPr b="0" lang="en-US" sz="2400" spc="-1" strike="noStrike">
              <a:solidFill>
                <a:srgbClr val="333300"/>
              </a:solidFill>
              <a:latin typeface="Times New Roman"/>
            </a:endParaRPr>
          </a:p>
          <a:p>
            <a:pPr lvl="1" marL="735480" indent="-282960">
              <a:lnSpc>
                <a:spcPct val="10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able for both private data and shared data</a:t>
            </a:r>
            <a:endParaRPr b="0" lang="en-US" sz="2400" spc="-1" strike="noStrike">
              <a:solidFill>
                <a:srgbClr val="333300"/>
              </a:solidFill>
              <a:latin typeface="Times New Roman"/>
            </a:endParaRPr>
          </a:p>
          <a:p>
            <a:pPr marL="339480" indent="-339480">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What about cache consistency?</a:t>
            </a:r>
            <a:endParaRPr b="0" lang="en-US" sz="2400" spc="-1" strike="noStrike">
              <a:solidFill>
                <a:srgbClr val="333300"/>
              </a:solidFill>
              <a:latin typeface="Times New Roman"/>
            </a:endParaRPr>
          </a:p>
        </p:txBody>
      </p:sp>
      <p:pic>
        <p:nvPicPr>
          <p:cNvPr id="420" name="" descr=""/>
          <p:cNvPicPr/>
          <p:nvPr/>
        </p:nvPicPr>
        <p:blipFill>
          <a:blip r:embed="rId1"/>
          <a:stretch/>
        </p:blipFill>
        <p:spPr>
          <a:xfrm>
            <a:off x="380880" y="2590920"/>
            <a:ext cx="5365800" cy="3666960"/>
          </a:xfrm>
          <a:prstGeom prst="rect">
            <a:avLst/>
          </a:prstGeom>
          <a:ln w="0">
            <a:noFill/>
          </a:ln>
        </p:spPr>
      </p:pic>
      <p:sp>
        <p:nvSpPr>
          <p:cNvPr id="421" name=""/>
          <p:cNvSpPr/>
          <p:nvPr/>
        </p:nvSpPr>
        <p:spPr>
          <a:xfrm>
            <a:off x="1668960" y="411120"/>
            <a:ext cx="7629840" cy="70200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3333cc"/>
                </a:solidFill>
                <a:latin typeface="Times New Roman"/>
              </a:rPr>
              <a:t>Sistemas de Alto Desempenho - 1 -</a:t>
            </a:r>
            <a:endParaRPr b="0" lang="en-US" sz="4000" spc="-1" strike="noStrike">
              <a:solidFill>
                <a:srgbClr val="333300"/>
              </a:solidFill>
              <a:latin typeface="Times New Roman"/>
            </a:endParaRPr>
          </a:p>
        </p:txBody>
      </p:sp>
      <p:sp>
        <p:nvSpPr>
          <p:cNvPr id="2" name="PlaceHolder 1"/>
          <p:cNvSpPr>
            <a:spLocks noGrp="1"/>
          </p:cNvSpPr>
          <p:nvPr>
            <p:ph type="ftr" idx="2"/>
          </p:nvPr>
        </p:nvSpPr>
        <p:spPr/>
        <p:txBody>
          <a:bodyPr/>
          <a:p>
            <a:r>
              <a:t>Carlos Augusto P. S. Martins - Edward David Moreno - SCR'2001</a:t>
            </a:r>
          </a:p>
        </p:txBody>
      </p:sp>
      <p:sp>
        <p:nvSpPr>
          <p:cNvPr id="3" name="PlaceHolder 2"/>
          <p:cNvSpPr>
            <a:spLocks noGrp="1"/>
          </p:cNvSpPr>
          <p:nvPr>
            <p:ph type="sldNum" idx="3"/>
          </p:nvPr>
        </p:nvSpPr>
        <p:spPr/>
        <p:txBody>
          <a:bodyPr/>
          <a:p>
            <a:fld id="{B6C63A99-E4C5-42CE-AC2F-6A830F8A7102}" type="slidenum">
              <a:t>77</a:t>
            </a:fld>
          </a:p>
        </p:txBody>
      </p:sp>
      <p:sp>
        <p:nvSpPr>
          <p:cNvPr id="4" name="PlaceHolder 3"/>
          <p:cNvSpPr>
            <a:spLocks noGrp="1"/>
          </p:cNvSpPr>
          <p:nvPr>
            <p:ph type="dt" idx="1"/>
          </p:nvPr>
        </p:nvSpPr>
        <p:spPr/>
        <p:txBody>
          <a:bodyPr/>
          <a:p>
            <a:fld id="{98773311-EFEA-4B35-AC27-25A0F71C6D47}" type="datetime1">
              <a:rPr lang="en-US"/>
              <a:t>07/30/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1681920" y="228600"/>
            <a:ext cx="7629840" cy="70200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3333cc"/>
                </a:solidFill>
                <a:latin typeface="Times New Roman"/>
              </a:rPr>
              <a:t>Sistemas de Alto Desempenho - 2 -</a:t>
            </a:r>
            <a:endParaRPr b="0" lang="en-US" sz="4000" spc="-1" strike="noStrike">
              <a:solidFill>
                <a:srgbClr val="333300"/>
              </a:solidFill>
              <a:latin typeface="Times New Roman"/>
            </a:endParaRPr>
          </a:p>
        </p:txBody>
      </p:sp>
      <p:sp>
        <p:nvSpPr>
          <p:cNvPr id="423" name=""/>
          <p:cNvSpPr/>
          <p:nvPr/>
        </p:nvSpPr>
        <p:spPr>
          <a:xfrm>
            <a:off x="3007440" y="1082520"/>
            <a:ext cx="4259520" cy="515520"/>
          </a:xfrm>
          <a:prstGeom prst="rect">
            <a:avLst/>
          </a:prstGeom>
          <a:noFill/>
          <a:ln w="0">
            <a:noFill/>
          </a:ln>
          <a:effectLst>
            <a:outerShdw dist="17819" dir="2700000" blurRad="0" rotWithShape="0">
              <a:srgbClr val="999933"/>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00"/>
                </a:solidFill>
                <a:latin typeface="Arial"/>
              </a:rPr>
              <a:t>COERÊNCIA DE CACHE</a:t>
            </a:r>
            <a:endParaRPr b="0" lang="en-US" sz="2800" spc="-1" strike="noStrike">
              <a:solidFill>
                <a:srgbClr val="333300"/>
              </a:solidFill>
              <a:latin typeface="Times New Roman"/>
            </a:endParaRPr>
          </a:p>
        </p:txBody>
      </p:sp>
      <p:sp>
        <p:nvSpPr>
          <p:cNvPr id="424" name=""/>
          <p:cNvSpPr/>
          <p:nvPr/>
        </p:nvSpPr>
        <p:spPr>
          <a:xfrm>
            <a:off x="4800600" y="1625760"/>
            <a:ext cx="0" cy="33012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25" name=""/>
          <p:cNvSpPr/>
          <p:nvPr/>
        </p:nvSpPr>
        <p:spPr>
          <a:xfrm>
            <a:off x="2424960" y="1967040"/>
            <a:ext cx="47671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00"/>
                </a:solidFill>
                <a:latin typeface="Arial"/>
              </a:rPr>
              <a:t>PROTOCOLOS DE COERÊNCIA</a:t>
            </a:r>
            <a:endParaRPr b="0" lang="en-US" sz="24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00"/>
                </a:solidFill>
                <a:latin typeface="Arial"/>
              </a:rPr>
              <a:t>       </a:t>
            </a:r>
            <a:r>
              <a:rPr b="1" lang="pt-BR" sz="2400" spc="-1" strike="noStrike">
                <a:solidFill>
                  <a:srgbClr val="333300"/>
                </a:solidFill>
                <a:latin typeface="Arial"/>
              </a:rPr>
              <a:t>(</a:t>
            </a:r>
            <a:r>
              <a:rPr b="1" lang="pt-BR" sz="2000" spc="-1" strike="noStrike">
                <a:solidFill>
                  <a:srgbClr val="333300"/>
                </a:solidFill>
                <a:latin typeface="Arial"/>
              </a:rPr>
              <a:t>Invalidações e Atualizações</a:t>
            </a:r>
            <a:r>
              <a:rPr b="1" lang="pt-BR" sz="2400" spc="-1" strike="noStrike">
                <a:solidFill>
                  <a:srgbClr val="333300"/>
                </a:solidFill>
                <a:latin typeface="Arial"/>
              </a:rPr>
              <a:t>)</a:t>
            </a:r>
            <a:endParaRPr b="0" lang="en-US" sz="2400" spc="-1" strike="noStrike">
              <a:solidFill>
                <a:srgbClr val="333300"/>
              </a:solidFill>
              <a:latin typeface="Times New Roman"/>
            </a:endParaRPr>
          </a:p>
        </p:txBody>
      </p:sp>
      <p:sp>
        <p:nvSpPr>
          <p:cNvPr id="426" name=""/>
          <p:cNvSpPr/>
          <p:nvPr/>
        </p:nvSpPr>
        <p:spPr>
          <a:xfrm flipH="1">
            <a:off x="2641680" y="2768760"/>
            <a:ext cx="2031840" cy="40608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27" name=""/>
          <p:cNvSpPr/>
          <p:nvPr/>
        </p:nvSpPr>
        <p:spPr>
          <a:xfrm>
            <a:off x="627840" y="3186000"/>
            <a:ext cx="4275000" cy="454680"/>
          </a:xfrm>
          <a:prstGeom prst="rect">
            <a:avLst/>
          </a:prstGeom>
          <a:noFill/>
          <a:ln w="0">
            <a:noFill/>
          </a:ln>
          <a:effectLst>
            <a:outerShdw dist="17819" dir="2700000" blurRad="0" rotWithShape="0">
              <a:srgbClr val="999933"/>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rPr>
              <a:t>SOLUÇÕES EM HARDWARE</a:t>
            </a:r>
            <a:endParaRPr b="0" lang="en-US" sz="2400" spc="-1" strike="noStrike">
              <a:solidFill>
                <a:srgbClr val="333300"/>
              </a:solidFill>
              <a:latin typeface="Times New Roman"/>
            </a:endParaRPr>
          </a:p>
        </p:txBody>
      </p:sp>
      <p:sp>
        <p:nvSpPr>
          <p:cNvPr id="428" name=""/>
          <p:cNvSpPr/>
          <p:nvPr/>
        </p:nvSpPr>
        <p:spPr>
          <a:xfrm>
            <a:off x="5091120" y="3186000"/>
            <a:ext cx="4226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rPr>
              <a:t>SOLUÇÕES EM SOFTWARE</a:t>
            </a:r>
            <a:endParaRPr b="0" lang="en-US" sz="2400" spc="-1" strike="noStrike">
              <a:solidFill>
                <a:srgbClr val="333300"/>
              </a:solidFill>
              <a:latin typeface="Times New Roman"/>
            </a:endParaRPr>
          </a:p>
        </p:txBody>
      </p:sp>
      <p:sp>
        <p:nvSpPr>
          <p:cNvPr id="429" name=""/>
          <p:cNvSpPr/>
          <p:nvPr/>
        </p:nvSpPr>
        <p:spPr>
          <a:xfrm>
            <a:off x="4978440" y="2768760"/>
            <a:ext cx="2006640" cy="40608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30" name=""/>
          <p:cNvSpPr/>
          <p:nvPr/>
        </p:nvSpPr>
        <p:spPr>
          <a:xfrm>
            <a:off x="523440" y="3635280"/>
            <a:ext cx="4096440" cy="1460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00"/>
                </a:solidFill>
                <a:latin typeface="Arial"/>
              </a:rPr>
              <a:t>* Custo na Complexidade do hardware</a:t>
            </a:r>
            <a:endParaRPr b="0" lang="en-US" sz="1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00"/>
                </a:solidFill>
                <a:latin typeface="Arial"/>
              </a:rPr>
              <a:t>* Transparente ao Programador </a:t>
            </a:r>
            <a:endParaRPr b="0" lang="en-US" sz="1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00"/>
                </a:solidFill>
                <a:latin typeface="Arial"/>
              </a:rPr>
              <a:t>* Consistência em tempo de execução</a:t>
            </a:r>
            <a:endParaRPr b="0" lang="en-US" sz="1800" spc="-1" strike="noStrike">
              <a:solidFill>
                <a:srgbClr val="333300"/>
              </a:solidFill>
              <a:latin typeface="Times New Roman"/>
            </a:endParaRPr>
          </a:p>
        </p:txBody>
      </p:sp>
      <p:sp>
        <p:nvSpPr>
          <p:cNvPr id="431" name=""/>
          <p:cNvSpPr/>
          <p:nvPr/>
        </p:nvSpPr>
        <p:spPr>
          <a:xfrm>
            <a:off x="5018760" y="3635280"/>
            <a:ext cx="437688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00"/>
                </a:solidFill>
                <a:latin typeface="Arial"/>
              </a:rPr>
              <a:t>* Análise do Programa</a:t>
            </a:r>
            <a:endParaRPr b="0" lang="en-US" sz="1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00"/>
                </a:solidFill>
                <a:latin typeface="Arial"/>
              </a:rPr>
              <a:t>  </a:t>
            </a:r>
            <a:r>
              <a:rPr b="0" lang="pt-BR" sz="1800" spc="-1" strike="noStrike">
                <a:solidFill>
                  <a:srgbClr val="333300"/>
                </a:solidFill>
                <a:latin typeface="Arial"/>
              </a:rPr>
              <a:t>(Programador, Compilador, Pré-Proc)</a:t>
            </a:r>
            <a:endParaRPr b="0" lang="en-US" sz="1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00"/>
                </a:solidFill>
                <a:latin typeface="Arial"/>
              </a:rPr>
              <a:t>* Consistência em Tempo de Compilação</a:t>
            </a:r>
            <a:endParaRPr b="0" lang="en-US" sz="1800" spc="-1" strike="noStrike">
              <a:solidFill>
                <a:srgbClr val="333300"/>
              </a:solidFill>
              <a:latin typeface="Times New Roman"/>
            </a:endParaRPr>
          </a:p>
        </p:txBody>
      </p:sp>
      <p:sp>
        <p:nvSpPr>
          <p:cNvPr id="432" name=""/>
          <p:cNvSpPr/>
          <p:nvPr/>
        </p:nvSpPr>
        <p:spPr>
          <a:xfrm>
            <a:off x="447840" y="5624640"/>
            <a:ext cx="8479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rPr>
              <a:t>**  Maior Desempenho</a:t>
            </a:r>
            <a:endParaRPr b="0" lang="en-US" sz="24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rPr>
              <a:t>**  Menor Sensibilidade aos parâmetros dos Prog. Aplicativos</a:t>
            </a:r>
            <a:endParaRPr b="0" lang="en-US" sz="2400" spc="-1" strike="noStrike">
              <a:solidFill>
                <a:srgbClr val="333300"/>
              </a:solidFill>
              <a:latin typeface="Times New Roman"/>
            </a:endParaRPr>
          </a:p>
        </p:txBody>
      </p:sp>
      <p:sp>
        <p:nvSpPr>
          <p:cNvPr id="433" name=""/>
          <p:cNvSpPr/>
          <p:nvPr/>
        </p:nvSpPr>
        <p:spPr>
          <a:xfrm>
            <a:off x="2362320" y="5105520"/>
            <a:ext cx="0" cy="495360"/>
          </a:xfrm>
          <a:prstGeom prst="line">
            <a:avLst/>
          </a:prstGeom>
          <a:ln w="7632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34" name=""/>
          <p:cNvSpPr/>
          <p:nvPr/>
        </p:nvSpPr>
        <p:spPr>
          <a:xfrm>
            <a:off x="2691000" y="5235480"/>
            <a:ext cx="2275560" cy="3632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00"/>
                </a:solidFill>
                <a:latin typeface="Arial"/>
              </a:rPr>
              <a:t>[Adve 91, Owichi 89]</a:t>
            </a:r>
            <a:endParaRPr b="0" lang="en-US" sz="1800" spc="-1" strike="noStrike">
              <a:solidFill>
                <a:srgbClr val="333300"/>
              </a:solidFill>
              <a:latin typeface="Times New Roman"/>
            </a:endParaRPr>
          </a:p>
        </p:txBody>
      </p:sp>
      <p:sp>
        <p:nvSpPr>
          <p:cNvPr id="2" name="PlaceHolder 1"/>
          <p:cNvSpPr>
            <a:spLocks noGrp="1"/>
          </p:cNvSpPr>
          <p:nvPr>
            <p:ph type="ftr" idx="2"/>
          </p:nvPr>
        </p:nvSpPr>
        <p:spPr/>
        <p:txBody>
          <a:bodyPr/>
          <a:p>
            <a:r>
              <a:t>Carlos Augusto P. S. Martins - Edward David Moreno - SCR'2001</a:t>
            </a:r>
          </a:p>
        </p:txBody>
      </p:sp>
      <p:sp>
        <p:nvSpPr>
          <p:cNvPr id="3" name="PlaceHolder 2"/>
          <p:cNvSpPr>
            <a:spLocks noGrp="1"/>
          </p:cNvSpPr>
          <p:nvPr>
            <p:ph type="sldNum" idx="3"/>
          </p:nvPr>
        </p:nvSpPr>
        <p:spPr/>
        <p:txBody>
          <a:bodyPr/>
          <a:p>
            <a:fld id="{4CD2B83D-CF7D-4C53-BB79-DADD67419A94}" type="slidenum">
              <a:t>78</a:t>
            </a:fld>
          </a:p>
        </p:txBody>
      </p:sp>
      <p:sp>
        <p:nvSpPr>
          <p:cNvPr id="4" name="PlaceHolder 3"/>
          <p:cNvSpPr>
            <a:spLocks noGrp="1"/>
          </p:cNvSpPr>
          <p:nvPr>
            <p:ph type="dt" idx="1"/>
          </p:nvPr>
        </p:nvSpPr>
        <p:spPr/>
        <p:txBody>
          <a:bodyPr/>
          <a:p>
            <a:fld id="{A354BEF0-36CE-45D5-84C1-7A25137F8816}" type="datetime1">
              <a:rPr lang="en-US"/>
              <a:t>07/30/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1681920" y="228600"/>
            <a:ext cx="7629840" cy="70200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3333cc"/>
                </a:solidFill>
                <a:latin typeface="Times New Roman"/>
              </a:rPr>
              <a:t>Sistemas de Alto Desempenho - 3 -</a:t>
            </a:r>
            <a:endParaRPr b="0" lang="en-US" sz="4000" spc="-1" strike="noStrike">
              <a:solidFill>
                <a:srgbClr val="333300"/>
              </a:solidFill>
              <a:latin typeface="Times New Roman"/>
            </a:endParaRPr>
          </a:p>
        </p:txBody>
      </p:sp>
      <p:sp>
        <p:nvSpPr>
          <p:cNvPr id="436" name=""/>
          <p:cNvSpPr/>
          <p:nvPr/>
        </p:nvSpPr>
        <p:spPr>
          <a:xfrm>
            <a:off x="5102280" y="822240"/>
            <a:ext cx="4444920" cy="0"/>
          </a:xfrm>
          <a:prstGeom prst="line">
            <a:avLst/>
          </a:prstGeom>
          <a:ln w="507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37" name=""/>
          <p:cNvSpPr/>
          <p:nvPr/>
        </p:nvSpPr>
        <p:spPr>
          <a:xfrm>
            <a:off x="3053880" y="1066680"/>
            <a:ext cx="5007960" cy="515520"/>
          </a:xfrm>
          <a:prstGeom prst="rect">
            <a:avLst/>
          </a:prstGeom>
          <a:noFill/>
          <a:ln w="0">
            <a:noFill/>
          </a:ln>
          <a:effectLst>
            <a:outerShdw dist="17819" dir="2700000" blurRad="0" rotWithShape="0">
              <a:srgbClr val="999933"/>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00"/>
                </a:solidFill>
                <a:latin typeface="Arial"/>
              </a:rPr>
              <a:t>SOLUÇÕES EM HARDWARE</a:t>
            </a:r>
            <a:endParaRPr b="0" lang="en-US" sz="2800" spc="-1" strike="noStrike">
              <a:solidFill>
                <a:srgbClr val="333300"/>
              </a:solidFill>
              <a:latin typeface="Times New Roman"/>
            </a:endParaRPr>
          </a:p>
        </p:txBody>
      </p:sp>
      <p:sp>
        <p:nvSpPr>
          <p:cNvPr id="438" name=""/>
          <p:cNvSpPr/>
          <p:nvPr/>
        </p:nvSpPr>
        <p:spPr>
          <a:xfrm>
            <a:off x="979200" y="1951200"/>
            <a:ext cx="6803280" cy="454680"/>
          </a:xfrm>
          <a:prstGeom prst="rect">
            <a:avLst/>
          </a:prstGeom>
          <a:noFill/>
          <a:ln w="0">
            <a:noFill/>
          </a:ln>
          <a:effectLst>
            <a:outerShdw dist="17819" dir="2700000" blurRad="0" rotWithShape="0">
              <a:srgbClr val="999933"/>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00"/>
                </a:solidFill>
                <a:latin typeface="Arial"/>
              </a:rPr>
              <a:t>* Protocolos com Caches Monitores (Snoopy)</a:t>
            </a:r>
            <a:endParaRPr b="0" lang="en-US" sz="2400" spc="-1" strike="noStrike">
              <a:solidFill>
                <a:srgbClr val="333300"/>
              </a:solidFill>
              <a:latin typeface="Times New Roman"/>
            </a:endParaRPr>
          </a:p>
        </p:txBody>
      </p:sp>
      <p:sp>
        <p:nvSpPr>
          <p:cNvPr id="439" name=""/>
          <p:cNvSpPr/>
          <p:nvPr/>
        </p:nvSpPr>
        <p:spPr>
          <a:xfrm>
            <a:off x="1160640" y="2454120"/>
            <a:ext cx="830736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00"/>
                </a:solidFill>
                <a:latin typeface="Arial"/>
              </a:rPr>
              <a:t>- Usados em redes com barramentos</a:t>
            </a:r>
            <a:endParaRPr b="0" lang="en-US" sz="20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00"/>
                </a:solidFill>
                <a:latin typeface="Arial"/>
              </a:rPr>
              <a:t>- Comandos de consistência são transmitidos a todos os caches</a:t>
            </a:r>
            <a:endParaRPr b="0" lang="en-US" sz="20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00"/>
                </a:solidFill>
                <a:latin typeface="Arial"/>
              </a:rPr>
              <a:t>- Fácil Implementação mas pouco Escaláveis</a:t>
            </a:r>
            <a:endParaRPr b="0" lang="en-US" sz="20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00"/>
                </a:solidFill>
                <a:latin typeface="Arial"/>
              </a:rPr>
              <a:t>- Mais conhecidos:  Write Once (I), Illinois (I), Firefly (A), Dragon (A)</a:t>
            </a:r>
            <a:endParaRPr b="0" lang="en-US" sz="2000" spc="-1" strike="noStrike">
              <a:solidFill>
                <a:srgbClr val="333300"/>
              </a:solidFill>
              <a:latin typeface="Times New Roman"/>
            </a:endParaRPr>
          </a:p>
        </p:txBody>
      </p:sp>
      <p:sp>
        <p:nvSpPr>
          <p:cNvPr id="440" name=""/>
          <p:cNvSpPr/>
          <p:nvPr/>
        </p:nvSpPr>
        <p:spPr>
          <a:xfrm>
            <a:off x="947160" y="4313160"/>
            <a:ext cx="5635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00"/>
                </a:solidFill>
                <a:latin typeface="Arial"/>
              </a:rPr>
              <a:t>*  Protocolos Baseados em Diretórios</a:t>
            </a:r>
            <a:endParaRPr b="0" lang="en-US" sz="2400" spc="-1" strike="noStrike">
              <a:solidFill>
                <a:srgbClr val="333300"/>
              </a:solidFill>
              <a:latin typeface="Times New Roman"/>
            </a:endParaRPr>
          </a:p>
        </p:txBody>
      </p:sp>
      <p:sp>
        <p:nvSpPr>
          <p:cNvPr id="441" name=""/>
          <p:cNvSpPr/>
          <p:nvPr/>
        </p:nvSpPr>
        <p:spPr>
          <a:xfrm>
            <a:off x="1243440" y="4968720"/>
            <a:ext cx="83257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00"/>
                </a:solidFill>
                <a:latin typeface="Arial"/>
              </a:rPr>
              <a:t>- Redes de Interconexão mais gerais</a:t>
            </a:r>
            <a:endParaRPr b="0" lang="en-US" sz="20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00"/>
                </a:solidFill>
                <a:latin typeface="Arial"/>
              </a:rPr>
              <a:t>- Comandos de Consistência são dirigidos aos caches de interesse</a:t>
            </a:r>
            <a:endParaRPr b="0" lang="en-US" sz="20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00"/>
                </a:solidFill>
                <a:latin typeface="Arial"/>
              </a:rPr>
              <a:t>- Armazenam lugar das cópias (DIRETÓRIO)</a:t>
            </a:r>
            <a:endParaRPr b="0" lang="en-US" sz="20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00"/>
                </a:solidFill>
                <a:latin typeface="Arial"/>
              </a:rPr>
              <a:t>- Podem ser Completamente Mapeados, Limitados e Encadeados</a:t>
            </a:r>
            <a:endParaRPr b="0" lang="en-US" sz="2000" spc="-1" strike="noStrike">
              <a:solidFill>
                <a:srgbClr val="333300"/>
              </a:solidFill>
              <a:latin typeface="Times New Roman"/>
            </a:endParaRPr>
          </a:p>
        </p:txBody>
      </p:sp>
      <p:sp>
        <p:nvSpPr>
          <p:cNvPr id="2" name="PlaceHolder 1"/>
          <p:cNvSpPr>
            <a:spLocks noGrp="1"/>
          </p:cNvSpPr>
          <p:nvPr>
            <p:ph type="ftr" idx="2"/>
          </p:nvPr>
        </p:nvSpPr>
        <p:spPr/>
        <p:txBody>
          <a:bodyPr/>
          <a:p>
            <a:r>
              <a:t>Carlos Augusto P. S. Martins - Edward David Moreno - SCR'2001</a:t>
            </a:r>
          </a:p>
        </p:txBody>
      </p:sp>
      <p:sp>
        <p:nvSpPr>
          <p:cNvPr id="3" name="PlaceHolder 2"/>
          <p:cNvSpPr>
            <a:spLocks noGrp="1"/>
          </p:cNvSpPr>
          <p:nvPr>
            <p:ph type="sldNum" idx="3"/>
          </p:nvPr>
        </p:nvSpPr>
        <p:spPr/>
        <p:txBody>
          <a:bodyPr/>
          <a:p>
            <a:fld id="{8ACCFD17-5ED3-4F6C-B042-5D648717778C}" type="slidenum">
              <a:t>79</a:t>
            </a:fld>
          </a:p>
        </p:txBody>
      </p:sp>
      <p:sp>
        <p:nvSpPr>
          <p:cNvPr id="4" name="PlaceHolder 3"/>
          <p:cNvSpPr>
            <a:spLocks noGrp="1"/>
          </p:cNvSpPr>
          <p:nvPr>
            <p:ph type="dt" idx="1"/>
          </p:nvPr>
        </p:nvSpPr>
        <p:spPr/>
        <p:txBody>
          <a:bodyPr/>
          <a:p>
            <a:fld id="{ADD89B60-C3DF-4374-AC6F-C8F03C37A339}"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 Conceitos básicos</a:t>
            </a:r>
            <a:endParaRPr b="1" lang="en-US" sz="4400" spc="-1" strike="noStrike">
              <a:solidFill>
                <a:srgbClr val="3333cc"/>
              </a:solidFill>
              <a:latin typeface="Times New Roman"/>
            </a:endParaRPr>
          </a:p>
        </p:txBody>
      </p:sp>
      <p:sp>
        <p:nvSpPr>
          <p:cNvPr id="192" name="PlaceHolder 2"/>
          <p:cNvSpPr>
            <a:spLocks noGrp="1"/>
          </p:cNvSpPr>
          <p:nvPr>
            <p:ph/>
          </p:nvPr>
        </p:nvSpPr>
        <p:spPr>
          <a:xfrm>
            <a:off x="1625400" y="1523520"/>
            <a:ext cx="7670520" cy="471492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Definições de computação reconfigurável</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Dispositivo que realiza computação usando conexão espacial “pós fabricação” de elementos de computação [Dehon]</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Computadores tradicionais realizam computação fazendo conexões no tempo</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7F2AA448-CB07-4F4B-BC02-22C7626B9809}" type="slidenum">
              <a:t>8</a:t>
            </a:fld>
          </a:p>
        </p:txBody>
      </p:sp>
      <p:sp>
        <p:nvSpPr>
          <p:cNvPr id="6" name="PlaceHolder 5"/>
          <p:cNvSpPr>
            <a:spLocks noGrp="1"/>
          </p:cNvSpPr>
          <p:nvPr>
            <p:ph type="dt" idx="1"/>
          </p:nvPr>
        </p:nvSpPr>
        <p:spPr/>
        <p:txBody>
          <a:bodyPr/>
          <a:p>
            <a:fld id="{5E860793-C2B6-423C-94AA-FCAD101C4A22}" type="datetime1">
              <a:rPr lang="en-US"/>
              <a:t>07/30/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1681920" y="228600"/>
            <a:ext cx="7629840" cy="70200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3333cc"/>
                </a:solidFill>
                <a:latin typeface="Times New Roman"/>
              </a:rPr>
              <a:t>Sistemas de Alto Desempenho - 4 -</a:t>
            </a:r>
            <a:endParaRPr b="0" lang="en-US" sz="4000" spc="-1" strike="noStrike">
              <a:solidFill>
                <a:srgbClr val="333300"/>
              </a:solidFill>
              <a:latin typeface="Times New Roman"/>
            </a:endParaRPr>
          </a:p>
        </p:txBody>
      </p:sp>
      <p:sp>
        <p:nvSpPr>
          <p:cNvPr id="443" name=""/>
          <p:cNvSpPr/>
          <p:nvPr/>
        </p:nvSpPr>
        <p:spPr>
          <a:xfrm>
            <a:off x="5102280" y="822240"/>
            <a:ext cx="4444920" cy="0"/>
          </a:xfrm>
          <a:prstGeom prst="line">
            <a:avLst/>
          </a:prstGeom>
          <a:ln w="507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44" name=""/>
          <p:cNvSpPr/>
          <p:nvPr/>
        </p:nvSpPr>
        <p:spPr>
          <a:xfrm>
            <a:off x="1295280" y="1219320"/>
            <a:ext cx="7759800" cy="8524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33"/>
                </a:solidFill>
                <a:latin typeface="Times New Roman"/>
              </a:rPr>
              <a:t>Snooping Cache Variations</a:t>
            </a:r>
            <a:endParaRPr b="0" lang="en-US" sz="4400" spc="-1" strike="noStrike">
              <a:solidFill>
                <a:srgbClr val="333300"/>
              </a:solidFill>
              <a:latin typeface="Times New Roman"/>
            </a:endParaRPr>
          </a:p>
        </p:txBody>
      </p:sp>
      <p:sp>
        <p:nvSpPr>
          <p:cNvPr id="445" name=""/>
          <p:cNvSpPr/>
          <p:nvPr/>
        </p:nvSpPr>
        <p:spPr>
          <a:xfrm>
            <a:off x="1956600" y="2476440"/>
            <a:ext cx="2062080" cy="19177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Berkeley </a:t>
            </a:r>
            <a:br>
              <a:rPr sz="2400"/>
            </a:br>
            <a:r>
              <a:rPr b="1" lang="en-US" sz="2400" spc="-1" strike="noStrike">
                <a:solidFill>
                  <a:srgbClr val="333300"/>
                </a:solidFill>
                <a:latin typeface="Arial"/>
              </a:rPr>
              <a:t>Protocol</a:t>
            </a:r>
            <a:endParaRPr b="0" lang="en-US" sz="24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Owned Exclusive</a:t>
            </a:r>
            <a:endParaRPr b="0" lang="en-US" sz="1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Owned Shared</a:t>
            </a:r>
            <a:endParaRPr b="0" lang="en-US" sz="1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Shared</a:t>
            </a:r>
            <a:endParaRPr b="0" lang="en-US" sz="1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Invalid</a:t>
            </a:r>
            <a:endParaRPr b="0" lang="en-US" sz="1800" spc="-1" strike="noStrike">
              <a:solidFill>
                <a:srgbClr val="333300"/>
              </a:solidFill>
              <a:latin typeface="Times New Roman"/>
            </a:endParaRPr>
          </a:p>
        </p:txBody>
      </p:sp>
      <p:sp>
        <p:nvSpPr>
          <p:cNvPr id="446" name=""/>
          <p:cNvSpPr/>
          <p:nvPr/>
        </p:nvSpPr>
        <p:spPr>
          <a:xfrm>
            <a:off x="337680" y="2476440"/>
            <a:ext cx="1417320" cy="19177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Basic </a:t>
            </a:r>
            <a:br>
              <a:rPr sz="2400"/>
            </a:br>
            <a:r>
              <a:rPr b="1" lang="en-US" sz="2400" spc="-1" strike="noStrike">
                <a:solidFill>
                  <a:srgbClr val="333300"/>
                </a:solidFill>
                <a:latin typeface="Arial"/>
              </a:rPr>
              <a:t>Protocol</a:t>
            </a:r>
            <a:endParaRPr b="0" lang="en-US" sz="24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Exclusive</a:t>
            </a:r>
            <a:endParaRPr b="0" lang="en-US" sz="1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Shared</a:t>
            </a:r>
            <a:endParaRPr b="0" lang="en-US" sz="1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Invalid</a:t>
            </a:r>
            <a:endParaRPr b="0" lang="en-US" sz="1800" spc="-1" strike="noStrike">
              <a:solidFill>
                <a:srgbClr val="333300"/>
              </a:solidFill>
              <a:latin typeface="Times New Roman"/>
            </a:endParaRPr>
          </a:p>
        </p:txBody>
      </p:sp>
      <p:sp>
        <p:nvSpPr>
          <p:cNvPr id="447" name=""/>
          <p:cNvSpPr/>
          <p:nvPr/>
        </p:nvSpPr>
        <p:spPr>
          <a:xfrm>
            <a:off x="4196160" y="2457360"/>
            <a:ext cx="1627560" cy="19177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Illinois </a:t>
            </a:r>
            <a:br>
              <a:rPr sz="2400"/>
            </a:br>
            <a:r>
              <a:rPr b="1" lang="en-US" sz="2400" spc="-1" strike="noStrike">
                <a:solidFill>
                  <a:srgbClr val="333300"/>
                </a:solidFill>
                <a:latin typeface="Arial"/>
              </a:rPr>
              <a:t>Protocol</a:t>
            </a:r>
            <a:endParaRPr b="0" lang="en-US" sz="24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Private Dirty</a:t>
            </a:r>
            <a:endParaRPr b="0" lang="en-US" sz="1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Private Clean</a:t>
            </a:r>
            <a:endParaRPr b="0" lang="en-US" sz="1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Shared</a:t>
            </a:r>
            <a:endParaRPr b="0" lang="en-US" sz="1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Invalid</a:t>
            </a:r>
            <a:endParaRPr b="0" lang="en-US" sz="1800" spc="-1" strike="noStrike">
              <a:solidFill>
                <a:srgbClr val="333300"/>
              </a:solidFill>
              <a:latin typeface="Times New Roman"/>
            </a:endParaRPr>
          </a:p>
        </p:txBody>
      </p:sp>
      <p:sp>
        <p:nvSpPr>
          <p:cNvPr id="448" name=""/>
          <p:cNvSpPr/>
          <p:nvPr/>
        </p:nvSpPr>
        <p:spPr>
          <a:xfrm>
            <a:off x="216000" y="3176640"/>
            <a:ext cx="9155160" cy="0"/>
          </a:xfrm>
          <a:prstGeom prst="line">
            <a:avLst/>
          </a:prstGeom>
          <a:ln w="2556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49" name=""/>
          <p:cNvSpPr/>
          <p:nvPr/>
        </p:nvSpPr>
        <p:spPr>
          <a:xfrm>
            <a:off x="1832040" y="2693880"/>
            <a:ext cx="0" cy="1555920"/>
          </a:xfrm>
          <a:prstGeom prst="line">
            <a:avLst/>
          </a:prstGeom>
          <a:ln w="2556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50" name=""/>
          <p:cNvSpPr/>
          <p:nvPr/>
        </p:nvSpPr>
        <p:spPr>
          <a:xfrm>
            <a:off x="4060800" y="2579760"/>
            <a:ext cx="0" cy="1555560"/>
          </a:xfrm>
          <a:prstGeom prst="line">
            <a:avLst/>
          </a:prstGeom>
          <a:ln w="2556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51" name=""/>
          <p:cNvSpPr/>
          <p:nvPr/>
        </p:nvSpPr>
        <p:spPr>
          <a:xfrm>
            <a:off x="911160" y="4487760"/>
            <a:ext cx="49622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Owner can update via bus invalidate operation</a:t>
            </a:r>
            <a:endParaRPr b="0" lang="en-US" sz="1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Owner must write back when replaced in cache</a:t>
            </a:r>
            <a:endParaRPr b="0" lang="en-US" sz="1800" spc="-1" strike="noStrike">
              <a:solidFill>
                <a:srgbClr val="333300"/>
              </a:solidFill>
              <a:latin typeface="Times New Roman"/>
            </a:endParaRPr>
          </a:p>
        </p:txBody>
      </p:sp>
      <p:sp>
        <p:nvSpPr>
          <p:cNvPr id="452" name=""/>
          <p:cNvSpPr/>
          <p:nvPr/>
        </p:nvSpPr>
        <p:spPr>
          <a:xfrm>
            <a:off x="1941480" y="5192640"/>
            <a:ext cx="511776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If read sourced from memory, then Private Clean</a:t>
            </a:r>
            <a:endParaRPr b="0" lang="en-US" sz="1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if read sourced from other cache, then Shared</a:t>
            </a:r>
            <a:endParaRPr b="0" lang="en-US" sz="1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Can write in cache if held private clean or dirty</a:t>
            </a:r>
            <a:endParaRPr b="0" lang="en-US" sz="1800" spc="-1" strike="noStrike">
              <a:solidFill>
                <a:srgbClr val="333300"/>
              </a:solidFill>
              <a:latin typeface="Times New Roman"/>
            </a:endParaRPr>
          </a:p>
        </p:txBody>
      </p:sp>
      <p:sp>
        <p:nvSpPr>
          <p:cNvPr id="453" name=""/>
          <p:cNvSpPr/>
          <p:nvPr/>
        </p:nvSpPr>
        <p:spPr>
          <a:xfrm>
            <a:off x="5877000" y="2560680"/>
            <a:ext cx="0" cy="1555560"/>
          </a:xfrm>
          <a:prstGeom prst="line">
            <a:avLst/>
          </a:prstGeom>
          <a:ln w="2556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54" name=""/>
          <p:cNvSpPr/>
          <p:nvPr/>
        </p:nvSpPr>
        <p:spPr>
          <a:xfrm>
            <a:off x="6325200" y="2438280"/>
            <a:ext cx="3272040" cy="19177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MESI </a:t>
            </a:r>
            <a:br>
              <a:rPr sz="2400"/>
            </a:br>
            <a:r>
              <a:rPr b="1" lang="en-US" sz="2400" spc="-1" strike="noStrike">
                <a:solidFill>
                  <a:srgbClr val="333300"/>
                </a:solidFill>
                <a:latin typeface="Arial"/>
              </a:rPr>
              <a:t>Protocol</a:t>
            </a:r>
            <a:endParaRPr b="0" lang="en-US" sz="24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9933"/>
                </a:solidFill>
                <a:uFillTx/>
                <a:latin typeface="Arial"/>
              </a:rPr>
              <a:t>M</a:t>
            </a:r>
            <a:r>
              <a:rPr b="1" lang="en-US" sz="1800" spc="-1" strike="noStrike">
                <a:solidFill>
                  <a:srgbClr val="333300"/>
                </a:solidFill>
                <a:latin typeface="Arial"/>
              </a:rPr>
              <a:t>odfied (private,°Memory)</a:t>
            </a:r>
            <a:endParaRPr b="0" lang="en-US" sz="1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e</a:t>
            </a:r>
            <a:r>
              <a:rPr b="1" lang="en-US" sz="1800" spc="-1" strike="noStrike" u="sng">
                <a:solidFill>
                  <a:srgbClr val="999933"/>
                </a:solidFill>
                <a:uFillTx/>
                <a:latin typeface="Arial"/>
              </a:rPr>
              <a:t>X</a:t>
            </a:r>
            <a:r>
              <a:rPr b="1" lang="en-US" sz="1800" spc="-1" strike="noStrike">
                <a:solidFill>
                  <a:srgbClr val="333300"/>
                </a:solidFill>
                <a:latin typeface="Arial"/>
              </a:rPr>
              <a:t>clusive (private,=Memory)</a:t>
            </a:r>
            <a:endParaRPr b="0" lang="en-US" sz="1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9933"/>
                </a:solidFill>
                <a:uFillTx/>
                <a:latin typeface="Arial"/>
              </a:rPr>
              <a:t>S</a:t>
            </a:r>
            <a:r>
              <a:rPr b="1" lang="en-US" sz="1800" spc="-1" strike="noStrike">
                <a:solidFill>
                  <a:srgbClr val="333300"/>
                </a:solidFill>
                <a:latin typeface="Arial"/>
              </a:rPr>
              <a:t>hared (shared,=Memory)</a:t>
            </a:r>
            <a:endParaRPr b="0" lang="en-US" sz="1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9933"/>
                </a:solidFill>
                <a:uFillTx/>
                <a:latin typeface="Arial"/>
              </a:rPr>
              <a:t>I</a:t>
            </a:r>
            <a:r>
              <a:rPr b="1" lang="en-US" sz="1800" spc="-1" strike="noStrike">
                <a:solidFill>
                  <a:srgbClr val="333300"/>
                </a:solidFill>
                <a:latin typeface="Arial"/>
              </a:rPr>
              <a:t>nvalid</a:t>
            </a:r>
            <a:endParaRPr b="0" lang="en-US" sz="1800" spc="-1" strike="noStrike">
              <a:solidFill>
                <a:srgbClr val="333300"/>
              </a:solidFill>
              <a:latin typeface="Times New Roman"/>
            </a:endParaRPr>
          </a:p>
        </p:txBody>
      </p:sp>
      <p:sp>
        <p:nvSpPr>
          <p:cNvPr id="455" name=""/>
          <p:cNvSpPr/>
          <p:nvPr/>
        </p:nvSpPr>
        <p:spPr>
          <a:xfrm flipV="1">
            <a:off x="1619280" y="3240000"/>
            <a:ext cx="322200" cy="387360"/>
          </a:xfrm>
          <a:prstGeom prst="line">
            <a:avLst/>
          </a:prstGeom>
          <a:ln w="25560">
            <a:solidFill>
              <a:srgbClr val="cccc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56" name=""/>
          <p:cNvSpPr/>
          <p:nvPr/>
        </p:nvSpPr>
        <p:spPr>
          <a:xfrm>
            <a:off x="1577880" y="3710160"/>
            <a:ext cx="590760" cy="0"/>
          </a:xfrm>
          <a:prstGeom prst="line">
            <a:avLst/>
          </a:prstGeom>
          <a:ln w="25560">
            <a:solidFill>
              <a:srgbClr val="cccc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 name="PlaceHolder 1"/>
          <p:cNvSpPr>
            <a:spLocks noGrp="1"/>
          </p:cNvSpPr>
          <p:nvPr>
            <p:ph type="ftr" idx="2"/>
          </p:nvPr>
        </p:nvSpPr>
        <p:spPr/>
        <p:txBody>
          <a:bodyPr/>
          <a:p>
            <a:r>
              <a:t>Carlos Augusto P. S. Martins - Edward David Moreno - SCR'2001</a:t>
            </a:r>
          </a:p>
        </p:txBody>
      </p:sp>
      <p:sp>
        <p:nvSpPr>
          <p:cNvPr id="3" name="PlaceHolder 2"/>
          <p:cNvSpPr>
            <a:spLocks noGrp="1"/>
          </p:cNvSpPr>
          <p:nvPr>
            <p:ph type="sldNum" idx="3"/>
          </p:nvPr>
        </p:nvSpPr>
        <p:spPr/>
        <p:txBody>
          <a:bodyPr/>
          <a:p>
            <a:fld id="{1D700298-A9B3-4FB0-B7B6-17DDFA86CEF3}" type="slidenum">
              <a:t>80</a:t>
            </a:fld>
          </a:p>
        </p:txBody>
      </p:sp>
      <p:sp>
        <p:nvSpPr>
          <p:cNvPr id="4" name="PlaceHolder 3"/>
          <p:cNvSpPr>
            <a:spLocks noGrp="1"/>
          </p:cNvSpPr>
          <p:nvPr>
            <p:ph type="dt" idx="1"/>
          </p:nvPr>
        </p:nvSpPr>
        <p:spPr/>
        <p:txBody>
          <a:bodyPr/>
          <a:p>
            <a:fld id="{B7660390-1936-4249-BA0C-D9F4C4212987}" type="datetime1">
              <a:rPr lang="en-US"/>
              <a:t>07/30/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1681920" y="228600"/>
            <a:ext cx="7629840" cy="70200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3333cc"/>
                </a:solidFill>
                <a:latin typeface="Times New Roman"/>
              </a:rPr>
              <a:t>Sistemas de Alto Desempenho - 5 -</a:t>
            </a:r>
            <a:endParaRPr b="0" lang="en-US" sz="4000" spc="-1" strike="noStrike">
              <a:solidFill>
                <a:srgbClr val="333300"/>
              </a:solidFill>
              <a:latin typeface="Times New Roman"/>
            </a:endParaRPr>
          </a:p>
        </p:txBody>
      </p:sp>
      <p:sp>
        <p:nvSpPr>
          <p:cNvPr id="458" name=""/>
          <p:cNvSpPr/>
          <p:nvPr/>
        </p:nvSpPr>
        <p:spPr>
          <a:xfrm>
            <a:off x="5102280" y="822240"/>
            <a:ext cx="4444920" cy="0"/>
          </a:xfrm>
          <a:prstGeom prst="line">
            <a:avLst/>
          </a:prstGeom>
          <a:ln w="507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59" name=""/>
          <p:cNvSpPr/>
          <p:nvPr/>
        </p:nvSpPr>
        <p:spPr>
          <a:xfrm>
            <a:off x="1295280" y="1143000"/>
            <a:ext cx="2286000" cy="971640"/>
          </a:xfrm>
          <a:prstGeom prst="rect">
            <a:avLst/>
          </a:prstGeom>
          <a:noFill/>
          <a:ln w="0">
            <a:noFill/>
          </a:ln>
        </p:spPr>
        <p:style>
          <a:lnRef idx="0"/>
          <a:fillRef idx="0"/>
          <a:effectRef idx="0"/>
          <a:fontRef idx="minor"/>
        </p:style>
        <p:txBody>
          <a:bodyPr lIns="90360" rIns="90360" tIns="44280" bIns="44280" anchor="t">
            <a:normAutofit fontScale="90000"/>
          </a:bodyPr>
          <a:p>
            <a:pPr marL="308520" indent="-308520">
              <a:lnSpc>
                <a:spcPct val="10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machine</a:t>
            </a:r>
            <a:br>
              <a:rPr sz="1600"/>
            </a:br>
            <a:r>
              <a:rPr b="1" lang="en-US" sz="1600" spc="-1" strike="noStrike">
                <a:solidFill>
                  <a:srgbClr val="000000"/>
                </a:solidFill>
                <a:latin typeface="Arial"/>
              </a:rPr>
              <a:t>for </a:t>
            </a:r>
            <a:r>
              <a:rPr b="1" i="1" lang="en-US" sz="1600" spc="-1" strike="noStrike" u="sng">
                <a:solidFill>
                  <a:srgbClr val="999933"/>
                </a:solidFill>
                <a:uFillTx/>
                <a:latin typeface="Arial"/>
              </a:rPr>
              <a:t>CPU</a:t>
            </a:r>
            <a:r>
              <a:rPr b="1" lang="en-US" sz="1600" spc="-1" strike="noStrike">
                <a:solidFill>
                  <a:srgbClr val="000000"/>
                </a:solidFill>
                <a:latin typeface="Arial"/>
              </a:rPr>
              <a:t> requests</a:t>
            </a:r>
            <a:br>
              <a:rPr sz="1600"/>
            </a:br>
            <a:r>
              <a:rPr b="1" lang="en-US" sz="1600" spc="-1" strike="noStrike">
                <a:solidFill>
                  <a:srgbClr val="000000"/>
                </a:solidFill>
                <a:latin typeface="Arial"/>
              </a:rPr>
              <a:t>for each </a:t>
            </a:r>
            <a:br>
              <a:rPr sz="1600"/>
            </a:br>
            <a:r>
              <a:rPr b="1" lang="en-US" sz="1600" spc="-1" strike="noStrike" u="sng">
                <a:solidFill>
                  <a:srgbClr val="999933"/>
                </a:solidFill>
                <a:uFillTx/>
                <a:latin typeface="Arial"/>
              </a:rPr>
              <a:t>cache block</a:t>
            </a:r>
            <a:endParaRPr b="0" lang="en-US" sz="1600" spc="-1" strike="noStrike">
              <a:solidFill>
                <a:srgbClr val="333300"/>
              </a:solidFill>
              <a:latin typeface="Times New Roman"/>
            </a:endParaRPr>
          </a:p>
        </p:txBody>
      </p:sp>
      <p:sp>
        <p:nvSpPr>
          <p:cNvPr id="460" name=""/>
          <p:cNvSpPr/>
          <p:nvPr/>
        </p:nvSpPr>
        <p:spPr>
          <a:xfrm>
            <a:off x="3800520" y="1863720"/>
            <a:ext cx="76968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00"/>
                </a:solidFill>
                <a:latin typeface="Arial"/>
              </a:rPr>
              <a:t>Invalid</a:t>
            </a:r>
            <a:endParaRPr b="0" lang="en-US" sz="1600" spc="-1" strike="noStrike">
              <a:solidFill>
                <a:srgbClr val="333300"/>
              </a:solidFill>
              <a:latin typeface="Times New Roman"/>
            </a:endParaRPr>
          </a:p>
        </p:txBody>
      </p:sp>
      <p:sp>
        <p:nvSpPr>
          <p:cNvPr id="461" name=""/>
          <p:cNvSpPr/>
          <p:nvPr/>
        </p:nvSpPr>
        <p:spPr>
          <a:xfrm>
            <a:off x="7310520" y="1692360"/>
            <a:ext cx="1396800" cy="5756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00"/>
                </a:solidFill>
                <a:latin typeface="Arial"/>
              </a:rPr>
              <a:t>Shared</a:t>
            </a:r>
            <a:endParaRPr b="0" lang="en-US" sz="16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00"/>
                </a:solidFill>
                <a:latin typeface="Arial"/>
              </a:rPr>
              <a:t>(read/only)</a:t>
            </a:r>
            <a:endParaRPr b="0" lang="en-US" sz="1600" spc="-1" strike="noStrike">
              <a:solidFill>
                <a:srgbClr val="333300"/>
              </a:solidFill>
              <a:latin typeface="Times New Roman"/>
            </a:endParaRPr>
          </a:p>
        </p:txBody>
      </p:sp>
      <p:sp>
        <p:nvSpPr>
          <p:cNvPr id="462" name=""/>
          <p:cNvSpPr/>
          <p:nvPr/>
        </p:nvSpPr>
        <p:spPr>
          <a:xfrm>
            <a:off x="3613320" y="5064120"/>
            <a:ext cx="1379520" cy="5756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00"/>
                </a:solidFill>
                <a:latin typeface="Arial"/>
              </a:rPr>
              <a:t>Exclusive</a:t>
            </a:r>
            <a:endParaRPr b="0" lang="en-US" sz="16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00"/>
                </a:solidFill>
                <a:latin typeface="Arial"/>
              </a:rPr>
              <a:t>(read/write)</a:t>
            </a:r>
            <a:endParaRPr b="0" lang="en-US" sz="1600" spc="-1" strike="noStrike">
              <a:solidFill>
                <a:srgbClr val="333300"/>
              </a:solidFill>
              <a:latin typeface="Times New Roman"/>
            </a:endParaRPr>
          </a:p>
        </p:txBody>
      </p:sp>
      <p:sp>
        <p:nvSpPr>
          <p:cNvPr id="463" name=""/>
          <p:cNvSpPr/>
          <p:nvPr/>
        </p:nvSpPr>
        <p:spPr>
          <a:xfrm>
            <a:off x="5122440" y="1673280"/>
            <a:ext cx="116136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Arial"/>
              </a:rPr>
              <a:t>CPU Read</a:t>
            </a:r>
            <a:endParaRPr b="0" lang="en-US" sz="1600" spc="-1" strike="noStrike">
              <a:solidFill>
                <a:srgbClr val="333300"/>
              </a:solidFill>
              <a:latin typeface="Times New Roman"/>
            </a:endParaRPr>
          </a:p>
        </p:txBody>
      </p:sp>
      <p:sp>
        <p:nvSpPr>
          <p:cNvPr id="464" name=""/>
          <p:cNvSpPr/>
          <p:nvPr/>
        </p:nvSpPr>
        <p:spPr>
          <a:xfrm>
            <a:off x="3678840" y="2930400"/>
            <a:ext cx="117360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9933"/>
                </a:solidFill>
                <a:latin typeface="Arial"/>
              </a:rPr>
              <a:t>CPU Write</a:t>
            </a:r>
            <a:endParaRPr b="0" lang="en-US" sz="1600" spc="-1" strike="noStrike">
              <a:solidFill>
                <a:srgbClr val="333300"/>
              </a:solidFill>
              <a:latin typeface="Times New Roman"/>
            </a:endParaRPr>
          </a:p>
        </p:txBody>
      </p:sp>
      <p:sp>
        <p:nvSpPr>
          <p:cNvPr id="465" name=""/>
          <p:cNvSpPr/>
          <p:nvPr/>
        </p:nvSpPr>
        <p:spPr>
          <a:xfrm>
            <a:off x="7683120" y="911160"/>
            <a:ext cx="146448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Arial"/>
              </a:rPr>
              <a:t>CPU Read hit</a:t>
            </a:r>
            <a:endParaRPr b="0" lang="en-US" sz="1600" spc="-1" strike="noStrike">
              <a:solidFill>
                <a:srgbClr val="333300"/>
              </a:solidFill>
              <a:latin typeface="Times New Roman"/>
            </a:endParaRPr>
          </a:p>
        </p:txBody>
      </p:sp>
      <p:sp>
        <p:nvSpPr>
          <p:cNvPr id="466" name=""/>
          <p:cNvSpPr/>
          <p:nvPr/>
        </p:nvSpPr>
        <p:spPr>
          <a:xfrm>
            <a:off x="5163120" y="2130480"/>
            <a:ext cx="1627560" cy="5756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00"/>
                </a:solidFill>
                <a:latin typeface="Arial"/>
              </a:rPr>
              <a:t>Place read miss</a:t>
            </a:r>
            <a:endParaRPr b="0" lang="en-US" sz="16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00"/>
                </a:solidFill>
                <a:latin typeface="Arial"/>
              </a:rPr>
              <a:t>on bus</a:t>
            </a:r>
            <a:endParaRPr b="0" lang="en-US" sz="1600" spc="-1" strike="noStrike">
              <a:solidFill>
                <a:srgbClr val="333300"/>
              </a:solidFill>
              <a:latin typeface="Times New Roman"/>
            </a:endParaRPr>
          </a:p>
        </p:txBody>
      </p:sp>
      <p:sp>
        <p:nvSpPr>
          <p:cNvPr id="467" name=""/>
          <p:cNvSpPr/>
          <p:nvPr/>
        </p:nvSpPr>
        <p:spPr>
          <a:xfrm>
            <a:off x="2648160" y="3654360"/>
            <a:ext cx="13518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Place Write </a:t>
            </a:r>
            <a:br>
              <a:rPr sz="1600"/>
            </a:br>
            <a:r>
              <a:rPr b="1" lang="en-US" sz="1600" spc="-1" strike="noStrike">
                <a:solidFill>
                  <a:srgbClr val="333300"/>
                </a:solidFill>
                <a:latin typeface="Arial"/>
              </a:rPr>
              <a:t>Miss on bus</a:t>
            </a:r>
            <a:endParaRPr b="0" lang="en-US" sz="1600" spc="-1" strike="noStrike">
              <a:solidFill>
                <a:srgbClr val="333300"/>
              </a:solidFill>
              <a:latin typeface="Times New Roman"/>
            </a:endParaRPr>
          </a:p>
        </p:txBody>
      </p:sp>
      <p:sp>
        <p:nvSpPr>
          <p:cNvPr id="468" name=""/>
          <p:cNvSpPr/>
          <p:nvPr/>
        </p:nvSpPr>
        <p:spPr>
          <a:xfrm>
            <a:off x="4853880" y="3216240"/>
            <a:ext cx="1673280" cy="5756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Arial"/>
              </a:rPr>
              <a:t>CPU read miss</a:t>
            </a:r>
            <a:endParaRPr b="0" lang="en-US" sz="16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00"/>
                </a:solidFill>
                <a:latin typeface="Arial"/>
              </a:rPr>
              <a:t>Write back block</a:t>
            </a:r>
            <a:endParaRPr b="0" lang="en-US" sz="1600" spc="-1" strike="noStrike">
              <a:solidFill>
                <a:srgbClr val="333300"/>
              </a:solidFill>
              <a:latin typeface="Times New Roman"/>
            </a:endParaRPr>
          </a:p>
        </p:txBody>
      </p:sp>
      <p:sp>
        <p:nvSpPr>
          <p:cNvPr id="469" name=""/>
          <p:cNvSpPr/>
          <p:nvPr/>
        </p:nvSpPr>
        <p:spPr>
          <a:xfrm>
            <a:off x="5972400" y="4416480"/>
            <a:ext cx="2525400" cy="5756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9933"/>
                </a:solidFill>
                <a:latin typeface="Arial"/>
              </a:rPr>
              <a:t>CPU Write</a:t>
            </a:r>
            <a:endParaRPr b="0" lang="en-US" sz="16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Place Write Miss on Bus</a:t>
            </a:r>
            <a:endParaRPr b="0" lang="en-US" sz="1600" spc="-1" strike="noStrike">
              <a:solidFill>
                <a:srgbClr val="333300"/>
              </a:solidFill>
              <a:latin typeface="Times New Roman"/>
            </a:endParaRPr>
          </a:p>
        </p:txBody>
      </p:sp>
      <p:sp>
        <p:nvSpPr>
          <p:cNvPr id="470" name=""/>
          <p:cNvSpPr/>
          <p:nvPr/>
        </p:nvSpPr>
        <p:spPr>
          <a:xfrm>
            <a:off x="7536960" y="3330720"/>
            <a:ext cx="1684080" cy="8190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Arial"/>
              </a:rPr>
              <a:t>CPU Read miss</a:t>
            </a:r>
            <a:endParaRPr b="0" lang="en-US" sz="16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00"/>
                </a:solidFill>
                <a:latin typeface="Arial"/>
              </a:rPr>
              <a:t>Place read miss </a:t>
            </a:r>
            <a:endParaRPr b="0" lang="en-US" sz="16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00"/>
                </a:solidFill>
                <a:latin typeface="Arial"/>
              </a:rPr>
              <a:t>on bus</a:t>
            </a:r>
            <a:endParaRPr b="0" lang="en-US" sz="1600" spc="-1" strike="noStrike">
              <a:solidFill>
                <a:srgbClr val="333300"/>
              </a:solidFill>
              <a:latin typeface="Times New Roman"/>
            </a:endParaRPr>
          </a:p>
        </p:txBody>
      </p:sp>
      <p:sp>
        <p:nvSpPr>
          <p:cNvPr id="471" name=""/>
          <p:cNvSpPr/>
          <p:nvPr/>
        </p:nvSpPr>
        <p:spPr>
          <a:xfrm>
            <a:off x="5684760" y="5673600"/>
            <a:ext cx="2478240" cy="8190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9933"/>
                </a:solidFill>
                <a:latin typeface="Arial"/>
              </a:rPr>
              <a:t>CPU Write Miss</a:t>
            </a:r>
            <a:endParaRPr b="0" lang="en-US" sz="16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00"/>
                </a:solidFill>
                <a:latin typeface="Arial"/>
              </a:rPr>
              <a:t>Write back cache block</a:t>
            </a:r>
            <a:endParaRPr b="0" lang="en-US" sz="16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Place write miss on bus</a:t>
            </a:r>
            <a:endParaRPr b="0" lang="en-US" sz="1600" spc="-1" strike="noStrike">
              <a:solidFill>
                <a:srgbClr val="333300"/>
              </a:solidFill>
              <a:latin typeface="Times New Roman"/>
            </a:endParaRPr>
          </a:p>
        </p:txBody>
      </p:sp>
      <p:sp>
        <p:nvSpPr>
          <p:cNvPr id="472" name=""/>
          <p:cNvSpPr/>
          <p:nvPr/>
        </p:nvSpPr>
        <p:spPr>
          <a:xfrm>
            <a:off x="1844280" y="5654520"/>
            <a:ext cx="1441800" cy="5756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Arial"/>
              </a:rPr>
              <a:t>CPU read hit</a:t>
            </a:r>
            <a:endParaRPr b="0" lang="en-US" sz="16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9933"/>
                </a:solidFill>
                <a:latin typeface="Arial"/>
              </a:rPr>
              <a:t>CPU write hit</a:t>
            </a:r>
            <a:endParaRPr b="0" lang="en-US" sz="1600" spc="-1" strike="noStrike">
              <a:solidFill>
                <a:srgbClr val="333300"/>
              </a:solidFill>
              <a:latin typeface="Times New Roman"/>
            </a:endParaRPr>
          </a:p>
        </p:txBody>
      </p:sp>
      <p:sp>
        <p:nvSpPr>
          <p:cNvPr id="473" name=""/>
          <p:cNvSpPr/>
          <p:nvPr/>
        </p:nvSpPr>
        <p:spPr>
          <a:xfrm>
            <a:off x="1219680" y="4495680"/>
            <a:ext cx="139752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ache Block</a:t>
            </a:r>
            <a:endParaRPr b="0" lang="en-US" sz="16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tate</a:t>
            </a:r>
            <a:endParaRPr b="0" lang="en-US" sz="1600" spc="-1" strike="noStrike">
              <a:solidFill>
                <a:srgbClr val="333300"/>
              </a:solidFill>
              <a:latin typeface="Times New Roman"/>
            </a:endParaRPr>
          </a:p>
        </p:txBody>
      </p:sp>
      <p:grpSp>
        <p:nvGrpSpPr>
          <p:cNvPr id="474" name=""/>
          <p:cNvGrpSpPr/>
          <p:nvPr/>
        </p:nvGrpSpPr>
        <p:grpSpPr>
          <a:xfrm>
            <a:off x="3543480" y="1365120"/>
            <a:ext cx="5192280" cy="4832640"/>
            <a:chOff x="3543480" y="1365120"/>
            <a:chExt cx="5192280" cy="4832640"/>
          </a:xfrm>
        </p:grpSpPr>
        <p:sp>
          <p:nvSpPr>
            <p:cNvPr id="475" name=""/>
            <p:cNvSpPr/>
            <p:nvPr/>
          </p:nvSpPr>
          <p:spPr>
            <a:xfrm>
              <a:off x="3543480" y="1365120"/>
              <a:ext cx="1519920" cy="1346400"/>
            </a:xfrm>
            <a:prstGeom prst="ellipse">
              <a:avLst/>
            </a:prstGeom>
            <a:noFill/>
            <a:ln w="255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476" name=""/>
            <p:cNvSpPr/>
            <p:nvPr/>
          </p:nvSpPr>
          <p:spPr>
            <a:xfrm>
              <a:off x="7215840" y="1365120"/>
              <a:ext cx="1519920" cy="1346400"/>
            </a:xfrm>
            <a:prstGeom prst="ellipse">
              <a:avLst/>
            </a:prstGeom>
            <a:noFill/>
            <a:ln w="255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477" name=""/>
            <p:cNvSpPr/>
            <p:nvPr/>
          </p:nvSpPr>
          <p:spPr>
            <a:xfrm>
              <a:off x="3543480" y="4851360"/>
              <a:ext cx="1519920" cy="1346400"/>
            </a:xfrm>
            <a:prstGeom prst="ellipse">
              <a:avLst/>
            </a:prstGeom>
            <a:noFill/>
            <a:ln w="255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478" name=""/>
            <p:cNvSpPr/>
            <p:nvPr/>
          </p:nvSpPr>
          <p:spPr>
            <a:xfrm>
              <a:off x="5090760" y="2114640"/>
              <a:ext cx="2138400" cy="0"/>
            </a:xfrm>
            <a:prstGeom prst="line">
              <a:avLst/>
            </a:prstGeom>
            <a:ln w="2556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79" name=""/>
            <p:cNvSpPr/>
            <p:nvPr/>
          </p:nvSpPr>
          <p:spPr>
            <a:xfrm>
              <a:off x="4272480" y="2717640"/>
              <a:ext cx="0" cy="2089440"/>
            </a:xfrm>
            <a:prstGeom prst="line">
              <a:avLst/>
            </a:prstGeom>
            <a:ln w="2556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80" name=""/>
            <p:cNvSpPr/>
            <p:nvPr/>
          </p:nvSpPr>
          <p:spPr>
            <a:xfrm flipV="1">
              <a:off x="4822560" y="2521080"/>
              <a:ext cx="2551320" cy="2463840"/>
            </a:xfrm>
            <a:prstGeom prst="line">
              <a:avLst/>
            </a:prstGeom>
            <a:ln w="2556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sp>
        <p:nvSpPr>
          <p:cNvPr id="481" name=""/>
          <p:cNvSpPr/>
          <p:nvPr/>
        </p:nvSpPr>
        <p:spPr>
          <a:xfrm flipV="1">
            <a:off x="5049720" y="2711520"/>
            <a:ext cx="2675160" cy="2558880"/>
          </a:xfrm>
          <a:prstGeom prst="line">
            <a:avLst/>
          </a:prstGeom>
          <a:ln w="25560">
            <a:solidFill>
              <a:srgbClr val="33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82" name=""/>
          <p:cNvSpPr/>
          <p:nvPr/>
        </p:nvSpPr>
        <p:spPr>
          <a:xfrm>
            <a:off x="4890960" y="5676840"/>
            <a:ext cx="847800" cy="820800"/>
          </a:xfrm>
          <a:custGeom>
            <a:avLst/>
            <a:gdLst/>
            <a:ahLst/>
            <a:rect l="l" t="t" r="r" b="b"/>
            <a:pathLst>
              <a:path w="493" h="517">
                <a:moveTo>
                  <a:pt x="108" y="12"/>
                </a:moveTo>
                <a:lnTo>
                  <a:pt x="132" y="0"/>
                </a:lnTo>
                <a:lnTo>
                  <a:pt x="156" y="0"/>
                </a:lnTo>
                <a:lnTo>
                  <a:pt x="180" y="0"/>
                </a:lnTo>
                <a:lnTo>
                  <a:pt x="204" y="0"/>
                </a:lnTo>
                <a:lnTo>
                  <a:pt x="228" y="0"/>
                </a:lnTo>
                <a:lnTo>
                  <a:pt x="252" y="0"/>
                </a:lnTo>
                <a:lnTo>
                  <a:pt x="276" y="0"/>
                </a:lnTo>
                <a:lnTo>
                  <a:pt x="300" y="12"/>
                </a:lnTo>
                <a:lnTo>
                  <a:pt x="324" y="12"/>
                </a:lnTo>
                <a:lnTo>
                  <a:pt x="348" y="24"/>
                </a:lnTo>
                <a:lnTo>
                  <a:pt x="372" y="36"/>
                </a:lnTo>
                <a:lnTo>
                  <a:pt x="396" y="48"/>
                </a:lnTo>
                <a:lnTo>
                  <a:pt x="408" y="72"/>
                </a:lnTo>
                <a:lnTo>
                  <a:pt x="420" y="96"/>
                </a:lnTo>
                <a:lnTo>
                  <a:pt x="444" y="108"/>
                </a:lnTo>
                <a:lnTo>
                  <a:pt x="444" y="132"/>
                </a:lnTo>
                <a:lnTo>
                  <a:pt x="444" y="156"/>
                </a:lnTo>
                <a:lnTo>
                  <a:pt x="456" y="180"/>
                </a:lnTo>
                <a:lnTo>
                  <a:pt x="468" y="204"/>
                </a:lnTo>
                <a:lnTo>
                  <a:pt x="468" y="228"/>
                </a:lnTo>
                <a:lnTo>
                  <a:pt x="480" y="252"/>
                </a:lnTo>
                <a:lnTo>
                  <a:pt x="492" y="276"/>
                </a:lnTo>
                <a:lnTo>
                  <a:pt x="492" y="300"/>
                </a:lnTo>
                <a:lnTo>
                  <a:pt x="492" y="324"/>
                </a:lnTo>
                <a:lnTo>
                  <a:pt x="480" y="348"/>
                </a:lnTo>
                <a:lnTo>
                  <a:pt x="456" y="360"/>
                </a:lnTo>
                <a:lnTo>
                  <a:pt x="444" y="384"/>
                </a:lnTo>
                <a:lnTo>
                  <a:pt x="432" y="408"/>
                </a:lnTo>
                <a:lnTo>
                  <a:pt x="420" y="432"/>
                </a:lnTo>
                <a:lnTo>
                  <a:pt x="396" y="444"/>
                </a:lnTo>
                <a:lnTo>
                  <a:pt x="384" y="468"/>
                </a:lnTo>
                <a:lnTo>
                  <a:pt x="360" y="480"/>
                </a:lnTo>
                <a:lnTo>
                  <a:pt x="336" y="492"/>
                </a:lnTo>
                <a:lnTo>
                  <a:pt x="312" y="504"/>
                </a:lnTo>
                <a:lnTo>
                  <a:pt x="288" y="504"/>
                </a:lnTo>
                <a:lnTo>
                  <a:pt x="264" y="516"/>
                </a:lnTo>
                <a:lnTo>
                  <a:pt x="240" y="504"/>
                </a:lnTo>
                <a:lnTo>
                  <a:pt x="216" y="504"/>
                </a:lnTo>
                <a:lnTo>
                  <a:pt x="192" y="492"/>
                </a:lnTo>
                <a:lnTo>
                  <a:pt x="168" y="492"/>
                </a:lnTo>
                <a:lnTo>
                  <a:pt x="132" y="480"/>
                </a:lnTo>
                <a:lnTo>
                  <a:pt x="108" y="468"/>
                </a:lnTo>
                <a:lnTo>
                  <a:pt x="84" y="456"/>
                </a:lnTo>
                <a:lnTo>
                  <a:pt x="72" y="432"/>
                </a:lnTo>
                <a:lnTo>
                  <a:pt x="60" y="408"/>
                </a:lnTo>
                <a:lnTo>
                  <a:pt x="48" y="384"/>
                </a:lnTo>
                <a:lnTo>
                  <a:pt x="48" y="360"/>
                </a:lnTo>
                <a:lnTo>
                  <a:pt x="36" y="336"/>
                </a:lnTo>
                <a:lnTo>
                  <a:pt x="36" y="312"/>
                </a:lnTo>
                <a:lnTo>
                  <a:pt x="12" y="300"/>
                </a:lnTo>
                <a:lnTo>
                  <a:pt x="0" y="276"/>
                </a:lnTo>
                <a:lnTo>
                  <a:pt x="0" y="252"/>
                </a:lnTo>
                <a:lnTo>
                  <a:pt x="0" y="228"/>
                </a:lnTo>
                <a:lnTo>
                  <a:pt x="0" y="216"/>
                </a:lnTo>
              </a:path>
            </a:pathLst>
          </a:custGeom>
          <a:noFill/>
          <a:ln cap="rnd" w="25560">
            <a:solidFill>
              <a:srgbClr val="33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83" name=""/>
          <p:cNvSpPr/>
          <p:nvPr/>
        </p:nvSpPr>
        <p:spPr>
          <a:xfrm>
            <a:off x="8255160" y="2419200"/>
            <a:ext cx="847440" cy="820800"/>
          </a:xfrm>
          <a:custGeom>
            <a:avLst/>
            <a:gdLst/>
            <a:ahLst/>
            <a:rect l="l" t="t" r="r" b="b"/>
            <a:pathLst>
              <a:path w="493" h="517">
                <a:moveTo>
                  <a:pt x="108" y="12"/>
                </a:moveTo>
                <a:lnTo>
                  <a:pt x="132" y="0"/>
                </a:lnTo>
                <a:lnTo>
                  <a:pt x="156" y="0"/>
                </a:lnTo>
                <a:lnTo>
                  <a:pt x="180" y="0"/>
                </a:lnTo>
                <a:lnTo>
                  <a:pt x="204" y="0"/>
                </a:lnTo>
                <a:lnTo>
                  <a:pt x="228" y="0"/>
                </a:lnTo>
                <a:lnTo>
                  <a:pt x="252" y="0"/>
                </a:lnTo>
                <a:lnTo>
                  <a:pt x="276" y="0"/>
                </a:lnTo>
                <a:lnTo>
                  <a:pt x="300" y="12"/>
                </a:lnTo>
                <a:lnTo>
                  <a:pt x="324" y="12"/>
                </a:lnTo>
                <a:lnTo>
                  <a:pt x="348" y="24"/>
                </a:lnTo>
                <a:lnTo>
                  <a:pt x="372" y="36"/>
                </a:lnTo>
                <a:lnTo>
                  <a:pt x="396" y="48"/>
                </a:lnTo>
                <a:lnTo>
                  <a:pt x="408" y="72"/>
                </a:lnTo>
                <a:lnTo>
                  <a:pt x="420" y="96"/>
                </a:lnTo>
                <a:lnTo>
                  <a:pt x="444" y="108"/>
                </a:lnTo>
                <a:lnTo>
                  <a:pt x="444" y="132"/>
                </a:lnTo>
                <a:lnTo>
                  <a:pt x="444" y="156"/>
                </a:lnTo>
                <a:lnTo>
                  <a:pt x="456" y="180"/>
                </a:lnTo>
                <a:lnTo>
                  <a:pt x="468" y="204"/>
                </a:lnTo>
                <a:lnTo>
                  <a:pt x="468" y="228"/>
                </a:lnTo>
                <a:lnTo>
                  <a:pt x="480" y="252"/>
                </a:lnTo>
                <a:lnTo>
                  <a:pt x="492" y="276"/>
                </a:lnTo>
                <a:lnTo>
                  <a:pt x="492" y="300"/>
                </a:lnTo>
                <a:lnTo>
                  <a:pt x="492" y="324"/>
                </a:lnTo>
                <a:lnTo>
                  <a:pt x="480" y="348"/>
                </a:lnTo>
                <a:lnTo>
                  <a:pt x="456" y="360"/>
                </a:lnTo>
                <a:lnTo>
                  <a:pt x="444" y="384"/>
                </a:lnTo>
                <a:lnTo>
                  <a:pt x="432" y="408"/>
                </a:lnTo>
                <a:lnTo>
                  <a:pt x="420" y="432"/>
                </a:lnTo>
                <a:lnTo>
                  <a:pt x="396" y="444"/>
                </a:lnTo>
                <a:lnTo>
                  <a:pt x="384" y="468"/>
                </a:lnTo>
                <a:lnTo>
                  <a:pt x="360" y="480"/>
                </a:lnTo>
                <a:lnTo>
                  <a:pt x="336" y="492"/>
                </a:lnTo>
                <a:lnTo>
                  <a:pt x="312" y="504"/>
                </a:lnTo>
                <a:lnTo>
                  <a:pt x="288" y="504"/>
                </a:lnTo>
                <a:lnTo>
                  <a:pt x="264" y="516"/>
                </a:lnTo>
                <a:lnTo>
                  <a:pt x="240" y="504"/>
                </a:lnTo>
                <a:lnTo>
                  <a:pt x="216" y="504"/>
                </a:lnTo>
                <a:lnTo>
                  <a:pt x="192" y="492"/>
                </a:lnTo>
                <a:lnTo>
                  <a:pt x="168" y="492"/>
                </a:lnTo>
                <a:lnTo>
                  <a:pt x="132" y="480"/>
                </a:lnTo>
                <a:lnTo>
                  <a:pt x="108" y="468"/>
                </a:lnTo>
                <a:lnTo>
                  <a:pt x="84" y="456"/>
                </a:lnTo>
                <a:lnTo>
                  <a:pt x="72" y="432"/>
                </a:lnTo>
                <a:lnTo>
                  <a:pt x="60" y="408"/>
                </a:lnTo>
                <a:lnTo>
                  <a:pt x="48" y="384"/>
                </a:lnTo>
                <a:lnTo>
                  <a:pt x="48" y="360"/>
                </a:lnTo>
                <a:lnTo>
                  <a:pt x="36" y="336"/>
                </a:lnTo>
                <a:lnTo>
                  <a:pt x="36" y="312"/>
                </a:lnTo>
                <a:lnTo>
                  <a:pt x="12" y="300"/>
                </a:lnTo>
                <a:lnTo>
                  <a:pt x="0" y="276"/>
                </a:lnTo>
                <a:lnTo>
                  <a:pt x="0" y="252"/>
                </a:lnTo>
                <a:lnTo>
                  <a:pt x="0" y="228"/>
                </a:lnTo>
                <a:lnTo>
                  <a:pt x="0" y="216"/>
                </a:lnTo>
              </a:path>
            </a:pathLst>
          </a:custGeom>
          <a:noFill/>
          <a:ln cap="rnd" w="25560">
            <a:solidFill>
              <a:srgbClr val="33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84" name=""/>
          <p:cNvSpPr/>
          <p:nvPr/>
        </p:nvSpPr>
        <p:spPr>
          <a:xfrm>
            <a:off x="6872400" y="952560"/>
            <a:ext cx="847440" cy="820800"/>
          </a:xfrm>
          <a:custGeom>
            <a:avLst/>
            <a:gdLst/>
            <a:ahLst/>
            <a:rect l="l" t="t" r="r" b="b"/>
            <a:pathLst>
              <a:path w="493" h="517">
                <a:moveTo>
                  <a:pt x="384" y="504"/>
                </a:moveTo>
                <a:lnTo>
                  <a:pt x="360" y="516"/>
                </a:lnTo>
                <a:lnTo>
                  <a:pt x="336" y="516"/>
                </a:lnTo>
                <a:lnTo>
                  <a:pt x="312" y="516"/>
                </a:lnTo>
                <a:lnTo>
                  <a:pt x="288" y="516"/>
                </a:lnTo>
                <a:lnTo>
                  <a:pt x="264" y="516"/>
                </a:lnTo>
                <a:lnTo>
                  <a:pt x="240" y="516"/>
                </a:lnTo>
                <a:lnTo>
                  <a:pt x="216" y="516"/>
                </a:lnTo>
                <a:lnTo>
                  <a:pt x="192" y="504"/>
                </a:lnTo>
                <a:lnTo>
                  <a:pt x="168" y="504"/>
                </a:lnTo>
                <a:lnTo>
                  <a:pt x="144" y="492"/>
                </a:lnTo>
                <a:lnTo>
                  <a:pt x="120" y="480"/>
                </a:lnTo>
                <a:lnTo>
                  <a:pt x="96" y="468"/>
                </a:lnTo>
                <a:lnTo>
                  <a:pt x="84" y="444"/>
                </a:lnTo>
                <a:lnTo>
                  <a:pt x="72" y="420"/>
                </a:lnTo>
                <a:lnTo>
                  <a:pt x="48" y="408"/>
                </a:lnTo>
                <a:lnTo>
                  <a:pt x="48" y="384"/>
                </a:lnTo>
                <a:lnTo>
                  <a:pt x="48" y="360"/>
                </a:lnTo>
                <a:lnTo>
                  <a:pt x="36" y="336"/>
                </a:lnTo>
                <a:lnTo>
                  <a:pt x="24" y="312"/>
                </a:lnTo>
                <a:lnTo>
                  <a:pt x="24" y="288"/>
                </a:lnTo>
                <a:lnTo>
                  <a:pt x="12" y="264"/>
                </a:lnTo>
                <a:lnTo>
                  <a:pt x="0" y="240"/>
                </a:lnTo>
                <a:lnTo>
                  <a:pt x="0" y="216"/>
                </a:lnTo>
                <a:lnTo>
                  <a:pt x="0" y="192"/>
                </a:lnTo>
                <a:lnTo>
                  <a:pt x="12" y="168"/>
                </a:lnTo>
                <a:lnTo>
                  <a:pt x="36" y="156"/>
                </a:lnTo>
                <a:lnTo>
                  <a:pt x="48" y="132"/>
                </a:lnTo>
                <a:lnTo>
                  <a:pt x="60" y="108"/>
                </a:lnTo>
                <a:lnTo>
                  <a:pt x="72" y="84"/>
                </a:lnTo>
                <a:lnTo>
                  <a:pt x="96" y="72"/>
                </a:lnTo>
                <a:lnTo>
                  <a:pt x="108" y="48"/>
                </a:lnTo>
                <a:lnTo>
                  <a:pt x="132" y="36"/>
                </a:lnTo>
                <a:lnTo>
                  <a:pt x="156" y="24"/>
                </a:lnTo>
                <a:lnTo>
                  <a:pt x="180" y="12"/>
                </a:lnTo>
                <a:lnTo>
                  <a:pt x="204" y="12"/>
                </a:lnTo>
                <a:lnTo>
                  <a:pt x="228" y="0"/>
                </a:lnTo>
                <a:lnTo>
                  <a:pt x="252" y="12"/>
                </a:lnTo>
                <a:lnTo>
                  <a:pt x="276" y="12"/>
                </a:lnTo>
                <a:lnTo>
                  <a:pt x="300" y="24"/>
                </a:lnTo>
                <a:lnTo>
                  <a:pt x="324" y="24"/>
                </a:lnTo>
                <a:lnTo>
                  <a:pt x="360" y="36"/>
                </a:lnTo>
                <a:lnTo>
                  <a:pt x="384" y="48"/>
                </a:lnTo>
                <a:lnTo>
                  <a:pt x="408" y="60"/>
                </a:lnTo>
                <a:lnTo>
                  <a:pt x="420" y="84"/>
                </a:lnTo>
                <a:lnTo>
                  <a:pt x="432" y="108"/>
                </a:lnTo>
                <a:lnTo>
                  <a:pt x="444" y="132"/>
                </a:lnTo>
                <a:lnTo>
                  <a:pt x="444" y="156"/>
                </a:lnTo>
                <a:lnTo>
                  <a:pt x="456" y="180"/>
                </a:lnTo>
                <a:lnTo>
                  <a:pt x="456" y="204"/>
                </a:lnTo>
                <a:lnTo>
                  <a:pt x="480" y="216"/>
                </a:lnTo>
                <a:lnTo>
                  <a:pt x="492" y="240"/>
                </a:lnTo>
                <a:lnTo>
                  <a:pt x="492" y="264"/>
                </a:lnTo>
                <a:lnTo>
                  <a:pt x="492" y="288"/>
                </a:lnTo>
                <a:lnTo>
                  <a:pt x="492" y="300"/>
                </a:lnTo>
              </a:path>
            </a:pathLst>
          </a:custGeom>
          <a:noFill/>
          <a:ln cap="rnd" w="25560">
            <a:solidFill>
              <a:srgbClr val="33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85" name=""/>
          <p:cNvSpPr/>
          <p:nvPr/>
        </p:nvSpPr>
        <p:spPr>
          <a:xfrm>
            <a:off x="2847960" y="4819680"/>
            <a:ext cx="847800" cy="820800"/>
          </a:xfrm>
          <a:custGeom>
            <a:avLst/>
            <a:gdLst/>
            <a:ahLst/>
            <a:rect l="l" t="t" r="r" b="b"/>
            <a:pathLst>
              <a:path w="493" h="517">
                <a:moveTo>
                  <a:pt x="384" y="504"/>
                </a:moveTo>
                <a:lnTo>
                  <a:pt x="360" y="516"/>
                </a:lnTo>
                <a:lnTo>
                  <a:pt x="336" y="516"/>
                </a:lnTo>
                <a:lnTo>
                  <a:pt x="312" y="516"/>
                </a:lnTo>
                <a:lnTo>
                  <a:pt x="288" y="516"/>
                </a:lnTo>
                <a:lnTo>
                  <a:pt x="264" y="516"/>
                </a:lnTo>
                <a:lnTo>
                  <a:pt x="240" y="516"/>
                </a:lnTo>
                <a:lnTo>
                  <a:pt x="216" y="516"/>
                </a:lnTo>
                <a:lnTo>
                  <a:pt x="192" y="504"/>
                </a:lnTo>
                <a:lnTo>
                  <a:pt x="168" y="504"/>
                </a:lnTo>
                <a:lnTo>
                  <a:pt x="144" y="492"/>
                </a:lnTo>
                <a:lnTo>
                  <a:pt x="120" y="480"/>
                </a:lnTo>
                <a:lnTo>
                  <a:pt x="96" y="468"/>
                </a:lnTo>
                <a:lnTo>
                  <a:pt x="84" y="444"/>
                </a:lnTo>
                <a:lnTo>
                  <a:pt x="72" y="420"/>
                </a:lnTo>
                <a:lnTo>
                  <a:pt x="48" y="408"/>
                </a:lnTo>
                <a:lnTo>
                  <a:pt x="48" y="384"/>
                </a:lnTo>
                <a:lnTo>
                  <a:pt x="48" y="360"/>
                </a:lnTo>
                <a:lnTo>
                  <a:pt x="36" y="336"/>
                </a:lnTo>
                <a:lnTo>
                  <a:pt x="24" y="312"/>
                </a:lnTo>
                <a:lnTo>
                  <a:pt x="24" y="288"/>
                </a:lnTo>
                <a:lnTo>
                  <a:pt x="12" y="264"/>
                </a:lnTo>
                <a:lnTo>
                  <a:pt x="0" y="240"/>
                </a:lnTo>
                <a:lnTo>
                  <a:pt x="0" y="216"/>
                </a:lnTo>
                <a:lnTo>
                  <a:pt x="0" y="192"/>
                </a:lnTo>
                <a:lnTo>
                  <a:pt x="12" y="168"/>
                </a:lnTo>
                <a:lnTo>
                  <a:pt x="36" y="156"/>
                </a:lnTo>
                <a:lnTo>
                  <a:pt x="48" y="132"/>
                </a:lnTo>
                <a:lnTo>
                  <a:pt x="60" y="108"/>
                </a:lnTo>
                <a:lnTo>
                  <a:pt x="72" y="84"/>
                </a:lnTo>
                <a:lnTo>
                  <a:pt x="96" y="72"/>
                </a:lnTo>
                <a:lnTo>
                  <a:pt x="108" y="48"/>
                </a:lnTo>
                <a:lnTo>
                  <a:pt x="132" y="36"/>
                </a:lnTo>
                <a:lnTo>
                  <a:pt x="156" y="24"/>
                </a:lnTo>
                <a:lnTo>
                  <a:pt x="180" y="12"/>
                </a:lnTo>
                <a:lnTo>
                  <a:pt x="204" y="12"/>
                </a:lnTo>
                <a:lnTo>
                  <a:pt x="228" y="0"/>
                </a:lnTo>
                <a:lnTo>
                  <a:pt x="252" y="12"/>
                </a:lnTo>
                <a:lnTo>
                  <a:pt x="276" y="12"/>
                </a:lnTo>
                <a:lnTo>
                  <a:pt x="300" y="24"/>
                </a:lnTo>
                <a:lnTo>
                  <a:pt x="324" y="24"/>
                </a:lnTo>
                <a:lnTo>
                  <a:pt x="360" y="36"/>
                </a:lnTo>
                <a:lnTo>
                  <a:pt x="384" y="48"/>
                </a:lnTo>
                <a:lnTo>
                  <a:pt x="408" y="60"/>
                </a:lnTo>
                <a:lnTo>
                  <a:pt x="420" y="84"/>
                </a:lnTo>
                <a:lnTo>
                  <a:pt x="432" y="108"/>
                </a:lnTo>
                <a:lnTo>
                  <a:pt x="444" y="132"/>
                </a:lnTo>
                <a:lnTo>
                  <a:pt x="444" y="156"/>
                </a:lnTo>
                <a:lnTo>
                  <a:pt x="456" y="180"/>
                </a:lnTo>
                <a:lnTo>
                  <a:pt x="456" y="204"/>
                </a:lnTo>
                <a:lnTo>
                  <a:pt x="480" y="216"/>
                </a:lnTo>
                <a:lnTo>
                  <a:pt x="492" y="240"/>
                </a:lnTo>
                <a:lnTo>
                  <a:pt x="492" y="264"/>
                </a:lnTo>
                <a:lnTo>
                  <a:pt x="492" y="288"/>
                </a:lnTo>
                <a:lnTo>
                  <a:pt x="492" y="300"/>
                </a:lnTo>
              </a:path>
            </a:pathLst>
          </a:custGeom>
          <a:noFill/>
          <a:ln cap="rnd" w="25560">
            <a:solidFill>
              <a:srgbClr val="33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 name="PlaceHolder 1"/>
          <p:cNvSpPr>
            <a:spLocks noGrp="1"/>
          </p:cNvSpPr>
          <p:nvPr>
            <p:ph type="ftr" idx="2"/>
          </p:nvPr>
        </p:nvSpPr>
        <p:spPr/>
        <p:txBody>
          <a:bodyPr/>
          <a:p>
            <a:r>
              <a:t>Carlos Augusto P. S. Martins - Edward David Moreno - SCR'2001</a:t>
            </a:r>
          </a:p>
        </p:txBody>
      </p:sp>
      <p:sp>
        <p:nvSpPr>
          <p:cNvPr id="3" name="PlaceHolder 2"/>
          <p:cNvSpPr>
            <a:spLocks noGrp="1"/>
          </p:cNvSpPr>
          <p:nvPr>
            <p:ph type="sldNum" idx="3"/>
          </p:nvPr>
        </p:nvSpPr>
        <p:spPr/>
        <p:txBody>
          <a:bodyPr/>
          <a:p>
            <a:fld id="{C581B2B7-889B-48D8-AC31-632F28AD7917}" type="slidenum">
              <a:t>81</a:t>
            </a:fld>
          </a:p>
        </p:txBody>
      </p:sp>
      <p:sp>
        <p:nvSpPr>
          <p:cNvPr id="4" name="PlaceHolder 3"/>
          <p:cNvSpPr>
            <a:spLocks noGrp="1"/>
          </p:cNvSpPr>
          <p:nvPr>
            <p:ph type="dt" idx="1"/>
          </p:nvPr>
        </p:nvSpPr>
        <p:spPr/>
        <p:txBody>
          <a:bodyPr/>
          <a:p>
            <a:fld id="{9D92CE4E-8792-40D1-838D-62B5014C0401}" type="datetime1">
              <a:rPr lang="en-US"/>
              <a:t>07/30/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1681920" y="228600"/>
            <a:ext cx="7629840" cy="70200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3333cc"/>
                </a:solidFill>
                <a:latin typeface="Times New Roman"/>
              </a:rPr>
              <a:t>Sistemas de Alto Desempenho - 6 -</a:t>
            </a:r>
            <a:endParaRPr b="0" lang="en-US" sz="4000" spc="-1" strike="noStrike">
              <a:solidFill>
                <a:srgbClr val="333300"/>
              </a:solidFill>
              <a:latin typeface="Times New Roman"/>
            </a:endParaRPr>
          </a:p>
        </p:txBody>
      </p:sp>
      <p:sp>
        <p:nvSpPr>
          <p:cNvPr id="487" name=""/>
          <p:cNvSpPr/>
          <p:nvPr/>
        </p:nvSpPr>
        <p:spPr>
          <a:xfrm>
            <a:off x="1752480" y="685800"/>
            <a:ext cx="78678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Update vs Invalidate: Miss Rates</a:t>
            </a:r>
            <a:endParaRPr b="0" lang="en-US" sz="2800" spc="-1" strike="noStrike">
              <a:solidFill>
                <a:srgbClr val="333300"/>
              </a:solidFill>
              <a:latin typeface="Times New Roman"/>
            </a:endParaRPr>
          </a:p>
        </p:txBody>
      </p:sp>
      <p:sp>
        <p:nvSpPr>
          <p:cNvPr id="488" name=""/>
          <p:cNvSpPr/>
          <p:nvPr/>
        </p:nvSpPr>
        <p:spPr>
          <a:xfrm>
            <a:off x="1295280" y="4800600"/>
            <a:ext cx="8350200" cy="1447920"/>
          </a:xfrm>
          <a:prstGeom prst="rect">
            <a:avLst/>
          </a:prstGeom>
          <a:noFill/>
          <a:ln w="0">
            <a:noFill/>
          </a:ln>
        </p:spPr>
        <p:style>
          <a:lnRef idx="0"/>
          <a:fillRef idx="0"/>
          <a:effectRef idx="0"/>
          <a:fontRef idx="minor"/>
        </p:style>
        <p:txBody>
          <a:bodyPr lIns="90000" rIns="90000" tIns="46800" bIns="46800" anchor="t">
            <a:normAutofit fontScale="98000"/>
          </a:bodyPr>
          <a:p>
            <a:pPr lvl="1" marL="727920" indent="-280080">
              <a:lnSpc>
                <a:spcPct val="10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ts of coherence misses: updates help</a:t>
            </a:r>
            <a:endParaRPr b="0" lang="en-US" sz="2000" spc="-1" strike="noStrike">
              <a:solidFill>
                <a:srgbClr val="333300"/>
              </a:solidFill>
              <a:latin typeface="Times New Roman"/>
            </a:endParaRPr>
          </a:p>
          <a:p>
            <a:pPr lvl="1" marL="727920" indent="-280080">
              <a:lnSpc>
                <a:spcPct val="10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ts of capacity misses: updates hurt (keep data in cache uselessly)</a:t>
            </a:r>
            <a:endParaRPr b="0" lang="en-US" sz="2000" spc="-1" strike="noStrike">
              <a:solidFill>
                <a:srgbClr val="333300"/>
              </a:solidFill>
              <a:latin typeface="Times New Roman"/>
            </a:endParaRPr>
          </a:p>
          <a:p>
            <a:pPr lvl="1" marL="727920" indent="-280080">
              <a:lnSpc>
                <a:spcPct val="10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s seem to help, but this ignores upgrade and update traffic</a:t>
            </a:r>
            <a:endParaRPr b="0" lang="en-US" sz="2000" spc="-1" strike="noStrike">
              <a:solidFill>
                <a:srgbClr val="333300"/>
              </a:solidFill>
              <a:latin typeface="Times New Roman"/>
            </a:endParaRPr>
          </a:p>
          <a:p>
            <a:pPr lvl="1" marL="727920" indent="-280080">
              <a:lnSpc>
                <a:spcPct val="10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00"/>
              </a:solidFill>
              <a:latin typeface="Times New Roman"/>
            </a:endParaRPr>
          </a:p>
        </p:txBody>
      </p:sp>
      <p:pic>
        <p:nvPicPr>
          <p:cNvPr id="489" name="0527" descr=""/>
          <p:cNvPicPr/>
          <p:nvPr/>
        </p:nvPicPr>
        <p:blipFill>
          <a:blip r:embed="rId1"/>
          <a:stretch/>
        </p:blipFill>
        <p:spPr>
          <a:xfrm>
            <a:off x="1447920" y="1371600"/>
            <a:ext cx="7734240" cy="3576600"/>
          </a:xfrm>
          <a:prstGeom prst="rect">
            <a:avLst/>
          </a:prstGeom>
          <a:ln w="0">
            <a:noFill/>
          </a:ln>
        </p:spPr>
      </p:pic>
      <p:sp>
        <p:nvSpPr>
          <p:cNvPr id="2" name="PlaceHolder 1"/>
          <p:cNvSpPr>
            <a:spLocks noGrp="1"/>
          </p:cNvSpPr>
          <p:nvPr>
            <p:ph type="ftr" idx="2"/>
          </p:nvPr>
        </p:nvSpPr>
        <p:spPr/>
        <p:txBody>
          <a:bodyPr/>
          <a:p>
            <a:r>
              <a:t>Carlos Augusto P. S. Martins - Edward David Moreno - SCR'2001</a:t>
            </a:r>
          </a:p>
        </p:txBody>
      </p:sp>
      <p:sp>
        <p:nvSpPr>
          <p:cNvPr id="3" name="PlaceHolder 2"/>
          <p:cNvSpPr>
            <a:spLocks noGrp="1"/>
          </p:cNvSpPr>
          <p:nvPr>
            <p:ph type="sldNum" idx="3"/>
          </p:nvPr>
        </p:nvSpPr>
        <p:spPr/>
        <p:txBody>
          <a:bodyPr/>
          <a:p>
            <a:fld id="{70FCA741-0CC6-469B-89D2-2C8162E7CC77}" type="slidenum">
              <a:t>82</a:t>
            </a:fld>
          </a:p>
        </p:txBody>
      </p:sp>
      <p:sp>
        <p:nvSpPr>
          <p:cNvPr id="4" name="PlaceHolder 3"/>
          <p:cNvSpPr>
            <a:spLocks noGrp="1"/>
          </p:cNvSpPr>
          <p:nvPr>
            <p:ph type="dt" idx="1"/>
          </p:nvPr>
        </p:nvSpPr>
        <p:spPr/>
        <p:txBody>
          <a:bodyPr/>
          <a:p>
            <a:fld id="{81A3E919-3CA1-4B5E-8D0D-A5B9367ABB3A}" type="datetime1">
              <a:rPr lang="en-US"/>
              <a:t>07/30/26</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1681920" y="228600"/>
            <a:ext cx="7629840" cy="70200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3333cc"/>
                </a:solidFill>
                <a:latin typeface="Times New Roman"/>
              </a:rPr>
              <a:t>Sistemas de Alto Desempenho - 7 -</a:t>
            </a:r>
            <a:endParaRPr b="0" lang="en-US" sz="4000" spc="-1" strike="noStrike">
              <a:solidFill>
                <a:srgbClr val="333300"/>
              </a:solidFill>
              <a:latin typeface="Times New Roman"/>
            </a:endParaRPr>
          </a:p>
        </p:txBody>
      </p:sp>
      <p:sp>
        <p:nvSpPr>
          <p:cNvPr id="491" name=""/>
          <p:cNvSpPr/>
          <p:nvPr/>
        </p:nvSpPr>
        <p:spPr>
          <a:xfrm>
            <a:off x="990720" y="1295280"/>
            <a:ext cx="8313480" cy="736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Application Speedups</a:t>
            </a:r>
            <a:endParaRPr b="0" lang="en-US" sz="4400" spc="-1" strike="noStrike">
              <a:solidFill>
                <a:srgbClr val="333300"/>
              </a:solidFill>
              <a:latin typeface="Times New Roman"/>
            </a:endParaRPr>
          </a:p>
        </p:txBody>
      </p:sp>
      <p:graphicFrame>
        <p:nvGraphicFramePr>
          <p:cNvPr id="492" name=""/>
          <p:cNvGraphicFramePr/>
          <p:nvPr/>
        </p:nvGraphicFramePr>
        <p:xfrm>
          <a:off x="1073160" y="2362320"/>
          <a:ext cx="4210200" cy="3504960"/>
        </p:xfrm>
        <a:graphic>
          <a:graphicData uri="http://schemas.openxmlformats.org/presentationml/2006/ole">
            <p:oleObj progId="Excel.Sheet.12" r:id="rId1" spid="">
              <p:embed/>
              <p:pic>
                <p:nvPicPr>
                  <p:cNvPr id="493" name="" descr=""/>
                  <p:cNvPicPr/>
                  <p:nvPr/>
                </p:nvPicPr>
                <p:blipFill>
                  <a:blip r:embed="rId2"/>
                  <a:stretch/>
                </p:blipFill>
                <p:spPr>
                  <a:xfrm>
                    <a:off x="1073160" y="2362320"/>
                    <a:ext cx="4210200" cy="3504960"/>
                  </a:xfrm>
                  <a:prstGeom prst="rect">
                    <a:avLst/>
                  </a:prstGeom>
                  <a:ln w="0">
                    <a:noFill/>
                  </a:ln>
                </p:spPr>
              </p:pic>
            </p:oleObj>
          </a:graphicData>
        </a:graphic>
      </p:graphicFrame>
      <p:graphicFrame>
        <p:nvGraphicFramePr>
          <p:cNvPr id="494" name=""/>
          <p:cNvGraphicFramePr/>
          <p:nvPr/>
        </p:nvGraphicFramePr>
        <p:xfrm>
          <a:off x="5365800" y="2362320"/>
          <a:ext cx="4127400" cy="3519360"/>
        </p:xfrm>
        <a:graphic>
          <a:graphicData uri="http://schemas.openxmlformats.org/presentationml/2006/ole">
            <p:oleObj progId="Excel.Sheet.12" r:id="rId3" spid="">
              <p:embed/>
              <p:pic>
                <p:nvPicPr>
                  <p:cNvPr id="495" name="" descr=""/>
                  <p:cNvPicPr/>
                  <p:nvPr/>
                </p:nvPicPr>
                <p:blipFill>
                  <a:blip r:embed="rId4"/>
                  <a:stretch/>
                </p:blipFill>
                <p:spPr>
                  <a:xfrm>
                    <a:off x="5365800" y="2362320"/>
                    <a:ext cx="4127400" cy="3519360"/>
                  </a:xfrm>
                  <a:prstGeom prst="rect">
                    <a:avLst/>
                  </a:prstGeom>
                  <a:ln w="0">
                    <a:noFill/>
                  </a:ln>
                </p:spPr>
              </p:pic>
            </p:oleObj>
          </a:graphicData>
        </a:graphic>
      </p:graphicFrame>
      <p:sp>
        <p:nvSpPr>
          <p:cNvPr id="2" name="PlaceHolder 1"/>
          <p:cNvSpPr>
            <a:spLocks noGrp="1"/>
          </p:cNvSpPr>
          <p:nvPr>
            <p:ph type="ftr" idx="2"/>
          </p:nvPr>
        </p:nvSpPr>
        <p:spPr/>
        <p:txBody>
          <a:bodyPr/>
          <a:p>
            <a:r>
              <a:t>Carlos Augusto P. S. Martins - Edward David Moreno - SCR'2001</a:t>
            </a:r>
          </a:p>
        </p:txBody>
      </p:sp>
      <p:sp>
        <p:nvSpPr>
          <p:cNvPr id="3" name="PlaceHolder 2"/>
          <p:cNvSpPr>
            <a:spLocks noGrp="1"/>
          </p:cNvSpPr>
          <p:nvPr>
            <p:ph type="sldNum" idx="3"/>
          </p:nvPr>
        </p:nvSpPr>
        <p:spPr/>
        <p:txBody>
          <a:bodyPr/>
          <a:p>
            <a:fld id="{0294BD7C-6FFD-4375-90ED-D9D218C0A2BE}" type="slidenum">
              <a:t>83</a:t>
            </a:fld>
          </a:p>
        </p:txBody>
      </p:sp>
      <p:sp>
        <p:nvSpPr>
          <p:cNvPr id="4" name="PlaceHolder 3"/>
          <p:cNvSpPr>
            <a:spLocks noGrp="1"/>
          </p:cNvSpPr>
          <p:nvPr>
            <p:ph type="dt" idx="1"/>
          </p:nvPr>
        </p:nvSpPr>
        <p:spPr/>
        <p:txBody>
          <a:bodyPr/>
          <a:p>
            <a:fld id="{37ECD2BF-8791-42EA-99FC-B60A04E1AF68}" type="datetime1">
              <a:rPr lang="en-US"/>
              <a:t>07/30/26</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1514520" y="380880"/>
            <a:ext cx="7640280" cy="106740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cc"/>
                </a:solidFill>
                <a:latin typeface="Times New Roman"/>
              </a:rPr>
              <a:t>Outro Exemplo: Estimação de Movimento </a:t>
            </a:r>
            <a:endParaRPr b="0" lang="en-US" sz="32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cc"/>
                </a:solidFill>
                <a:latin typeface="Times New Roman"/>
              </a:rPr>
              <a:t>para MPEG </a:t>
            </a:r>
            <a:endParaRPr b="0" lang="en-US" sz="3200" spc="-1" strike="noStrike">
              <a:solidFill>
                <a:srgbClr val="333300"/>
              </a:solidFill>
              <a:latin typeface="Times New Roman"/>
            </a:endParaRPr>
          </a:p>
        </p:txBody>
      </p:sp>
      <p:sp>
        <p:nvSpPr>
          <p:cNvPr id="497" name=""/>
          <p:cNvSpPr/>
          <p:nvPr/>
        </p:nvSpPr>
        <p:spPr>
          <a:xfrm>
            <a:off x="1219320" y="1676520"/>
            <a:ext cx="8381880" cy="1117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3300"/>
                </a:solidFill>
                <a:latin typeface="Times New Roman"/>
              </a:rPr>
              <a:t>MorphoSys: A Reconfigurable Architecture </a:t>
            </a:r>
            <a:br>
              <a:rPr sz="2400"/>
            </a:br>
            <a:r>
              <a:rPr b="1" lang="pt-BR" sz="2400" spc="-1" strike="noStrike">
                <a:solidFill>
                  <a:srgbClr val="ff3300"/>
                </a:solidFill>
                <a:latin typeface="Times New Roman"/>
              </a:rPr>
              <a:t>for Multimedia Applications</a:t>
            </a:r>
            <a:br>
              <a:rPr sz="2400"/>
            </a:br>
            <a:r>
              <a:rPr b="1" lang="pt-BR" sz="2400" spc="-1" strike="noStrike">
                <a:solidFill>
                  <a:srgbClr val="0066ff"/>
                </a:solidFill>
                <a:latin typeface="Times New Roman"/>
              </a:rPr>
              <a:t>http://www.eng.uci.edu/morphosys/docs/sbcci98.html</a:t>
            </a:r>
            <a:endParaRPr b="0" lang="en-US" sz="2400" spc="-1" strike="noStrike">
              <a:solidFill>
                <a:srgbClr val="333300"/>
              </a:solidFill>
              <a:latin typeface="Times New Roman"/>
            </a:endParaRPr>
          </a:p>
        </p:txBody>
      </p:sp>
      <p:pic>
        <p:nvPicPr>
          <p:cNvPr id="498" name="Image5" descr=""/>
          <p:cNvPicPr/>
          <p:nvPr/>
        </p:nvPicPr>
        <p:blipFill>
          <a:blip r:embed="rId1"/>
          <a:stretch/>
        </p:blipFill>
        <p:spPr>
          <a:xfrm>
            <a:off x="2133720" y="3200400"/>
            <a:ext cx="6476760" cy="2705040"/>
          </a:xfrm>
          <a:prstGeom prst="rect">
            <a:avLst/>
          </a:prstGeom>
          <a:ln w="0">
            <a:noFill/>
          </a:ln>
        </p:spPr>
      </p:pic>
      <p:sp>
        <p:nvSpPr>
          <p:cNvPr id="2" name="PlaceHolder 1"/>
          <p:cNvSpPr>
            <a:spLocks noGrp="1"/>
          </p:cNvSpPr>
          <p:nvPr>
            <p:ph type="ftr" idx="2"/>
          </p:nvPr>
        </p:nvSpPr>
        <p:spPr/>
        <p:txBody>
          <a:bodyPr/>
          <a:p>
            <a:r>
              <a:t>Carlos Augusto P. S. Martins - Edward David Moreno - SCR'2001</a:t>
            </a:r>
          </a:p>
        </p:txBody>
      </p:sp>
      <p:sp>
        <p:nvSpPr>
          <p:cNvPr id="3" name="PlaceHolder 2"/>
          <p:cNvSpPr>
            <a:spLocks noGrp="1"/>
          </p:cNvSpPr>
          <p:nvPr>
            <p:ph type="sldNum" idx="3"/>
          </p:nvPr>
        </p:nvSpPr>
        <p:spPr/>
        <p:txBody>
          <a:bodyPr/>
          <a:p>
            <a:fld id="{9F68D3BD-A2EE-4309-AE22-315E577D1BDE}" type="slidenum">
              <a:t>84</a:t>
            </a:fld>
          </a:p>
        </p:txBody>
      </p:sp>
      <p:sp>
        <p:nvSpPr>
          <p:cNvPr id="4" name="PlaceHolder 3"/>
          <p:cNvSpPr>
            <a:spLocks noGrp="1"/>
          </p:cNvSpPr>
          <p:nvPr>
            <p:ph type="dt" idx="1"/>
          </p:nvPr>
        </p:nvSpPr>
        <p:spPr/>
        <p:txBody>
          <a:bodyPr/>
          <a:p>
            <a:fld id="{F397E063-D2E6-4AEE-8A97-14759CD475D8}" type="datetime1">
              <a:rPr lang="en-US"/>
              <a:t>07/30/26</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2253600" y="290160"/>
            <a:ext cx="6226200" cy="106740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cc"/>
                </a:solidFill>
                <a:latin typeface="Times New Roman"/>
              </a:rPr>
              <a:t>Outro Exemplo: DCT para MPEG</a:t>
            </a:r>
            <a:endParaRPr b="0" lang="en-US" sz="32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cc"/>
                </a:solidFill>
                <a:latin typeface="Times New Roman"/>
              </a:rPr>
              <a:t>DCT: Discrete Cosine Transform </a:t>
            </a:r>
            <a:endParaRPr b="0" lang="en-US" sz="3200" spc="-1" strike="noStrike">
              <a:solidFill>
                <a:srgbClr val="333300"/>
              </a:solidFill>
              <a:latin typeface="Times New Roman"/>
            </a:endParaRPr>
          </a:p>
        </p:txBody>
      </p:sp>
      <p:sp>
        <p:nvSpPr>
          <p:cNvPr id="500" name=""/>
          <p:cNvSpPr/>
          <p:nvPr/>
        </p:nvSpPr>
        <p:spPr>
          <a:xfrm>
            <a:off x="1219320" y="1676520"/>
            <a:ext cx="8381880" cy="1117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3300"/>
                </a:solidFill>
                <a:latin typeface="Times New Roman"/>
              </a:rPr>
              <a:t>MorphoSys: A Reconfigurable Architecture </a:t>
            </a:r>
            <a:br>
              <a:rPr sz="2400"/>
            </a:br>
            <a:r>
              <a:rPr b="1" lang="pt-BR" sz="2400" spc="-1" strike="noStrike">
                <a:solidFill>
                  <a:srgbClr val="ff3300"/>
                </a:solidFill>
                <a:latin typeface="Times New Roman"/>
              </a:rPr>
              <a:t>for Multimedia Applications</a:t>
            </a:r>
            <a:br>
              <a:rPr sz="2400"/>
            </a:br>
            <a:r>
              <a:rPr b="1" lang="pt-BR" sz="2400" spc="-1" strike="noStrike">
                <a:solidFill>
                  <a:srgbClr val="0066ff"/>
                </a:solidFill>
                <a:latin typeface="Times New Roman"/>
              </a:rPr>
              <a:t>http://www.eng.uci.edu/morphosys/docs/sbcci98.html</a:t>
            </a:r>
            <a:endParaRPr b="0" lang="en-US" sz="2400" spc="-1" strike="noStrike">
              <a:solidFill>
                <a:srgbClr val="333300"/>
              </a:solidFill>
              <a:latin typeface="Times New Roman"/>
            </a:endParaRPr>
          </a:p>
        </p:txBody>
      </p:sp>
      <p:pic>
        <p:nvPicPr>
          <p:cNvPr id="501" name="Image6" descr=""/>
          <p:cNvPicPr/>
          <p:nvPr/>
        </p:nvPicPr>
        <p:blipFill>
          <a:blip r:embed="rId1"/>
          <a:stretch/>
        </p:blipFill>
        <p:spPr>
          <a:xfrm>
            <a:off x="1752480" y="3124080"/>
            <a:ext cx="6705720" cy="3048120"/>
          </a:xfrm>
          <a:prstGeom prst="rect">
            <a:avLst/>
          </a:prstGeom>
          <a:ln w="0">
            <a:noFill/>
          </a:ln>
        </p:spPr>
      </p:pic>
      <p:sp>
        <p:nvSpPr>
          <p:cNvPr id="2" name="PlaceHolder 1"/>
          <p:cNvSpPr>
            <a:spLocks noGrp="1"/>
          </p:cNvSpPr>
          <p:nvPr>
            <p:ph type="ftr" idx="2"/>
          </p:nvPr>
        </p:nvSpPr>
        <p:spPr/>
        <p:txBody>
          <a:bodyPr/>
          <a:p>
            <a:r>
              <a:t>Carlos Augusto P. S. Martins - Edward David Moreno - SCR'2001</a:t>
            </a:r>
          </a:p>
        </p:txBody>
      </p:sp>
      <p:sp>
        <p:nvSpPr>
          <p:cNvPr id="3" name="PlaceHolder 2"/>
          <p:cNvSpPr>
            <a:spLocks noGrp="1"/>
          </p:cNvSpPr>
          <p:nvPr>
            <p:ph type="sldNum" idx="3"/>
          </p:nvPr>
        </p:nvSpPr>
        <p:spPr/>
        <p:txBody>
          <a:bodyPr/>
          <a:p>
            <a:fld id="{73BEA52E-52E3-47E4-BFCC-048AB9E44895}" type="slidenum">
              <a:t>85</a:t>
            </a:fld>
          </a:p>
        </p:txBody>
      </p:sp>
      <p:sp>
        <p:nvSpPr>
          <p:cNvPr id="4" name="PlaceHolder 3"/>
          <p:cNvSpPr>
            <a:spLocks noGrp="1"/>
          </p:cNvSpPr>
          <p:nvPr>
            <p:ph type="dt" idx="1"/>
          </p:nvPr>
        </p:nvSpPr>
        <p:spPr/>
        <p:txBody>
          <a:bodyPr/>
          <a:p>
            <a:fld id="{6A48AECE-3D9C-42E8-8CC1-C771EB2DF106}" type="datetime1">
              <a:rPr lang="en-US"/>
              <a:t>07/30/26</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1980000" y="290160"/>
            <a:ext cx="6782400" cy="106740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cc"/>
                </a:solidFill>
                <a:latin typeface="Times New Roman"/>
              </a:rPr>
              <a:t>Outro Exemplo:</a:t>
            </a:r>
            <a:endParaRPr b="0" lang="en-US" sz="32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cc"/>
                </a:solidFill>
                <a:latin typeface="Times New Roman"/>
              </a:rPr>
              <a:t> </a:t>
            </a:r>
            <a:r>
              <a:rPr b="1" lang="pt-BR" sz="3200" spc="-1" strike="noStrike">
                <a:solidFill>
                  <a:srgbClr val="3333cc"/>
                </a:solidFill>
                <a:latin typeface="Times New Roman"/>
              </a:rPr>
              <a:t>ATR - Automatic Target Recognition</a:t>
            </a:r>
            <a:endParaRPr b="0" lang="en-US" sz="3200" spc="-1" strike="noStrike">
              <a:solidFill>
                <a:srgbClr val="333300"/>
              </a:solidFill>
              <a:latin typeface="Times New Roman"/>
            </a:endParaRPr>
          </a:p>
        </p:txBody>
      </p:sp>
      <p:sp>
        <p:nvSpPr>
          <p:cNvPr id="503" name=""/>
          <p:cNvSpPr/>
          <p:nvPr/>
        </p:nvSpPr>
        <p:spPr>
          <a:xfrm>
            <a:off x="1219320" y="1676520"/>
            <a:ext cx="8381880" cy="1117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3300"/>
                </a:solidFill>
                <a:latin typeface="Times New Roman"/>
              </a:rPr>
              <a:t>MorphoSys: A Reconfigurable Architecture </a:t>
            </a:r>
            <a:br>
              <a:rPr sz="2400"/>
            </a:br>
            <a:r>
              <a:rPr b="1" lang="pt-BR" sz="2400" spc="-1" strike="noStrike">
                <a:solidFill>
                  <a:srgbClr val="ff3300"/>
                </a:solidFill>
                <a:latin typeface="Times New Roman"/>
              </a:rPr>
              <a:t>for Multimedia Applications</a:t>
            </a:r>
            <a:br>
              <a:rPr sz="2400"/>
            </a:br>
            <a:r>
              <a:rPr b="1" lang="pt-BR" sz="2400" spc="-1" strike="noStrike">
                <a:solidFill>
                  <a:srgbClr val="0066ff"/>
                </a:solidFill>
                <a:latin typeface="Times New Roman"/>
              </a:rPr>
              <a:t>http://www.eng.uci.edu/morphosys/docs/sbcci98.html</a:t>
            </a:r>
            <a:endParaRPr b="0" lang="en-US" sz="2400" spc="-1" strike="noStrike">
              <a:solidFill>
                <a:srgbClr val="333300"/>
              </a:solidFill>
              <a:latin typeface="Times New Roman"/>
            </a:endParaRPr>
          </a:p>
        </p:txBody>
      </p:sp>
      <p:pic>
        <p:nvPicPr>
          <p:cNvPr id="504" name="Image8" descr=""/>
          <p:cNvPicPr/>
          <p:nvPr/>
        </p:nvPicPr>
        <p:blipFill>
          <a:blip r:embed="rId1"/>
          <a:stretch/>
        </p:blipFill>
        <p:spPr>
          <a:xfrm>
            <a:off x="2590920" y="3200400"/>
            <a:ext cx="5867280" cy="2819520"/>
          </a:xfrm>
          <a:prstGeom prst="rect">
            <a:avLst/>
          </a:prstGeom>
          <a:ln w="0">
            <a:noFill/>
          </a:ln>
        </p:spPr>
      </p:pic>
      <p:sp>
        <p:nvSpPr>
          <p:cNvPr id="2" name="PlaceHolder 1"/>
          <p:cNvSpPr>
            <a:spLocks noGrp="1"/>
          </p:cNvSpPr>
          <p:nvPr>
            <p:ph type="ftr" idx="2"/>
          </p:nvPr>
        </p:nvSpPr>
        <p:spPr/>
        <p:txBody>
          <a:bodyPr/>
          <a:p>
            <a:r>
              <a:t>Carlos Augusto P. S. Martins - Edward David Moreno - SCR'2001</a:t>
            </a:r>
          </a:p>
        </p:txBody>
      </p:sp>
      <p:sp>
        <p:nvSpPr>
          <p:cNvPr id="3" name="PlaceHolder 2"/>
          <p:cNvSpPr>
            <a:spLocks noGrp="1"/>
          </p:cNvSpPr>
          <p:nvPr>
            <p:ph type="sldNum" idx="3"/>
          </p:nvPr>
        </p:nvSpPr>
        <p:spPr/>
        <p:txBody>
          <a:bodyPr/>
          <a:p>
            <a:fld id="{DE7D74CB-687A-474E-BDE7-F156809A5DC1}" type="slidenum">
              <a:t>86</a:t>
            </a:fld>
          </a:p>
        </p:txBody>
      </p:sp>
      <p:sp>
        <p:nvSpPr>
          <p:cNvPr id="4" name="PlaceHolder 3"/>
          <p:cNvSpPr>
            <a:spLocks noGrp="1"/>
          </p:cNvSpPr>
          <p:nvPr>
            <p:ph type="dt" idx="1"/>
          </p:nvPr>
        </p:nvSpPr>
        <p:spPr/>
        <p:txBody>
          <a:bodyPr/>
          <a:p>
            <a:fld id="{6400D271-AC80-4A6B-9D8A-8A803142DF90}" type="datetime1">
              <a:rPr lang="en-US"/>
              <a:t>07/30/2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txBox="1"/>
          <p:nvPr/>
        </p:nvSpPr>
        <p:spPr>
          <a:xfrm>
            <a:off x="1828800" y="1219320"/>
            <a:ext cx="7315200" cy="4259160"/>
          </a:xfrm>
          <a:prstGeom prst="rect">
            <a:avLst/>
          </a:prstGeom>
        </p:spPr>
        <p:txBody>
          <a:bodyPr wrap="none" lIns="91800" rIns="91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Aplicações no</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CORE-2000</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2" name="PlaceHolder 1"/>
          <p:cNvSpPr>
            <a:spLocks noGrp="1"/>
          </p:cNvSpPr>
          <p:nvPr>
            <p:ph type="ftr" idx="2"/>
          </p:nvPr>
        </p:nvSpPr>
        <p:spPr/>
        <p:txBody>
          <a:bodyPr/>
          <a:p>
            <a:r>
              <a:t>Carlos Augusto P. S. Martins - Edward David Moreno - SCR'2001</a:t>
            </a:r>
          </a:p>
        </p:txBody>
      </p:sp>
      <p:sp>
        <p:nvSpPr>
          <p:cNvPr id="3" name="PlaceHolder 2"/>
          <p:cNvSpPr>
            <a:spLocks noGrp="1"/>
          </p:cNvSpPr>
          <p:nvPr>
            <p:ph type="sldNum" idx="3"/>
          </p:nvPr>
        </p:nvSpPr>
        <p:spPr/>
        <p:txBody>
          <a:bodyPr/>
          <a:p>
            <a:fld id="{7F9A87D3-2249-4C7B-A7C6-8776EFFEA8E3}" type="slidenum">
              <a:t>87</a:t>
            </a:fld>
          </a:p>
        </p:txBody>
      </p:sp>
      <p:sp>
        <p:nvSpPr>
          <p:cNvPr id="4" name="PlaceHolder 3"/>
          <p:cNvSpPr>
            <a:spLocks noGrp="1"/>
          </p:cNvSpPr>
          <p:nvPr>
            <p:ph type="dt" idx="1"/>
          </p:nvPr>
        </p:nvSpPr>
        <p:spPr/>
        <p:txBody>
          <a:bodyPr/>
          <a:p>
            <a:fld id="{B5A649FC-C0B4-4487-A4B1-7D95B52CB989}" type="datetime1">
              <a:rPr lang="en-US"/>
              <a:t>07/30/26</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371240" y="380880"/>
            <a:ext cx="82342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Aplicações Em Vários Campos</a:t>
            </a:r>
            <a:endParaRPr b="1" lang="en-US" sz="4400" spc="-1" strike="noStrike">
              <a:solidFill>
                <a:srgbClr val="3333cc"/>
              </a:solidFill>
              <a:latin typeface="Times New Roman"/>
            </a:endParaRPr>
          </a:p>
        </p:txBody>
      </p:sp>
      <p:sp>
        <p:nvSpPr>
          <p:cNvPr id="507" name="PlaceHolder 2"/>
          <p:cNvSpPr>
            <a:spLocks noGrp="1"/>
          </p:cNvSpPr>
          <p:nvPr>
            <p:ph/>
          </p:nvPr>
        </p:nvSpPr>
        <p:spPr>
          <a:xfrm>
            <a:off x="1371240" y="1523520"/>
            <a:ext cx="823428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Arquitetura, Algoritmos, Ensino, Re-utilização em Sistemas (+Performance)</a:t>
            </a:r>
            <a:endParaRPr b="1" lang="en-US" sz="32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Sessão 01 (Arquitetura e Desempenho)</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Sessão 02 (Codesign e Ferramentas)</a:t>
            </a:r>
            <a:endParaRPr b="1" lang="en-US" sz="2800" spc="-1" strike="noStrike">
              <a:solidFill>
                <a:srgbClr val="0000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Sessão 03 (Interação com Tecnologias)</a:t>
            </a:r>
            <a:endParaRPr b="1" lang="en-US" sz="2800" spc="-1" strike="noStrike">
              <a:solidFill>
                <a:srgbClr val="0000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9966"/>
                </a:solidFill>
                <a:latin typeface="Arial"/>
              </a:rPr>
              <a:t>Imagens e Redes Neurais</a:t>
            </a:r>
            <a:endParaRPr b="1" lang="en-US" sz="3200" spc="-1" strike="noStrike">
              <a:solidFill>
                <a:srgbClr val="0000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9966"/>
                </a:solidFill>
                <a:latin typeface="Arial"/>
              </a:rPr>
              <a:t>Redes de Computadores e Protocolos</a:t>
            </a:r>
            <a:endParaRPr b="1" lang="en-US" sz="3200" spc="-1" strike="noStrike">
              <a:solidFill>
                <a:srgbClr val="0000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9966"/>
                </a:solidFill>
                <a:latin typeface="Arial"/>
              </a:rPr>
              <a:t>Industriais</a:t>
            </a: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DF3CCA7A-E48F-4DDC-9AF0-00453C0FFB97}" type="slidenum">
              <a:t>88</a:t>
            </a:fld>
          </a:p>
        </p:txBody>
      </p:sp>
      <p:sp>
        <p:nvSpPr>
          <p:cNvPr id="6" name="PlaceHolder 5"/>
          <p:cNvSpPr>
            <a:spLocks noGrp="1"/>
          </p:cNvSpPr>
          <p:nvPr>
            <p:ph type="dt" idx="1"/>
          </p:nvPr>
        </p:nvSpPr>
        <p:spPr/>
        <p:txBody>
          <a:bodyPr/>
          <a:p>
            <a:fld id="{A3DCE9E3-72DE-4CB8-AACA-95E735B50041}" type="datetime1">
              <a:rPr lang="en-US"/>
              <a:t>07/30/26</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txBox="1"/>
          <p:nvPr/>
        </p:nvSpPr>
        <p:spPr>
          <a:xfrm>
            <a:off x="2286000" y="685800"/>
            <a:ext cx="6400800" cy="3387600"/>
          </a:xfrm>
          <a:prstGeom prst="rect">
            <a:avLst/>
          </a:prstGeom>
        </p:spPr>
        <p:txBody>
          <a:bodyPr wrap="none" lIns="91800" rIns="91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Futuro</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509" name=""/>
          <p:cNvSpPr txBox="1"/>
          <p:nvPr/>
        </p:nvSpPr>
        <p:spPr>
          <a:xfrm>
            <a:off x="4952880" y="4038480"/>
            <a:ext cx="4343400" cy="1449360"/>
          </a:xfrm>
          <a:prstGeom prst="rect">
            <a:avLst/>
          </a:prstGeom>
        </p:spPr>
        <p:txBody>
          <a:bodyPr wrap="none" lIns="91800" rIns="91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Idéias</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2" name="PlaceHolder 1"/>
          <p:cNvSpPr>
            <a:spLocks noGrp="1"/>
          </p:cNvSpPr>
          <p:nvPr>
            <p:ph type="ftr" idx="2"/>
          </p:nvPr>
        </p:nvSpPr>
        <p:spPr/>
        <p:txBody>
          <a:bodyPr/>
          <a:p>
            <a:r>
              <a:t>Carlos Augusto P. S. Martins - Edward David Moreno - SCR'2001</a:t>
            </a:r>
          </a:p>
        </p:txBody>
      </p:sp>
      <p:sp>
        <p:nvSpPr>
          <p:cNvPr id="3" name="PlaceHolder 2"/>
          <p:cNvSpPr>
            <a:spLocks noGrp="1"/>
          </p:cNvSpPr>
          <p:nvPr>
            <p:ph type="sldNum" idx="3"/>
          </p:nvPr>
        </p:nvSpPr>
        <p:spPr/>
        <p:txBody>
          <a:bodyPr/>
          <a:p>
            <a:fld id="{8E138907-5BB1-4172-9556-BE21C24D0104}" type="slidenum">
              <a:t>89</a:t>
            </a:fld>
          </a:p>
        </p:txBody>
      </p:sp>
      <p:sp>
        <p:nvSpPr>
          <p:cNvPr id="4" name="PlaceHolder 3"/>
          <p:cNvSpPr>
            <a:spLocks noGrp="1"/>
          </p:cNvSpPr>
          <p:nvPr>
            <p:ph type="dt" idx="1"/>
          </p:nvPr>
        </p:nvSpPr>
        <p:spPr/>
        <p:txBody>
          <a:bodyPr/>
          <a:p>
            <a:fld id="{AADD9A20-2B2A-414F-94B7-8F68D674098D}"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625400" y="228240"/>
            <a:ext cx="8234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33cc"/>
                </a:solidFill>
                <a:latin typeface="Times New Roman"/>
              </a:rPr>
              <a:t>Computação reconfigurável: Conceitos básicos</a:t>
            </a:r>
            <a:endParaRPr b="1" lang="en-US" sz="4400" spc="-1" strike="noStrike">
              <a:solidFill>
                <a:srgbClr val="3333cc"/>
              </a:solidFill>
              <a:latin typeface="Times New Roman"/>
            </a:endParaRPr>
          </a:p>
        </p:txBody>
      </p:sp>
      <p:sp>
        <p:nvSpPr>
          <p:cNvPr id="194" name="PlaceHolder 2"/>
          <p:cNvSpPr>
            <a:spLocks noGrp="1"/>
          </p:cNvSpPr>
          <p:nvPr>
            <p:ph/>
          </p:nvPr>
        </p:nvSpPr>
        <p:spPr>
          <a:xfrm>
            <a:off x="1625400" y="1523520"/>
            <a:ext cx="8234280" cy="4714920"/>
          </a:xfrm>
          <a:prstGeom prst="rect">
            <a:avLst/>
          </a:prstGeom>
          <a:noFill/>
          <a:ln w="0">
            <a:noFill/>
          </a:ln>
        </p:spPr>
        <p:txBody>
          <a:bodyPr lIns="92160" rIns="92160" tIns="46080" bIns="46080" anchor="t">
            <a:normAutofit fontScale="99000"/>
          </a:bodyPr>
          <a:p>
            <a:pPr marL="339480" indent="-3394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Motivações de computação reconfigurável</a:t>
            </a:r>
            <a:endParaRPr b="1" lang="en-US" sz="3200" spc="-1" strike="noStrike">
              <a:solidFill>
                <a:srgbClr val="000000"/>
              </a:solidFill>
              <a:latin typeface="Arial"/>
            </a:endParaRPr>
          </a:p>
          <a:p>
            <a:pPr marL="339480" indent="-339480" algn="ctr">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Hardware x Software</a:t>
            </a:r>
            <a:endParaRPr b="1" lang="en-US" sz="3200" spc="-1" strike="noStrike">
              <a:solidFill>
                <a:srgbClr val="000000"/>
              </a:solidFill>
              <a:latin typeface="Arial"/>
            </a:endParaRPr>
          </a:p>
          <a:p>
            <a:pPr lvl="1" marL="735480" indent="-2829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Desempenho</a:t>
            </a:r>
            <a:endParaRPr b="1" lang="en-US" sz="2800" spc="-1" strike="noStrike">
              <a:solidFill>
                <a:srgbClr val="000000"/>
              </a:solidFill>
              <a:latin typeface="Arial"/>
            </a:endParaRPr>
          </a:p>
          <a:p>
            <a:pPr lvl="1" marL="735480" indent="-2829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Eficiência</a:t>
            </a:r>
            <a:endParaRPr b="1" lang="en-US" sz="2800" spc="-1" strike="noStrike">
              <a:solidFill>
                <a:srgbClr val="000000"/>
              </a:solidFill>
              <a:latin typeface="Arial"/>
            </a:endParaRPr>
          </a:p>
          <a:p>
            <a:pPr lvl="1" marL="735480" indent="-2829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Flexibilidade</a:t>
            </a:r>
            <a:endParaRPr b="1" lang="en-US" sz="2800" spc="-1" strike="noStrike">
              <a:solidFill>
                <a:srgbClr val="000000"/>
              </a:solidFill>
              <a:latin typeface="Arial"/>
            </a:endParaRPr>
          </a:p>
          <a:p>
            <a:pPr lvl="1" marL="735480" indent="-2829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Custo</a:t>
            </a:r>
            <a:endParaRPr b="1" lang="en-US" sz="2800" spc="-1" strike="noStrike">
              <a:solidFill>
                <a:srgbClr val="000000"/>
              </a:solidFill>
              <a:latin typeface="Arial"/>
            </a:endParaRPr>
          </a:p>
          <a:p>
            <a:pPr lvl="1" marL="735480" indent="-2829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Generalidade</a:t>
            </a:r>
            <a:endParaRPr b="1" lang="en-US" sz="2800" spc="-1" strike="noStrike">
              <a:solidFill>
                <a:srgbClr val="000000"/>
              </a:solidFill>
              <a:latin typeface="Arial"/>
            </a:endParaRPr>
          </a:p>
          <a:p>
            <a:pPr lvl="1" marL="735480" indent="-2829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Outras</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5D38FA6C-7CD9-4F95-996E-2BB1A3F13702}" type="slidenum">
              <a:t>9</a:t>
            </a:fld>
          </a:p>
        </p:txBody>
      </p:sp>
      <p:sp>
        <p:nvSpPr>
          <p:cNvPr id="6" name="PlaceHolder 5"/>
          <p:cNvSpPr>
            <a:spLocks noGrp="1"/>
          </p:cNvSpPr>
          <p:nvPr>
            <p:ph type="dt" idx="1"/>
          </p:nvPr>
        </p:nvSpPr>
        <p:spPr/>
        <p:txBody>
          <a:bodyPr/>
          <a:p>
            <a:fld id="{11153FCF-474E-49DE-9E38-19355B8C6C2D}" type="datetime1">
              <a:rPr lang="en-US"/>
              <a:t>07/30/26</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904760" y="228600"/>
            <a:ext cx="72896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3333cc"/>
                </a:solidFill>
                <a:latin typeface="Times New Roman"/>
              </a:rPr>
              <a:t>Algumas Idéias para Projetos (I)</a:t>
            </a:r>
            <a:endParaRPr b="1" lang="en-US" sz="4000" spc="-1" strike="noStrike">
              <a:solidFill>
                <a:srgbClr val="3333cc"/>
              </a:solidFill>
              <a:latin typeface="Times New Roman"/>
            </a:endParaRPr>
          </a:p>
        </p:txBody>
      </p:sp>
      <p:sp>
        <p:nvSpPr>
          <p:cNvPr id="511" name="PlaceHolder 2"/>
          <p:cNvSpPr>
            <a:spLocks noGrp="1"/>
          </p:cNvSpPr>
          <p:nvPr>
            <p:ph/>
          </p:nvPr>
        </p:nvSpPr>
        <p:spPr>
          <a:xfrm>
            <a:off x="1523880" y="837720"/>
            <a:ext cx="7925040" cy="5410440"/>
          </a:xfrm>
          <a:prstGeom prst="rect">
            <a:avLst/>
          </a:prstGeom>
          <a:noFill/>
          <a:ln w="0">
            <a:noFill/>
          </a:ln>
        </p:spPr>
        <p:txBody>
          <a:bodyPr lIns="92160" rIns="92160" tIns="46080" bIns="46080" anchor="t">
            <a:normAutofit fontScale="96000"/>
          </a:bodyPr>
          <a:p>
            <a:pPr marL="329040" indent="-32904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celeradores em Hardware</a:t>
            </a:r>
            <a:endParaRPr b="1" lang="en-US" sz="2400" spc="-1" strike="noStrike">
              <a:solidFill>
                <a:srgbClr val="000000"/>
              </a:solidFill>
              <a:latin typeface="Arial"/>
            </a:endParaRPr>
          </a:p>
          <a:p>
            <a:pPr lvl="1" marL="713160" indent="-27432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lgoritmos de Encriptação</a:t>
            </a:r>
            <a:endParaRPr b="1" lang="en-US" sz="2400" spc="-1" strike="noStrike">
              <a:solidFill>
                <a:srgbClr val="000000"/>
              </a:solidFill>
              <a:latin typeface="Arial"/>
            </a:endParaRPr>
          </a:p>
          <a:p>
            <a:pPr lvl="1" marL="713160" indent="-27432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lgoritmos de Compressão</a:t>
            </a:r>
            <a:endParaRPr b="1" lang="en-US" sz="2400" spc="-1" strike="noStrike">
              <a:solidFill>
                <a:srgbClr val="000000"/>
              </a:solidFill>
              <a:latin typeface="Arial"/>
            </a:endParaRPr>
          </a:p>
          <a:p>
            <a:pPr lvl="1" marL="713160" indent="-27432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Bibliotecas para Cálculos Geométricos</a:t>
            </a:r>
            <a:endParaRPr b="1" lang="en-US" sz="2400" spc="-1" strike="noStrike">
              <a:solidFill>
                <a:srgbClr val="000000"/>
              </a:solidFill>
              <a:latin typeface="Arial"/>
            </a:endParaRPr>
          </a:p>
          <a:p>
            <a:pPr lvl="1" marL="713160" indent="-27432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lgoritmos de Ordenação</a:t>
            </a:r>
            <a:endParaRPr b="1" lang="en-US" sz="2400" spc="-1" strike="noStrike">
              <a:solidFill>
                <a:srgbClr val="000000"/>
              </a:solidFill>
              <a:latin typeface="Arial"/>
            </a:endParaRPr>
          </a:p>
          <a:p>
            <a:pPr lvl="1" marL="713160" indent="-27432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eqüências Genéticas</a:t>
            </a:r>
            <a:endParaRPr b="1" lang="en-US" sz="2400" spc="-1" strike="noStrike">
              <a:solidFill>
                <a:srgbClr val="000000"/>
              </a:solidFill>
              <a:latin typeface="Arial"/>
            </a:endParaRPr>
          </a:p>
          <a:p>
            <a:pPr lvl="1" marL="713160" indent="-27432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AT: Solving Boolean Satisfiability</a:t>
            </a:r>
            <a:endParaRPr b="1" lang="en-US" sz="2400" spc="-1" strike="noStrike">
              <a:solidFill>
                <a:srgbClr val="000000"/>
              </a:solidFill>
              <a:latin typeface="Arial"/>
            </a:endParaRPr>
          </a:p>
          <a:p>
            <a:pPr lvl="1" marL="713160" indent="-27432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lgoritmos Gráficos (max flow, min spanning tree)</a:t>
            </a:r>
            <a:endParaRPr b="1" lang="en-US" sz="2400" spc="-1" strike="noStrike">
              <a:solidFill>
                <a:srgbClr val="000000"/>
              </a:solidFill>
              <a:latin typeface="Arial"/>
            </a:endParaRPr>
          </a:p>
          <a:p>
            <a:pPr lvl="1" marL="713160" indent="-27432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ódigos Gráficos (mapeamento de texturas, ..</a:t>
            </a:r>
            <a:endParaRPr b="1" lang="en-US" sz="2400" spc="-1" strike="noStrike">
              <a:solidFill>
                <a:srgbClr val="000000"/>
              </a:solidFill>
              <a:latin typeface="Arial"/>
            </a:endParaRPr>
          </a:p>
          <a:p>
            <a:pPr lvl="1" marL="713160" indent="-27432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lgoritmos para Processamento de Imagens (detecção de bordas, etc).</a:t>
            </a:r>
            <a:endParaRPr b="1" lang="en-US" sz="2400" spc="-1" strike="noStrike">
              <a:solidFill>
                <a:srgbClr val="000000"/>
              </a:solidFill>
              <a:latin typeface="Arial"/>
            </a:endParaRPr>
          </a:p>
          <a:p>
            <a:pPr lvl="1" marL="713160" indent="-27432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hecar Regras de Projetos VLSI-CAD</a:t>
            </a:r>
            <a:endParaRPr b="1" lang="en-US" sz="2400" spc="-1" strike="noStrike">
              <a:solidFill>
                <a:srgbClr val="000000"/>
              </a:solidFill>
              <a:latin typeface="Arial"/>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BE959E1F-D99A-48DA-B9DA-C5EED7D60504}" type="slidenum">
              <a:t>90</a:t>
            </a:fld>
          </a:p>
        </p:txBody>
      </p:sp>
      <p:sp>
        <p:nvSpPr>
          <p:cNvPr id="6" name="PlaceHolder 5"/>
          <p:cNvSpPr>
            <a:spLocks noGrp="1"/>
          </p:cNvSpPr>
          <p:nvPr>
            <p:ph type="dt" idx="1"/>
          </p:nvPr>
        </p:nvSpPr>
        <p:spPr/>
        <p:txBody>
          <a:bodyPr/>
          <a:p>
            <a:fld id="{BC94BAFA-9FAF-40EB-A563-605A4BBFD261}" type="datetime1">
              <a:rPr lang="en-US"/>
              <a:t>07/30/26</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904760" y="228600"/>
            <a:ext cx="75438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3333cc"/>
                </a:solidFill>
                <a:latin typeface="Times New Roman"/>
              </a:rPr>
              <a:t>Algumas Idéias para Projetos (II)</a:t>
            </a:r>
            <a:endParaRPr b="1" lang="en-US" sz="4000" spc="-1" strike="noStrike">
              <a:solidFill>
                <a:srgbClr val="3333cc"/>
              </a:solidFill>
              <a:latin typeface="Times New Roman"/>
            </a:endParaRPr>
          </a:p>
        </p:txBody>
      </p:sp>
      <p:sp>
        <p:nvSpPr>
          <p:cNvPr id="513" name="PlaceHolder 2"/>
          <p:cNvSpPr>
            <a:spLocks noGrp="1"/>
          </p:cNvSpPr>
          <p:nvPr>
            <p:ph/>
          </p:nvPr>
        </p:nvSpPr>
        <p:spPr>
          <a:xfrm>
            <a:off x="1523880" y="1143000"/>
            <a:ext cx="7925040" cy="4952880"/>
          </a:xfrm>
          <a:prstGeom prst="rect">
            <a:avLst/>
          </a:prstGeom>
          <a:noFill/>
          <a:ln w="0">
            <a:noFill/>
          </a:ln>
        </p:spPr>
        <p:txBody>
          <a:bodyPr lIns="92160" rIns="92160" tIns="46080" bIns="46080" anchor="t">
            <a:normAutofit fontScale="99000"/>
          </a:bodyPr>
          <a:p>
            <a:pPr marL="339480" indent="-3394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oftware</a:t>
            </a:r>
            <a:endParaRPr b="1" lang="en-US" sz="2400" spc="-1" strike="noStrike">
              <a:solidFill>
                <a:srgbClr val="000000"/>
              </a:solidFill>
              <a:latin typeface="Arial"/>
            </a:endParaRPr>
          </a:p>
          <a:p>
            <a:pPr lvl="1" marL="735480" indent="-28296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erramenta para análise de compilação</a:t>
            </a:r>
            <a:endParaRPr b="1" lang="en-US" sz="2400" spc="-1" strike="noStrike">
              <a:solidFill>
                <a:srgbClr val="000000"/>
              </a:solidFill>
              <a:latin typeface="Arial"/>
            </a:endParaRPr>
          </a:p>
          <a:p>
            <a:pPr lvl="1" marL="735480" indent="-28296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erramentas e Modelos para Dissipação de potência</a:t>
            </a:r>
            <a:endParaRPr b="1" lang="en-US" sz="2400" spc="-1" strike="noStrike">
              <a:solidFill>
                <a:srgbClr val="000000"/>
              </a:solidFill>
              <a:latin typeface="Arial"/>
            </a:endParaRPr>
          </a:p>
          <a:p>
            <a:pPr lvl="1" marL="735480" indent="-28296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HDL específicos a certos domínios</a:t>
            </a:r>
            <a:endParaRPr b="1" lang="en-US" sz="2400" spc="-1" strike="noStrike">
              <a:solidFill>
                <a:srgbClr val="000000"/>
              </a:solidFill>
              <a:latin typeface="Arial"/>
            </a:endParaRPr>
          </a:p>
          <a:p>
            <a:pPr lvl="2" marL="1131480" indent="-226080">
              <a:spcBef>
                <a:spcPts val="49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Uma linguagem para especificar hardware de encriptação e um compilador para compilar as máquinas de encriptação descritas para FPGAs</a:t>
            </a:r>
            <a:endParaRPr b="1" lang="en-US" sz="2000" spc="-1" strike="noStrike">
              <a:solidFill>
                <a:srgbClr val="000000"/>
              </a:solidFill>
              <a:latin typeface="Arial"/>
            </a:endParaRPr>
          </a:p>
          <a:p>
            <a:pPr lvl="1" marL="735480" indent="-28296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stimar tamanhos e Performance</a:t>
            </a:r>
            <a:endParaRPr b="1" lang="en-US" sz="2400" spc="-1" strike="noStrike">
              <a:solidFill>
                <a:srgbClr val="000000"/>
              </a:solidFill>
              <a:latin typeface="Arial"/>
            </a:endParaRPr>
          </a:p>
          <a:p>
            <a:pPr lvl="2" marL="1131480" indent="-226080">
              <a:spcBef>
                <a:spcPts val="49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Ler HDL e estimar o número de blocos e chips necessários na implementação.  Idem para desempenho, potência, etc.</a:t>
            </a:r>
            <a:endParaRPr b="1" lang="en-US" sz="2000" spc="-1" strike="noStrike">
              <a:solidFill>
                <a:srgbClr val="000000"/>
              </a:solidFill>
              <a:latin typeface="Arial"/>
            </a:endParaRPr>
          </a:p>
          <a:p>
            <a:pPr lvl="1" marL="735480" indent="-28296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Outros</a:t>
            </a:r>
            <a:endParaRPr b="1" lang="en-US" sz="2400" spc="-1" strike="noStrike">
              <a:solidFill>
                <a:srgbClr val="000000"/>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AFA37953-7EBD-4D36-B16F-4AE787EE7645}" type="slidenum">
              <a:t>91</a:t>
            </a:fld>
          </a:p>
        </p:txBody>
      </p:sp>
      <p:sp>
        <p:nvSpPr>
          <p:cNvPr id="6" name="PlaceHolder 5"/>
          <p:cNvSpPr>
            <a:spLocks noGrp="1"/>
          </p:cNvSpPr>
          <p:nvPr>
            <p:ph type="dt" idx="1"/>
          </p:nvPr>
        </p:nvSpPr>
        <p:spPr/>
        <p:txBody>
          <a:bodyPr/>
          <a:p>
            <a:fld id="{4F91C58B-EB3F-4868-AC30-73FC802251CD}" type="datetime1">
              <a:rPr lang="en-US"/>
              <a:t>07/30/26</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167652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3333cc"/>
                </a:solidFill>
                <a:latin typeface="Times New Roman"/>
              </a:rPr>
              <a:t>Algumas Idéias para Projetos (III)</a:t>
            </a:r>
            <a:endParaRPr b="1" lang="en-US" sz="4000" spc="-1" strike="noStrike">
              <a:solidFill>
                <a:srgbClr val="3333cc"/>
              </a:solidFill>
              <a:latin typeface="Times New Roman"/>
            </a:endParaRPr>
          </a:p>
        </p:txBody>
      </p:sp>
      <p:sp>
        <p:nvSpPr>
          <p:cNvPr id="515" name="PlaceHolder 2"/>
          <p:cNvSpPr>
            <a:spLocks noGrp="1"/>
          </p:cNvSpPr>
          <p:nvPr>
            <p:ph/>
          </p:nvPr>
        </p:nvSpPr>
        <p:spPr>
          <a:xfrm>
            <a:off x="1599840" y="914400"/>
            <a:ext cx="7924680" cy="4952880"/>
          </a:xfrm>
          <a:prstGeom prst="rect">
            <a:avLst/>
          </a:prstGeom>
          <a:noFill/>
          <a:ln w="0">
            <a:noFill/>
          </a:ln>
        </p:spPr>
        <p:txBody>
          <a:bodyPr lIns="92160" rIns="92160" tIns="46080" bIns="46080" anchor="t">
            <a:normAutofit fontScale="93000"/>
          </a:bodyPr>
          <a:p>
            <a:pPr marL="318960" indent="-31896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Outros</a:t>
            </a:r>
            <a:endParaRPr b="1" lang="en-US" sz="2400" spc="-1" strike="noStrike">
              <a:solidFill>
                <a:srgbClr val="000000"/>
              </a:solidFill>
              <a:latin typeface="Arial"/>
            </a:endParaRPr>
          </a:p>
          <a:p>
            <a:pPr lvl="1" marL="690840" indent="-26568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oprocessadores</a:t>
            </a:r>
            <a:endParaRPr b="1" lang="en-US" sz="2400" spc="-1" strike="noStrike">
              <a:solidFill>
                <a:srgbClr val="000000"/>
              </a:solidFill>
              <a:latin typeface="Arial"/>
            </a:endParaRPr>
          </a:p>
          <a:p>
            <a:pPr lvl="1" marL="690840" indent="-26568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rotocolos de Gerenciamento de Memória</a:t>
            </a:r>
            <a:endParaRPr b="1" lang="en-US" sz="2400" spc="-1" strike="noStrike">
              <a:solidFill>
                <a:srgbClr val="000000"/>
              </a:solidFill>
              <a:latin typeface="Arial"/>
            </a:endParaRPr>
          </a:p>
          <a:p>
            <a:pPr lvl="1" marL="690840" indent="-26568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lgoritmos Genéticos</a:t>
            </a:r>
            <a:endParaRPr b="1" lang="en-US" sz="2400" spc="-1" strike="noStrike">
              <a:solidFill>
                <a:srgbClr val="000000"/>
              </a:solidFill>
              <a:latin typeface="Arial"/>
            </a:endParaRPr>
          </a:p>
          <a:p>
            <a:pPr lvl="1" marL="690840" indent="-26568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Máquinas de Estado Finito</a:t>
            </a:r>
            <a:endParaRPr b="1" lang="en-US" sz="2400" spc="-1" strike="noStrike">
              <a:solidFill>
                <a:srgbClr val="000000"/>
              </a:solidFill>
              <a:latin typeface="Arial"/>
            </a:endParaRPr>
          </a:p>
          <a:p>
            <a:pPr lvl="1" marL="690840" indent="-26568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witches</a:t>
            </a:r>
            <a:endParaRPr b="1" lang="en-US" sz="2400" spc="-1" strike="noStrike">
              <a:solidFill>
                <a:srgbClr val="000000"/>
              </a:solidFill>
              <a:latin typeface="Arial"/>
            </a:endParaRPr>
          </a:p>
          <a:p>
            <a:pPr lvl="1" marL="690840" indent="-26568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Roteadores Inteligentes</a:t>
            </a:r>
            <a:endParaRPr b="1" lang="en-US" sz="2400" spc="-1" strike="noStrike">
              <a:solidFill>
                <a:srgbClr val="000000"/>
              </a:solidFill>
              <a:latin typeface="Arial"/>
            </a:endParaRPr>
          </a:p>
          <a:p>
            <a:pPr lvl="1" marL="690840" indent="-26568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DSP - Processamento de Sinais</a:t>
            </a:r>
            <a:endParaRPr b="1" lang="en-US" sz="2400" spc="-1" strike="noStrike">
              <a:solidFill>
                <a:srgbClr val="000000"/>
              </a:solidFill>
              <a:latin typeface="Arial"/>
            </a:endParaRPr>
          </a:p>
          <a:p>
            <a:pPr lvl="1" marL="690840" indent="-26568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ircuitos para Aritmética de Precisão Variável</a:t>
            </a:r>
            <a:endParaRPr b="1" lang="en-US" sz="2400" spc="-1" strike="noStrike">
              <a:solidFill>
                <a:srgbClr val="000000"/>
              </a:solidFill>
              <a:latin typeface="Arial"/>
            </a:endParaRPr>
          </a:p>
          <a:p>
            <a:pPr lvl="1" marL="690840" indent="-26568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plicações de Lógica Intensiva</a:t>
            </a:r>
            <a:endParaRPr b="1" lang="en-US" sz="2400" spc="-1" strike="noStrike">
              <a:solidFill>
                <a:srgbClr val="000000"/>
              </a:solidFill>
              <a:latin typeface="Arial"/>
            </a:endParaRPr>
          </a:p>
          <a:p>
            <a:pPr lvl="1" marL="690840" indent="-26568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lementos de hardware adaptativos (Learning)</a:t>
            </a:r>
            <a:endParaRPr b="1" lang="en-US" sz="2400" spc="-1" strike="noStrike">
              <a:solidFill>
                <a:srgbClr val="000000"/>
              </a:solidFill>
              <a:latin typeface="Arial"/>
            </a:endParaRPr>
          </a:p>
          <a:p>
            <a:pPr lvl="1" marL="690840" indent="-26568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iltros Digitais Adaptativos</a:t>
            </a:r>
            <a:endParaRPr b="1" lang="en-US" sz="2400" spc="-1" strike="noStrike">
              <a:solidFill>
                <a:srgbClr val="000000"/>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arlos Augusto P. S. Martins - Edward David Moreno - SCR'2001</a:t>
            </a:r>
          </a:p>
        </p:txBody>
      </p:sp>
      <p:sp>
        <p:nvSpPr>
          <p:cNvPr id="5" name="PlaceHolder 4"/>
          <p:cNvSpPr>
            <a:spLocks noGrp="1"/>
          </p:cNvSpPr>
          <p:nvPr>
            <p:ph type="sldNum" idx="3"/>
          </p:nvPr>
        </p:nvSpPr>
        <p:spPr/>
        <p:txBody>
          <a:bodyPr/>
          <a:p>
            <a:fld id="{C2114777-9590-4ECB-BEDB-7C7ACEC63743}" type="slidenum">
              <a:t>92</a:t>
            </a:fld>
          </a:p>
        </p:txBody>
      </p:sp>
      <p:sp>
        <p:nvSpPr>
          <p:cNvPr id="6" name="PlaceHolder 5"/>
          <p:cNvSpPr>
            <a:spLocks noGrp="1"/>
          </p:cNvSpPr>
          <p:nvPr>
            <p:ph type="dt" idx="1"/>
          </p:nvPr>
        </p:nvSpPr>
        <p:spPr/>
        <p:txBody>
          <a:bodyPr/>
          <a:p>
            <a:fld id="{E5CDD437-5C0D-4D5D-B29B-8AA8AED6233D}" type="datetime1">
              <a:rPr lang="en-US"/>
              <a:t>07/30/26</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67652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3333cc"/>
                </a:solidFill>
                <a:latin typeface="Times New Roman"/>
              </a:rPr>
              <a:t>Algumas Idéias para Projetos (IV)</a:t>
            </a:r>
            <a:endParaRPr b="1" lang="en-US" sz="4000" spc="-1" strike="noStrike">
              <a:solidFill>
                <a:srgbClr val="3333cc"/>
              </a:solidFill>
              <a:latin typeface="Times New Roman"/>
            </a:endParaRPr>
          </a:p>
        </p:txBody>
      </p:sp>
      <p:sp>
        <p:nvSpPr>
          <p:cNvPr id="517" name=""/>
          <p:cNvSpPr txBox="1"/>
          <p:nvPr/>
        </p:nvSpPr>
        <p:spPr>
          <a:xfrm>
            <a:off x="609480" y="1143000"/>
            <a:ext cx="1600200" cy="5029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CORE</a:t>
            </a:r>
            <a:endParaRPr b="0" lang="en-US" sz="24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518" name=""/>
          <p:cNvSpPr txBox="1"/>
          <p:nvPr/>
        </p:nvSpPr>
        <p:spPr>
          <a:xfrm>
            <a:off x="2666880" y="2209680"/>
            <a:ext cx="3276720" cy="1865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e701"/>
                    </a:gs>
                    <a:gs pos="100000">
                      <a:srgbClr val="fe3e02"/>
                    </a:gs>
                  </a:gsLst>
                  <a:lin ang="5400000"/>
                </a:gradFill>
                <a:latin typeface="Impact"/>
              </a:rPr>
              <a:t>Estamos só no Começo</a:t>
            </a:r>
            <a:endParaRPr b="0" lang="en-US" sz="2400" spc="1" strike="noStrike">
              <a:ln cap="sq"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9" name=""/>
          <p:cNvSpPr txBox="1"/>
          <p:nvPr/>
        </p:nvSpPr>
        <p:spPr>
          <a:xfrm>
            <a:off x="3048120" y="1447920"/>
            <a:ext cx="3238560" cy="571320"/>
          </a:xfrm>
          <a:prstGeom prst="rect">
            <a:avLst/>
          </a:prstGeom>
        </p:spPr>
        <p:txBody>
          <a:bodyPr wrap="none" lIns="91800" rIns="91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um grande futuro</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20" name=""/>
          <p:cNvSpPr txBox="1"/>
          <p:nvPr/>
        </p:nvSpPr>
        <p:spPr>
          <a:xfrm>
            <a:off x="6019920" y="3124080"/>
            <a:ext cx="3009960" cy="3009960"/>
          </a:xfrm>
          <a:prstGeom prst="rect">
            <a:avLst/>
          </a:prstGeom>
        </p:spPr>
        <p:txBody>
          <a:bodyPr wrap="none" lIns="91800" rIns="91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Criatividade</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Vontade</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Inovação</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3" name="PlaceHolder 2"/>
          <p:cNvSpPr>
            <a:spLocks noGrp="1"/>
          </p:cNvSpPr>
          <p:nvPr>
            <p:ph type="ftr" idx="2"/>
          </p:nvPr>
        </p:nvSpPr>
        <p:spPr/>
        <p:txBody>
          <a:bodyPr/>
          <a:p>
            <a:r>
              <a:t>Carlos Augusto P. S. Martins - Edward David Moreno - SCR'2001</a:t>
            </a:r>
          </a:p>
        </p:txBody>
      </p:sp>
      <p:sp>
        <p:nvSpPr>
          <p:cNvPr id="4" name="PlaceHolder 3"/>
          <p:cNvSpPr>
            <a:spLocks noGrp="1"/>
          </p:cNvSpPr>
          <p:nvPr>
            <p:ph type="sldNum" idx="3"/>
          </p:nvPr>
        </p:nvSpPr>
        <p:spPr/>
        <p:txBody>
          <a:bodyPr/>
          <a:p>
            <a:fld id="{7D0AE3CE-A688-4C91-A608-F10A9826CC15}" type="slidenum">
              <a:t>93</a:t>
            </a:fld>
          </a:p>
        </p:txBody>
      </p:sp>
      <p:sp>
        <p:nvSpPr>
          <p:cNvPr id="5" name="PlaceHolder 4"/>
          <p:cNvSpPr>
            <a:spLocks noGrp="1"/>
          </p:cNvSpPr>
          <p:nvPr>
            <p:ph type="dt" idx="1"/>
          </p:nvPr>
        </p:nvSpPr>
        <p:spPr/>
        <p:txBody>
          <a:bodyPr/>
          <a:p>
            <a:fld id="{1C27FCD4-2F3C-4E14-A21C-FF408551B16A}"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16T12:05:00Z</dcterms:created>
  <dc:creator>RIEP</dc:creator>
  <dc:description/>
  <dc:language>en-US</dc:language>
  <cp:lastModifiedBy>LSDC</cp:lastModifiedBy>
  <cp:lastPrinted>2000-08-08T19:49:23Z</cp:lastPrinted>
  <dcterms:modified xsi:type="dcterms:W3CDTF">2001-08-20T20:34:29Z</dcterms:modified>
  <cp:revision>270</cp:revision>
  <dc:subject/>
  <dc:title>CMM  em  Telecomunicações</dc:title>
</cp:coreProperties>
</file>